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AEB3-2713-4812-9841-338C1488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1910-FC0B-4502-9A79-295FE9B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C973-4524-4CF4-A301-A3307FCF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A935-1AF8-4450-9D4D-9C0457AD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CC72-B02B-4485-BCCD-83A61962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A97A-EDEC-4510-8C00-75DDD81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33B9-57F3-402B-BBD5-4E00AB67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0250-CD75-4D39-8333-1435CCB2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BC74-B98C-4542-B5CC-2F7668CC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6D6A-2A3D-4833-8986-888F0EC5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1830-E304-4F7F-B3ED-D2DD172E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E770-B1D1-4CC1-888C-F06799D8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EB2-3FF7-4580-8134-24ED385D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1B41-5ED8-4D49-9B51-1BFF1ED5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02F6-12A3-457F-AE11-F62E745B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E3AE-4E19-4CB0-A60D-7BF2146F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52BA-BD3C-4172-AD99-4B553F34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91A4-4517-4273-B067-3BB5A313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7F89-C0E2-47BF-BA61-14D24A6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35A2-23FF-462A-95DB-7214FC24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0D72-09EC-4DBE-BBD4-EDBC3CE6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6016-F42F-4885-AADE-B719FCE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8029-0149-48A4-91AA-8C8FFD31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E182-E36A-4D66-9800-90E8A7E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326-929F-4BD3-89D2-889F0F111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4F99-C80F-4B86-8415-1BC772BFA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ФУНКЦИИ УПРАВЛЕНИЯ И ИХ ВЗАИМОСВЯЗ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866920" y="4266720"/>
            <a:ext cx="312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енко Е.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урс «Основы менеджмент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гноз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взгляд в будущее, оценка возможных путей развития, последствий тех или иных решений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е - это разработка последовательности действий, позволяющей достигнуть желаемого. В работе менеджера они тесно связ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чему прогнозировать слож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огда прогноз основан на хорошо изученных закономерностях и осуществляется наверня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ко встающие перед менеджером проблемы прогнозирования обычно не позволяют дать однозначный обоснованный прогноз. Почему же остается неопределен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недостаточными знаниями о природе (например, нам неизвестен точный объем полезных ископаемых в конкретном месторождении, а потому мы не можем точно предсказать развитие добывающей промышленности и объем налоговых поступлений от ее предприят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 природных явлений, таких, как погода, влияющая на урожайность, на затраты на отопление, на туризм, на загрузку транспортных путей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осуществлением действующих (неожиданные аварии) и проектируемых (возможные ошибки разработчиков или физическая невозможность осуществления процесса, которую заранее не удалось предсказать) технологически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возможные неопределенности связаны с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ближайшим окружением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менеджер которой занимается прогнозирова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деятельностью участников экономической жизни (прежде всего партнеров и конкурентов нашей фирмы), в частности, с их деловой активностью, финансовым положением, соблюдением обязатель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социальными и административными факторами в конкретных регионах, в которых наша фирма имеет деловые интере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ое значение имеют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определенности на уровн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 час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ь будущей рыночной ситуации в стране, в том числе отсутствие достоверной информации о будущих действиях поставщиков в связи с меняющимися предпочтениями потреби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колебаниями цен (динамикой инфляции), нормы процента, валютных курсов и других макроэкономических показа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порожденные нестабильностью законодательства и текущей экономической политики (т.е. с деятельностью руководства страны, министерств и ведомств), связанные с политической ситуацией, действиями партий, профсоюзов, экологических и других организаций в масштабе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рименении метода сценариев необходимо осуществить два этап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строение исчерпывающего, но обозримого набора сценари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гнозирование в рамках каждого конкретного сценария с целью получения ответов на интересующие менеджер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 сценарного под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просыпаясь утром, ленивый и недобросовестный менеджер может рассмотреть несколько сценариев своего поведения (шутка 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йти на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 без всяких объяс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, сославшись на болез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звонить вышестоящему менеджеру и сообщить о том, что надо отправляться на переговоры, а самому остаться дома,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огнозировать развитие событий в каждом из этих сценариев предоставляем 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Ю.Ор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я планирования хорошо разработана и постоянно используется. Исходя из миссии и основных принципов фирмы, отвечающих на вопрос "Зачем?", формулируют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атегические 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казывающие, что делать в целом. Затем они конкретизируются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е -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кретных зад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Далее подсчитываются необходим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сур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материальные, финансовые, кадровые, временные - и при необходимости пересматриваются задания, задачи и цели. В результате получаю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ально осуществимый п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чень важно, что необходимы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зер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лучай непредвиденных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формулировка целе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го именно вы (или ваша фирма) хотите достичь? Это - самый трудный этап. Его нельзя формализовать. Личность менеджера проявляется именно в том, какие цели он став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2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бор, анализ и оценка способов достижения поставленных целе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можно действовать разными способами. Какой из них представляется наилучшим? Какие можно сразу отбросить как нецелесообраз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еречня необходим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конкретно нужно сделать, чтобы осуществить выбранный на предыдущем этапе вариант достижения поставленных цел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рограммы работ (плана мероприятий)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м порядке лучше всего выполнять намеченные на предыдущем этапе действия, учитывая, что многие из них связаны между собо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5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есурсо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материальные, финансовые, информационные, кадровые ресурсы понадобятся для реализации плана? Сколько времени уйдет на его выполн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6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азработанного варианта пла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ает ли разработанный план поставленные на этапе 1 задачи? Являются ли затраты ресурсов приемлемыми? Есть ли соображения по улучшению плана, возникшие в ходе его разработки при движении от этапа 2 к этапу 5? Возможно, целесообразно вернуться к этапу 2 или 3, или даже к этапу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7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готовка детального плана действ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обходимо детализировать разработанный на предыдущих этапах план, выбрать согласованные между собой сроки выполнения отдельных работ, рассчитать необходимые ресурсы. Кто будет отвечать за отдельные участки раб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8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троль за выполнением плана, внесение необходимых изменений в случае необходим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ь как функцию менеджмента обсудим в одном из дальнейших разделов настоящей гл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ние организационных структур как функция менедж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у функцию менеджмента превосходно выразил великий полководец А.В.Суворов: "Каждый солдат должен знать свой маневр". Не надо удивляться, что мы цитируем генерала. Эффективность управления в армии выявляется самым жестким образом - в борьбе с врагом. Если офицер не сумел организовать своих подчиненных в согласованно действующую боевую единицу - он погибает вместе со своей командой. Для обычного менеджера ситуация лучше - в крайнем случае разорится его фир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каждый сотрудник фирмы должен знать, что ему надо делать в той или иной ситуации. Лишь в очень маленьких организациях менеджер может сам рассказать каждому об его обязаннос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ные функции управ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Управлять - значи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зировать и планировать, организовывать, руководить командой, координировать и контролировать"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ри Фай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Виды оргструк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ст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шта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функц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виз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ап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-це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л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сорсинг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коммуник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оцесс обмена информацией между двумя и более людьми. Благодаря коммуникациям руководители (аппарат управления) получает информацию, необходимую для принятия решений, и доводит принятые решения до работников предприятия. Если коммуникации на предприятии налажены плохо, решения могут быть ошибоч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принятия реш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ыбор альтерна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выполнения функций управления менеджерам приходится принимать большое количество реш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ланировании: постановка целей, определение необходимых ресурсов, выбор способов достижения целей и задач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существлении функции организовывания: структура производства, структура управления, организация производственного процесса, вспомогательных служб и обслуживающего производства, организация труда рабочих и специали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мотивации включает установление и оценку неудовлетворенных потребностей, формирование целей удовлетворения потребностей, определение стимулирующих воздействий (ме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контроля связана с принятием решений о том, что, когда и как контролировать, какие виды и формы контроля использовать, как анализировать полученную информацию, а также решения по осуществлению корректирующ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намизм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зм функций выражается в необходимости их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стройки на все возрастающие изменения во внешней сред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того требуется освоение существующих методов и способов выполнения функций, использование нестандартных решений, творческого подхода к решению проб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но кибернетическому принципу Эшби, который гласит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только разнообразие может уничтожить разнообраз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утверждать, что только применение разнообразных методов функционирования системы может сделать ее поведение предсказуемым, т. е. можно утверждать, что для поддержания интереса, чувства удовлетворенности сотрудников процессом и результатом труда, которые являются основой мотивации, при применении методов воздействия на поведение сотрудников необходимы новизна (для того, на кого направлено воздействие) с элементами приятной неожиданности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ем большим диапазоном инструментов управления владеет менеджер, чем выше его понимание среды, тем эффективность функционирования предприятия выш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ональная структура менеджмен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2309760"/>
          <a:ext cx="748800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09760"/>
                    <a:ext cx="74880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функции 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981080"/>
            <a:ext cx="56880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функция менеджмента предполагает решение о том, какие должны быть ЦЕЛИ организации и ЧТО должны делать члены организации для достижения этих целей. По сути, это ответы на следующи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мы находимся в настоящее 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трезво оценивать сильные  и слабые стороны организации в таких областях как финансы, маркетинг, производство, научные исследования и разработки, трудов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да мы хотим двига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при выборе направлений развития организации должны оценивать возможности и угрозы в окружающей среде (конкуренция, клиенты, законодательство, политика, экономик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мы собираемся это сдел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решить как в целом, так и в частностях, что делать для достижения поставленных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труктуризация внутренних элементов организации с целью выполнения планов и достижения целей.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Создание структуры управления организацией (подбор исполнителей, делегирование заданий, наделение их полномочиями в использовании ресур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Организация совместного выполнения установлен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здание в среде исполнителей внутренних побуждений к действиям, направленным на эффективное достижение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оцесс обеспечения того, что организация действительно достигает своих целей. Существуют три аспекта управленческого контроля. Первое – это установление стандартов – точное определение целей, которые должны быть достигнуты в установленный отрезок времени. Второе – это измерение того, что было действительно достигнуто в установленном отрезке времени и сравнение с ожидаемыми результатами. Третье – это принятие решений для корректировки 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ятие ре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мун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7964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64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1:09:59Z</dcterms:created>
  <dc:creator>Елена</dc:creator>
  <dc:description/>
  <dc:language>en-US</dc:language>
  <cp:lastModifiedBy>Елена</cp:lastModifiedBy>
  <dcterms:modified xsi:type="dcterms:W3CDTF">2008-06-30T12:24:11Z</dcterms:modified>
  <cp:revision>3</cp:revision>
  <dc:subject/>
  <dc:title>ФУНКЦИИ УПРАВЛЕНИЯ И ИХ ВЗАИМОСВЯЗЬ</dc:title>
</cp:coreProperties>
</file>