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2AD-B770-4DC4-8DFE-4F879074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173-1AE1-419B-BBA6-6E900615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B0F2A-7982-406E-AA30-534F6E00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DD378-5EC6-46F1-BDC4-A587ADAC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C26D8-9A41-4632-AFDF-DC7FB53F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D532D-FCA5-405D-882E-060D8438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60320-4773-4840-BFE1-B1F83C67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DA138-B156-445A-8FB2-0A12818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EB955-9D52-4BB0-B7F0-37CCFBA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B4EA6-D638-4F8D-A339-66748AA1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E72BF-B63E-45AE-99F3-F585D89F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8D6-E333-43FA-AF4F-882F3C12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D24-7B97-4CBD-BA7C-08FFC7B4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D539-B806-4F36-9BBE-D3C0FAEA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FF15-0D82-40AA-99B6-FD965800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C917-02EA-421B-BA49-1503B94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6FA4-41D9-4E2B-88DE-255FD7A5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CD00-366E-4741-804A-94BAFFFB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7BBE-8FFA-4ECB-8B98-C7633D17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C6F0-A73D-485E-8101-42D8475A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C26-A336-43C3-BC68-4A9BC855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E9D3-759B-4E08-8A9A-FD18D312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7774-5CBB-4298-B982-0AF641D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1981-014B-48AD-BBAE-89FB1893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E972-1F95-49D3-B9F8-FC66DF9F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4C55-9E23-4556-97EE-BC106E57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A4A5-70C3-484F-B26E-A6AA9214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BF3A7-9BAE-4C7D-95AA-F69488A7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A3AC-5E91-4160-A021-26D6F8BF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DBDF-5702-44CA-8EBB-EF4D18E8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07E6-E24A-4FCE-8BE1-EAF5A8D3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87A-2778-43D4-8A30-8368401F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A7B5-5C70-4891-8902-2DD2014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CABE-AEDB-4D60-B506-1860000F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DF7C-8025-4C5A-9B80-9F56484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6366-12B9-422D-9347-ECEEBCA3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E5AC-C415-4353-AE81-70818E57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BB80-E667-4C0B-A302-31984C59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4B02-3ACA-4D71-828F-70029146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5469-4F38-46AB-8B2E-C7748BBC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8A46B-70C4-44AB-9AAD-F28E7D67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D662-1A33-45BC-A4A2-EA4D0CB9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236-261A-4BDF-8F0C-65F527C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8C951-45E6-4894-87B5-A90FEAF1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4F61-6386-4CE2-B9FC-0351D5D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B57CD-17BF-4BBF-B6A6-26FE879E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FB46-C082-4073-8357-13E99B2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B7291-2145-49DE-B574-00A9C9EB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7259-8DD8-40C9-A2B5-ED3329C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19968-AF6B-4643-AF7B-0BDA076E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ED26-F739-4CD5-A947-7DF553D6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A9908-25A6-4B0B-B797-70C3D516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907B6-0B36-4F9E-959D-AA04985C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1D3-D33B-447A-B00C-DF178A74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8CA2F-FC99-495B-983E-C6FAC6FA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0C733-D9C7-4CA5-8D2B-8D73C144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963C-0F82-494E-91F6-ED128E0D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15B6-667E-4E6B-BA75-C2EE0725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84A0D-27B7-46BF-99E6-F1AFDCAC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6BFA-59C2-4410-B2B6-94F4E9B9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DA34-BCED-4147-BCD3-6927F89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E4039-857B-4667-BFD1-A0E7C4AA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D0B1D-107D-4960-B568-C4D58209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641F-57E1-4A8A-B42A-82F2A08D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0D7-6DA5-4F61-BCE3-4A652356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70D98-A0E5-4663-8985-EAC3288F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3378-F1FA-4A68-A1EB-F43073A6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07156-2779-48C5-A853-8321900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898B-609D-4EA4-B870-ABDC0F16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C0481-ACD6-417B-9665-BD855973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6839E-2C4A-442D-936D-CC9CEF6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BF743-2FA9-4E99-B67B-D00069C7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96DCC-EFF8-4F4E-B1E1-3561EBC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A1F7-B7A4-431F-83C1-D6EFECCD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CBE26-01C8-480F-972D-C81B541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E69-7FAD-432D-A118-49D9CE9A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07E35-EEAE-4FE4-95CF-813A6D28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7EFC9-9DA9-441A-AD0D-62AF661B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87AEA-831E-4AE5-980D-086EAEBC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D2648-E462-4B2E-B1EB-69766DD9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9BE01-6517-4E50-AEED-98C17CEF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03375-5315-488C-A8FC-10EE254F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78AB0-73F8-4AB2-BCF5-FA78AA71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A7805-BBCD-4D2C-B543-CB613541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FF3A-21A7-47FF-B9FB-B184E363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2FAC-1B6E-4F05-AE4F-6184A4C5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F0C-8440-4347-B7E9-B743392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EA59F-A859-43B1-BDB5-567F1E08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A1F32-1FF4-4DB3-A1D7-CF63704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A79A5-F72B-4D37-92BB-B79AD52C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CD579-D49F-40F5-A5C7-23FB78A2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AB7A-F10C-4708-8284-36C48B4B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F7552-CE47-43A8-9646-AA7DEEE1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C4034-ACAD-4C44-8CAA-EA11C2F4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2788A-92BC-4694-A6FE-296CCFC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650D5-FE9F-4D6C-A4F2-3ECAD75A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9EF17-3922-46D1-9CFD-571FA1FD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2EB-DFD9-4AC5-B0CF-8F3969F3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C7A1B-FC96-408D-894D-65036352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98715-0DA8-4145-8690-F6DBFA3C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73905-00F7-430A-B824-1AEC04FD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9571B-444A-454A-A163-E63E5AD0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C91BE-C621-4810-8D99-15662162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748D6-06F0-4321-98B4-8E92B0D7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72D89-865B-4D00-8C13-34B81EDD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D19AD-3772-4AC5-A833-CFBB991D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D00BD-38D1-49D9-A840-060A5FE5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8F0A4-26A2-4B87-B139-1A99E885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02B4-94E3-44B2-9177-61884FB0B0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EDB2-9145-47EB-AD80-214E0DEFE4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A0B5-BE20-473F-87F6-DA9CCBBA9E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778D-3ADC-4420-B51E-B6D62D16E10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B15B-7F08-4010-AFE3-57F579F1B0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2EBE-BF43-4445-9725-5CCCDFE838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BA09-6369-4355-81D9-4CC05B7DA6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D6BB-FD97-446D-9550-213FA53DA1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35C-3536-4CFF-8DE8-A398930CA8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450720"/>
            <a:ext cx="8435880" cy="2328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586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6.1 Сущность, функции и особенности кредита. Виды кредитов. Денежно-кредитная политика государства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Автор: Клюев С.В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Ярославль 2011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одится ЦБ РФ от лица государст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енежно-кредитная политика -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вокупность мер эконом. регулирования, денежного обращения и кредита путем воздействия на инвестиционную активность, на уровень и динамику инфляции и другие процессы макроэкономи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19664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центные ставки по операциям ЦБ (Банк России может устанавливать одну или несколько ставок по операциям, может проводить политику без фиксации ставок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ормативы обязательных резервов, депонируемых в Банке Росс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размер обязательных резервов устанавливается советом директоров. Нормативы  ≤ 20% и не могут быть одновременно изменены более, чем на 5 пункт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перации на открытом рынке (купля-продажа Банком России за свой счет ц/б у КБ следовательно увеличение или уменьшение свободных денежных средств у КБ. Лимит операций утверждается советом директор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ефинансирование банков (кредитование ЦБ коммерческих банков, в том числе учет/переучет векселей. Нижняя граница кредитов -12%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5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алютное регулирование (валютное регулирование - купля-продажа Банком России иностранной валюты с целью воздействия на курс рубля, т.е. валютной интервенцие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6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становление ориентиров роста Д. масс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7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ямые количественные ограничен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ограничение объемов предоставляемых кредитов и т.д.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8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ыпуск облигаций от своего имен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2" descr=""/>
          <p:cNvPicPr/>
          <p:nvPr/>
        </p:nvPicPr>
        <p:blipFill>
          <a:blip r:embed="rId1"/>
          <a:stretch/>
        </p:blipFill>
        <p:spPr>
          <a:xfrm>
            <a:off x="182520" y="2852640"/>
            <a:ext cx="8875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539640" y="162864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коном. отношения между кредиторами и заемщиками, которые заключаются в передаче ссуженной стоимости для использования на условиях возвратности, срочности, платности и в интересах общественных потребнос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едит возникает из-за несоответствия потребностей в деньгах и их налич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92160" y="457200"/>
            <a:ext cx="8899560" cy="1170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1. Кредиторы и заемщики должны быть самостоятельными субъектами, которые гарантируют выполнение обязательств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2. Интересы кредиторов и заемщиков должны удовлетворятьс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ераспределительная (перераспределяется стоимость общественного продукта. Перераспределение временное, и оно охватывает только временно свободные денежные средств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мена действительных денег кредитными деньгами (в оборот входит ссуженная стоимость и выполняет работу, свойственную обычным деньгам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формы ссуженной ст-ти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товар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денеж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смеша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того, кто участник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банковский креди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ммерческий (Предприятие №1 → Предприятие №2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осударствен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международ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ражданский (частны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цели кредитования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оизводстве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отребительск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ругие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ям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свенная (с промежуточными звеньями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явная/скры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новая/стар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развитая/неразви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отрасл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торгов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омышлен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/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сроч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кратк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редне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долг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 возвр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 сроч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 пл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 обеспечен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) целевой характе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авка рефинансирования Ц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яя ставка по межбанковским кредит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прос на креди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епень рис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ровень инфляц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руг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46160" y="-219240"/>
            <a:ext cx="8845560" cy="1846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еспеченная непрерывность производ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пользование на расширение производства (Необоснованные кредиты - негативное влияние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лияние кредита на денежную сферу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тупление и изъятие денег - через банки на кредитной основе (денежная масса увеличивается или уменьшается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2:07:17Z</dcterms:modified>
  <cp:revision>24</cp:revision>
  <dc:subject/>
  <dc:title>Бюджетная система Российской Федерации </dc:title>
</cp:coreProperties>
</file>