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C14-D453-4B39-826C-83CACA55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979-2FCB-4FC1-9FA3-5AFF7D3F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B49-8FCF-42EB-9500-4BBAA432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50F-A2FB-4D9A-9746-46BCD025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DEB1-5201-469D-B7FF-83E3B36E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6F37-266F-4F1E-96F4-5633450F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D6CA-5AC3-47CE-B376-344F84C4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30D7-3896-4789-A644-14B3781E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B116-0D2D-40FA-A522-A3130DCD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7B43-85BB-4AD8-88D1-E627E964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5F46-D6C9-45CC-82B3-828DBAC3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D8A-1366-4796-BE71-EC694F6D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2E78-FD6B-4FBF-850E-D592A43E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D430-00BE-4F76-991E-78EF91E9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8B59-86D6-43E8-99B9-67BB17AF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C008-12AB-447A-BCB9-4099A099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C409-A216-4155-A41E-AF87518B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AEA82-874C-4C5F-845F-6DBEE7C3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FE30-D5FB-45DD-996B-6F9D4A87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FEAD-5C51-4585-84D4-6A01AC7A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17C2C-F85E-492D-9E41-8B5C3996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1D0C-1CE7-4E7A-82ED-8E76A55C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675-FCEF-46C6-9759-515185EC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8802-A1A9-440B-BE00-61C5538A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B680-C778-4C5A-A2E0-0810278A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0627-4C12-4AE2-A0B1-E6AE4561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8E050-EEC4-4F01-A1A6-9AEDD6B7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64C5C-181E-41D1-901D-89D32B19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73B43-26B7-4ED7-8B87-B5B39F6A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E8A01-DCB9-49E8-AA83-03BB4A4B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BF08-A8EF-45BA-9CEE-AA39F6E1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0FDC9-C475-40FC-B583-E486A626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5D3A-2292-4EC5-972E-8700D3C6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D60-FE62-434F-841B-84D76EBB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2613E-A2AF-4F6E-BA55-4785312E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B222F-A5F6-408D-BCCE-4F0B8094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9F8F1-6C4A-43DB-A42D-36F5995D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D41F5-9820-43D1-A2B4-196A5D92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E3D96-C573-4105-A6E3-4AE7C64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81D0-6946-4E92-9F5D-E85A994A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604F2-C149-4646-B996-85CB8D4C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089C6-AEFD-4C89-B445-62651C9B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7364C-950C-4567-81F2-596F0B5B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CCCD5-2B3B-413F-8CA5-38F84D0B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695-4FEE-47B7-89FB-6002EA36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6EFED-5A1E-4EA4-949A-F529BF56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BAEB4-ECB4-44FB-95D5-F91CDA64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3CAEE-5F5A-43F2-ABDE-E2F5BC3C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3E7AD-550C-4020-971B-FCB8B293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BA41E-DDE2-4161-8CAE-0998A38A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83DB4-0656-4147-B341-76FBD07F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86A5A-3B26-4D1A-BA69-47EBECDF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1353-7612-44ED-B294-194C7B99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6FC6-1417-465E-9233-E8FFDAC5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3981C-E5E1-4E49-8AEA-F71A3566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C57-4749-4A69-BE69-DB8FF719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CB5B8-BABB-4FFF-9C37-7176A836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705-4F6C-457E-8D08-80543882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3F6-9078-479E-8ECE-74E6225D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CFE-8837-4D4D-BA2C-EBD818EE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72A0-AD3A-4360-ABA9-8D7F41B313DE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076F-41D9-4706-BE39-C3276E3AAF4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149E-4617-4110-8180-9E8839892686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f2d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2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f2d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3f2d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69D0-C687-4C70-AFDD-D1F8CC2367D9}" type="slidenum">
              <a:rPr b="0" lang="ru-RU" sz="1100" spc="-1" strike="noStrike">
                <a:solidFill>
                  <a:srgbClr val="f3f2d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1A82-C7D7-44E9-8DB8-17B888A92E36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38164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059280" y="3540240"/>
            <a:ext cx="5689440" cy="147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rebuchet MS"/>
              </a:rPr>
              <a:t>5.1 Сущность страхования. Признаки и функции. Тарифная ставка, отрасли страхования </a:t>
            </a:r>
            <a:endParaRPr b="0" lang="en-US" sz="21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Автор: Клюев С.В.</a:t>
            </a: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Ярославль 2011</a:t>
            </a: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Страховая тарифная ставка (Брутто-ставка):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1) Нетто-ставка (идет на все выплаты страховых сумм и возмещений. Для этой цели формируются страховые резервные фонды)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2) Нагрузка (на ведение дела и формирование прибыли страховой компании)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Брутто-ставка = (Нетто – ставка) / (1- d),  где d - удельный вес нагрузки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95280" y="404280"/>
            <a:ext cx="7300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ая ответственность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- обязанность страховщика выплатить страховое возмещение или страховую сумму в оговариваемых случаях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ой риск -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1) вероятность нанесения ущерба от страхового случая (вычисляется математически и является основой расчета основных тарифных ставок)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2) конкретный объект страхования по страховой сумме и степени вероятности ущерба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острахование 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-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разделение крупного риска на несколько страховщиков по договору с целью выравнивания страх. рисков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Перестрахование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- передача части ответственности по взятым рискам другим страховщикам (страхование самого страховщика)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95120" y="0"/>
            <a:ext cx="7504200" cy="150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Централизованное и децентрализован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Индивидуальное и коллектив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Обязательное и доброволь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Разовое и накопитель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По отраслям: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1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Лич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пассажиров от несчастных случае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военнослужащих за счет ср-в Минобороны и спец. ведомст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работников, связанных с выполнением особо опасных работ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2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Имуществен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ы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материальные ценности (здания, сооружения, машины, сырье, материалы, готовая продукция, урожай, животные)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ые случаи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ихийные бедствия, воздействия технолог. факторов, пожары, взрывы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25360" y="237960"/>
            <a:ext cx="7473960" cy="15051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3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Социаль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защита конституционных прав граждан в случае временной потери или утраты трудоспособности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4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Профессиональной ответственности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тветственность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обязанность лица, виновного в причинении ущерба, возместить его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ы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адвокаты, врачи, чья деятельность или бездеятельность может принести вред другим гражданам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5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Рисков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 - риск недополучения прибыли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недополучения прибыли в рез-те нарушения технических процессо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морское страхование грузо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банковских кредитов от рисков неплатежа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биржевых операций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5151600" y="1023840"/>
            <a:ext cx="3895560" cy="25113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"/>
          <p:cNvPicPr/>
          <p:nvPr/>
        </p:nvPicPr>
        <p:blipFill>
          <a:blip r:embed="rId2"/>
          <a:stretch/>
        </p:blipFill>
        <p:spPr>
          <a:xfrm>
            <a:off x="549360" y="933480"/>
            <a:ext cx="44370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совокупность особых перераспределительных отношений между его участниками в связи с формирование целевого страхового фонда за счет денежных взносов участников и в связи с использованием его для возмещения ущерба субъектам хозяйствования или физического лица при происшедшем событии, который является страховым случаем.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1. Перераспределение стоимости общественного продукта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2. Перераспределительные отношения, обусловленные вероятностью наступления страхового случая 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3. Предусматривается распределение ущерба во времени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4. Замкнутость раскладки ущерба (покрытие ущерба на одной территории) 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226" name="Штриховая стрелка вправо 3">
            <a:hlinkClick r:id="" action="ppaction://hlinkshowjump?jump=nextslide"/>
          </p:cNvPr>
          <p:cNvSpPr/>
          <p:nvPr/>
        </p:nvSpPr>
        <p:spPr>
          <a:xfrm>
            <a:off x="4427640" y="3500280"/>
            <a:ext cx="2952720" cy="720720"/>
          </a:xfrm>
          <a:prstGeom prst="pie">
            <a:avLst/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имеры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7" name="Стрелка вправо 5">
            <a:hlinkClick r:id="rId2" action="ppaction://hlinksldjump"/>
          </p:cNvPr>
          <p:cNvSpPr/>
          <p:nvPr/>
        </p:nvSpPr>
        <p:spPr>
          <a:xfrm>
            <a:off x="4211640" y="5602320"/>
            <a:ext cx="2592360" cy="836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лее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82520" y="365040"/>
            <a:ext cx="7450200" cy="1944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7286760" cy="30243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3"/>
          <p:cNvSpPr/>
          <p:nvPr/>
        </p:nvSpPr>
        <p:spPr>
          <a:xfrm>
            <a:off x="1056960" y="573264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Calibri"/>
              </a:rPr>
              <a:t>m - частота наступления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1" name="Стрелка влево 4">
            <a:hlinkClick r:id="" action="ppaction://hlinkshowjump?jump=previousslide"/>
          </p:cNvPr>
          <p:cNvSpPr/>
          <p:nvPr/>
        </p:nvSpPr>
        <p:spPr>
          <a:xfrm>
            <a:off x="4427640" y="5516640"/>
            <a:ext cx="3168720" cy="1225440"/>
          </a:xfrm>
          <a:prstGeom prst="leftArrow">
            <a:avLst>
              <a:gd name="adj1" fmla="val 50000"/>
              <a:gd name="adj2" fmla="val 49956"/>
            </a:avLst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ернуться к признакам страхования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1. Распределительн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рисков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сберегательн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предупредительная (связана с использованием части средств страхового фонда на уменьшение степени последствий или на исключение страхового риска)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2. Контрольная (выражается в строго целевом формировании и использовании средств страхового фонда)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Предупредительные мероприятия: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ожарные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о борьбе с болезнями животных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рофилактика простудных заболеваний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ДТП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ротивоселевые и противопаводковые мероприятия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Участники: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1) Страховщики - юридические лица любой организационно-правовой формы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2) Страхователи – юридические и физические лица, имеющие страховой интерес и вступающие в страховые отношения либо в силу закона, либо добровольно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Trebuchet MS"/>
              </a:rPr>
              <a:t>1) экономическая потребность в страховании</a:t>
            </a: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Trebuchet MS"/>
              </a:rPr>
              <a:t>2) величина страховой суммы, в которую оценивается ущерб в связи с возможными потерями</a:t>
            </a: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размер денежных средств, на которые фактически застраховано имущество, жизнь, здоровье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По имущественному страхованию страховая сумма не может превышать реальной стоимости имущества. 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По личному страхованию - зависит от материальных возможностей страхователя и наличия желания страховаться на ту или иную сумму.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24000" y="333360"/>
            <a:ext cx="737208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ое возмещение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причитающаяся к выплате страх. сумма страхователю (max возмещение ≤ Σ страхования)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ой взнос (платеж, премия)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плата в рублях с совокупной страховой суммы (может быть разовой и периодической)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ая тарифная ставка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цена страхового риска или плата с единицы страховой суммы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1:51:08Z</dcterms:modified>
  <cp:revision>22</cp:revision>
  <dc:subject/>
  <dc:title>Бюджетная система Российской Федерации </dc:title>
</cp:coreProperties>
</file>