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C2D-C8F4-4C78-B276-0BC2C137B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DA38-FF07-413E-9D9D-0FD37501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DCC-497E-4B74-8A95-62CE15E2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00F-BB67-46DD-9EAC-957A8B0B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4EBA-2E60-4CDA-B527-1018A195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9D53-6762-4DF7-9957-C00E9BF6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168D-F72E-468A-8A80-3C43D711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20AC-BEA1-42C0-9879-D3CFBB63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8D30-63F4-442C-8054-C06D2896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4E24-C1F3-4A67-B242-3AE2335B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47A4-C592-4DBD-A8D1-F45B907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28F-9C0A-4B2D-9DA6-B769F9C6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4130-09AC-48EA-B146-B8D9BF1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0263-9C07-42AC-901D-4D16B9DD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2511-02A3-489E-A041-5978BA3E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CEAA-C6E6-41B4-9A4D-78B9401D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9E57-0439-4517-9166-5D54D90A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77B6-DEF4-4F13-A655-6323E26F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D82E1-3282-47E4-94AB-91048ED4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8838-DC55-45C0-9061-7368DBAA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2D22-B43A-4950-A9AE-C64C5DE2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D2A3-5D71-40E6-BB57-7C7EC1C4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735-F49C-4950-950E-263D9ED0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B56B1-C0E8-4652-98F2-4862C32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587F-AA2C-44A0-83E6-0D6E9EE9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366D-BBE3-4BD2-8E9E-7562948D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0222-7EBE-4464-8A1B-B73D547E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64AD-880D-479F-9BA1-F5CF2F2A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B3B3-E366-44E4-BBC2-EA0EE8F0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8C521-EA90-4ECE-B479-A01D5006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65CC-835D-4CEC-9529-353085E5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1E8D0-8857-4C5C-B269-2D420EB8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AAF36-8649-41E5-ACC3-289A1099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2E4-D1F6-4DFD-8695-66AF8635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B1D3A-4552-46E7-8F28-BE052861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13893-8E9C-4B67-8EBD-F1E90B2B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C38F9-8066-41B4-9579-39A6D8A2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36427-0D7E-46C0-A03E-5158F295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ABEF-8295-45F5-A38A-960F4C63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0D2D-E691-4A7E-A93E-9901AD07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E4E7F-93D3-496A-9B52-B5191536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92B1-EF91-4444-8C77-165EF3E8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1430-BEEA-431D-92F6-EBC42587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D48F3-1FA1-40D9-B7A1-2721FBB8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B39-8200-4BF6-B00D-2E508E0C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C17E9-9452-4CA1-A0AF-65DB55F6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16D4E-530F-4FDE-8849-E159AE21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BC943-6674-4FE5-AA6D-47311E1A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4D301-798D-4716-96A3-6F107A90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BEB44-92A1-494C-984F-9BAAB265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2E9D-5DB2-4DE5-8C98-2C835B30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5661D-3594-4A80-94AA-A29C6470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6ED8D-5F7F-4AEA-A150-048D6C83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C3B04-91E2-48AB-B519-C0680C30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6C9A8-E02B-42FE-A3EB-8DE30352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355-0D30-43B5-BCC3-1EE24B28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5C357-F33C-46BE-9BCF-9FD2014D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01D-AC35-453B-8EB9-5292778D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34B-2136-47AE-B5D6-017CCE3A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341-D679-495D-8653-F9001CCF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04BC-B67D-4B71-8052-BF3DB04FE17D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EC56-74DC-4180-A65C-B60B42B238EF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66C6-8237-489A-831E-CAAB966441C2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90A0-C977-41C5-8964-AED9046E798D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52EF-30C3-4639-BA53-4B3F6442D88A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втор: Клюев С.В.</a:t>
            </a:r>
            <a:endParaRPr b="0" lang="en-US" sz="2200" spc="-1" strike="noStrike">
              <a:solidFill>
                <a:srgbClr val="ccddea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Ярославль 2011</a:t>
            </a:r>
            <a:endParaRPr b="0" lang="en-US" sz="22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92" name="Прямоугольник 2"/>
          <p:cNvSpPr/>
          <p:nvPr/>
        </p:nvSpPr>
        <p:spPr>
          <a:xfrm>
            <a:off x="324000" y="62064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9760"/>
                </a:solidFill>
                <a:latin typeface="Calibri"/>
              </a:rPr>
              <a:t>Тема 1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9760"/>
                </a:solidFill>
                <a:latin typeface="Calibri"/>
              </a:rPr>
              <a:t>Понятие о финансах и управление им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200400" y="272520"/>
            <a:ext cx="54864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ddea"/>
                </a:solidFill>
                <a:latin typeface="Calibri"/>
              </a:rPr>
              <a:t>Понятие финансов</a:t>
            </a: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 появилось в 13-15 вв. в торговых городах Италии.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Позже Ф. стали обозначать отношения между населением и государством 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В процессе первой Буржуазной революции монарх был оттаржен от казны, и возникла система управления притоком денежных средств в казну.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66600" y="1768320"/>
            <a:ext cx="2494080" cy="669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Program Files (x86)\Microsoft Office\MEDIA\CAGCAT10\j0234131.wmf"/>
          <p:cNvPicPr/>
          <p:nvPr/>
        </p:nvPicPr>
        <p:blipFill>
          <a:blip r:embed="rId2"/>
          <a:stretch/>
        </p:blipFill>
        <p:spPr>
          <a:xfrm>
            <a:off x="250920" y="249228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1) Финансы существуют между двумя субъектами с разными полномочиями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2) Эти отношения – денежные (материальной основой являются деньги)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3) В процессе этих отношений формируются государством денежные фонды и осуществляются расходы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4) Поступление денежных средств в казну является принудительным (Достигалось правовой деятельностью государства)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5) Использование ср-в из казны осуществлялось в соответствии с интересами государства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011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ddea"/>
                </a:solidFill>
                <a:latin typeface="Calibri"/>
              </a:rPr>
              <a:t>1) денежные отношения, возникающие в процессе распределения и перераспределения стоимости общественного продукта и части национального богатства в связи с формированием денежных  доходов и накоплений у субъектов хозяйствования и государства, а также в связи с использованием их на расширенное воспроизводство, материальное стимулирование работников, социальные и другие потребности общества.</a:t>
            </a: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ddea"/>
                </a:solidFill>
                <a:latin typeface="Calibri"/>
              </a:rPr>
              <a:t>2) совокупность всех денежных ср-в, используемых в гос-ве.</a:t>
            </a: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ам присущ денежный характер (натуральные отношения НЕ относятся к финансам)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ы связаны с получением доходов и накоплений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ам присущ распределительный характер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В финансах всегда есть движение денежных средств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</p:txBody>
      </p:sp>
      <p:pic>
        <p:nvPicPr>
          <p:cNvPr id="403" name="Picture 2" descr="C:\Program Files (x86)\Microsoft Office\MEDIA\CAGCAT10\j0293844.wmf"/>
          <p:cNvPicPr/>
          <p:nvPr/>
        </p:nvPicPr>
        <p:blipFill>
          <a:blip r:embed="rId2"/>
          <a:stretch/>
        </p:blipFill>
        <p:spPr>
          <a:xfrm>
            <a:off x="6948360" y="2781360"/>
            <a:ext cx="17384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74680" y="24912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1) Распределительная (распределение национального дохода)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2) контрольная — контроль за распределением ВВП по соответствующим фондам и расходованием их по целевому назначению.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3) Стимулирующая - Использование распределенного дохода либо для расширения производства, либо для накоплений и соц. потребностей. 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Рычаги: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Бюджет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Цены и тарифы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Налоги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Экспортные и импортные пошлины и тарифы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4) Воспроизводственная функция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5) Регулирующая функция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1:35Z</dcterms:modified>
  <cp:revision>5</cp:revision>
  <dc:subject/>
  <dc:title>Сущность и функции финансов</dc:title>
</cp:coreProperties>
</file>