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CA85-80DC-47CE-92DE-9B8D632AD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6B64-38E2-4B19-A118-7021390ED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24F6-5D17-4FCA-8626-5C6B32B38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E9DE-1B01-47B8-B0DB-2BA76CCC4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65473-1898-44BA-9149-12F6997D9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85C52-6D47-41EF-A9F0-F215A0358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1EA82-680C-4A6B-B8F8-4A006E0F2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85D07-7E3F-4DB3-BC97-D1A88F1DA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3A7FA-5F85-4178-8BCC-3A58D664A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91A1A-35CE-4BD4-B611-264125522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384DF-DAAE-47A1-9EB2-0B6FBE90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EC50-E629-4A8F-83C9-FCD1261C0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8F900-EA3E-4FD5-A9B6-E96BCC56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01C5A-736D-4812-B363-42D42465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A6809-29AB-4D73-99A9-7B0EFE0D8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21943-B2E2-43E2-8091-9636213EB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106C2-7513-430E-9EE3-175C5D58A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7E54B-5602-499F-9684-9195C361C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D110B-1B1B-4152-AE9F-291459F92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F2A3E-780A-4E3F-B0A5-B02A917AC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FCCB8-D3A3-46A3-A040-6AB6E04F9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3AE68-96FE-43DE-9A29-4D0C6B75D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E7D4-A197-4E29-9FB7-E611F0C6B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D8A78-C5C5-4C5A-832E-33F3B9E95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A8307-6F60-44CD-80BF-F96DEFAD3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4FDA7-F081-4B97-A8CE-BA0566633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B5B82-7F50-47A8-A65F-AB86E054B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D04D2-076F-49F4-BC6C-BDEE2161F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5EFEC-0609-43ED-8A55-AF412BA6C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0D175-3800-4F54-BF0D-9C1514BC8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E4658-CD60-473E-8E84-ED9627F05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BBB66-E75E-4045-BAE8-F991A5156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BE41E-D611-4E43-8630-D97C8AD2A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1D7C-8E2C-4B29-AE62-1480A409A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217DF-E934-4EDD-A0B8-852835518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4FBC2-69F5-48FA-A258-DD79B6BDC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15556-D8B3-44E8-995E-43EDB7E53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A0D69-0F4F-4DBC-889B-EE6A3074F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3FBD9-6E10-446E-92B6-67F45DF6B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FA42D-98BE-447A-8830-0EC670EAA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18B0D-4D47-4395-A6E8-291544019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F1404-FB8C-4F83-B264-5FBFE75A2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8B461-311C-458C-B7DA-1059EB8CE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1988-C51E-46F0-AFC6-C7AD52639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A8CC-843E-41F2-8383-F1919C772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A654-B35A-49C0-ABEB-9EDE7BCE9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D4E6-C654-478E-BE5F-F0586BD07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B601-78F4-4136-8EEB-AC58797CE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a566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a566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a566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49E22-7C38-4C28-8093-C7F85AE586DA}" type="slidenum">
              <a:rPr b="0" lang="ru-RU" sz="1200" spc="-1" strike="noStrike">
                <a:solidFill>
                  <a:srgbClr val="4a566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6ecf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ce1f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e1f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ce1f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2311E-5EA9-481C-A93D-CF7A22EEDDD2}" type="slidenum">
              <a:rPr b="0" lang="ru-RU" sz="1200" spc="-1" strike="noStrike">
                <a:solidFill>
                  <a:srgbClr val="cce1f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6ecf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ce1f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e1f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ce1f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EC6D8-4C93-4B71-9EDE-7CFA6EE40F7A}" type="slidenum">
              <a:rPr b="0" lang="ru-RU" sz="1200" spc="-1" strike="noStrike">
                <a:solidFill>
                  <a:srgbClr val="cce1f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a566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a566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a566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38069-9F70-4696-9855-BBF0684B9E01}" type="slidenum">
              <a:rPr b="0" lang="ru-RU" sz="1200" spc="-1" strike="noStrike">
                <a:solidFill>
                  <a:srgbClr val="4a566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-55440" y="19080"/>
            <a:ext cx="8991360" cy="56005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2339640" y="5445000"/>
            <a:ext cx="4419720" cy="8683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Автор: Клюев С.В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Ярославль 2011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4e5b6f"/>
                </a:solidFill>
                <a:latin typeface="Calibri"/>
              </a:rPr>
              <a:t>Финансовая деятельность любого государства —</a:t>
            </a:r>
            <a:endParaRPr b="0" lang="en-US" sz="45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это процесс собирания, распределения (перераспределения) и использования денежных средств, обеспечивающих практическое выполнение функций государства и органов местного самоуправлени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процессе осуществления финансовой деятельности государство решает в данной сфере следующие задачи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обирания фондов денежных средств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спределения и использования этих средст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4e5b6f"/>
                </a:solidFill>
                <a:latin typeface="Calibri"/>
              </a:rPr>
              <a:t>Методы собирания фондов денежных средств:</a:t>
            </a:r>
            <a:endParaRPr b="0" lang="en-US" sz="45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557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алоговый метод — используется государством для изъятия части доходов граждан, государственных и негосударственных предприятий, организаций и учреждений в бюджет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метод обязательных платежей юридическими и физическими лицами в пенсионный фонд, фонды социального страхования, обязательного медицинского страхования и другие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государство использует метод добровольного привлечения денежных средств в форме вкладов населения в банк, приобретения облигаций и других ценных бумаг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метод взимания сборов и пошлин, т.е. плата за оказываемые услуги (судебная, таможенная пошлина и др.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метод страхования (формирования страховых фондов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эмиссия денег (дополнительный выпуск денежных средств в обращение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4e5b6f"/>
                </a:solidFill>
                <a:latin typeface="Calibri"/>
              </a:rPr>
              <a:t>Методы распределения фондов денежных средств:</a:t>
            </a:r>
            <a:endParaRPr b="0" lang="en-US" sz="45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финансировани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редитовани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ыплата страховых возмещений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существление расчетов между различными субъектам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4e5b6f"/>
                </a:solidFill>
                <a:latin typeface="Calibri"/>
              </a:rPr>
              <a:t>Финансовая система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едставляет собой систему отношений, ориентированных на объект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539640" y="2781360"/>
            <a:ext cx="83790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5b6f"/>
                </a:solidFill>
                <a:latin typeface="Calibri"/>
              </a:rPr>
              <a:t>В управлении финансами</a:t>
            </a:r>
            <a:r>
              <a:rPr b="0" lang="ru-RU" sz="3600" spc="-1" strike="noStrike">
                <a:solidFill>
                  <a:srgbClr val="4e5b6f"/>
                </a:solidFill>
                <a:latin typeface="Calibri"/>
              </a:rPr>
              <a:t>, как и в любой управляемой системе, выделяются объекты и субъекты управления.</a:t>
            </a:r>
            <a:endParaRPr b="0" lang="en-US" sz="36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бъектами выступают разнообразные виды финансовых отношений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убъектами —организационные структуры, осуществляющие управление. В соответствии с классификацией финансовых отношений по их сферам выделяют три группы объектов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финансы предприятий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траховые отношения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государственные финансы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Им соответствуют следующие субъекты управления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финансовые службы (отделы) предприятий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траховые органы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финансовые органы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алоговые инспекци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2T17:57:21Z</dcterms:created>
  <dc:creator>Александр</dc:creator>
  <dc:description/>
  <dc:language>en-US</dc:language>
  <cp:lastModifiedBy>Александр</cp:lastModifiedBy>
  <dcterms:modified xsi:type="dcterms:W3CDTF">2011-03-24T09:43:15Z</dcterms:modified>
  <cp:revision>7</cp:revision>
  <dc:subject/>
  <dc:title>Сущность и функции финансов</dc:title>
</cp:coreProperties>
</file>