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671-5FF5-4270-97BE-DA3DA60DD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954-2D2D-4FB4-830D-88AF1BF6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A79-13AC-465A-A658-40DA6016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1F3-260C-4B13-A35E-3C3277F0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4CB4-8AB6-428C-AF1B-98A036364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4C418-3DFE-4C42-AC34-78694490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4FFA-893A-44E1-8A19-C5F8EA99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4ABC-DBDE-4A37-BA1C-C60FBF6C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7E5C-3C03-4650-9D41-3E80EC09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F6FF-2EDD-4F21-99D4-6ACE2004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109A-293F-4CE7-AD7C-FFEDD9F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893E-8943-4361-9857-9F1D90F1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5893-D380-4E45-93C5-1AD0B2C6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B4FE-4021-4867-846E-356FA73D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FCF7-B143-4859-B1A0-1DFFCE8D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5DD0-A9E2-4091-B11B-85C79ECC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350-EC75-4C12-A1C4-563FEFA4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CE5BC-B2C8-4291-9319-23C397E0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377C8-6FDD-4CED-A054-C2586414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D50A0-364C-4C1E-B76F-AD48DE85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BD6B72-935F-44F5-B284-E1414439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A9207-E78A-4D01-967E-51E95237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F11-5501-4D97-AFDD-A56989EF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8EB58-0F8F-43F2-A83A-DFF3361C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97D61-BCA2-46EE-8480-ED15ABD9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792ED-2C7E-446E-8CC9-DDA8A313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87EEE7-A8FF-4386-B282-95988735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93B36-1618-40F4-BCC6-90B227EE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5CA85C-808D-434A-84D1-D4D7B9F9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EA6250-22BD-4A44-A80E-4FBA49F5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C6D47-F396-4F13-8C70-6E694278C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9557E-CCC0-40E0-8C8A-3FC2B6AF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BFDAE-1885-4009-9CF5-19753401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960-BA55-45F5-BCF7-E00CDA0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7F3C5-766F-430D-A4E1-C4ED628A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785A8-B7F8-42E3-8ED6-AA51403A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D1E88-DCDF-4E59-A7F6-AB40EC7C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5517-085E-44B3-B53C-4B037AA8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9EF3-DF7F-4D62-909A-314845C1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135E-C295-4909-8807-EFEB0BF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FFA9F-B354-46FB-83D4-E5AE759F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85DD-D2D0-4F50-8D27-7EF26592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8B6BD-B79A-459D-9489-445D015A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A10072-AE6E-4FDA-B77C-61B6ED312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636-D6A7-4AEA-ADBA-09622961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F94DAE-7246-44D0-8E11-7CD07301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87CCE7-6AF7-4275-BE06-12A909755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B16AD-5F22-42FE-9EAE-1880FDCB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E574B-3F5B-497A-9093-54DE113B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17446-00CB-46E5-AF7C-043409A2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3FFC25-6BE8-4027-82F2-9566ECBF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6F73C3-D1D5-43FB-B31B-F5E983E3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61B27-7B92-4017-9DA8-029B2D0C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9248BA-3932-4156-8F22-5F533144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EA3DC-517B-4FC9-A38B-C3502D2F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452-A3D6-4AE7-B230-4EDB56AA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C0205-4C96-40EE-8FB2-B6EC7AE5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8E4719-4A2B-4E3E-8050-3A564052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AAEE5D-D2A0-41A3-A4CE-86F74AFA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EB200-EAC4-4893-8053-DFBD7615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441FD3-38A0-4E3A-8BCE-ABBA8B75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FA566-189A-4D9D-BAE8-A2111189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74F7C-F446-418B-8C15-F64BD16B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74AE7C-D197-458C-8853-C07ED4E0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A5D60-2229-4226-A1A3-3A38977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2C53B-DA2B-4B7E-8851-7DEB76E3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9DBF-9E16-4F0C-8C0A-9D10D64D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EF2C2-A131-402B-8D7A-4D9D863F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3FB421-8EB9-4D51-ACB0-8C86FB69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494C2A-E30E-4F93-ACEA-B21AFA1D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B1E9DC-434F-47A8-8F2C-D258F796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28FD8-2D9B-4FB6-A926-6078C0E2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05A642-4038-4D1F-9C41-285E7BA3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679635-A563-413D-AED5-A4E359CC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AD3F7-3E4C-4C5A-866A-B7D5178F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DE972F-80BA-425B-B028-303E825F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D2A6BE-1126-40C7-9C28-64640E93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D61-5D8B-48A3-B746-A54AE5B4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A109A-22B5-47DC-BA3C-0F645823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13C01-007E-4A0D-AB52-18A0091F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ADCF18-1202-4675-8B15-FA5FEAC8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806FFC-0020-4167-AE26-34FC6F7D2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D25A84-FF83-4C6E-86C5-25ECDC50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C340-88C6-4C78-BF2C-2F6CF70E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2470-3A11-451F-AD1C-E5D5091689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C82D-4365-4BBB-92F6-5AB8AC71DE4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74D3-DC65-430E-8CAB-177BC8758C7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dde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cdde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9DC6-DA91-409D-B0B8-0D87FBAC64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A091-F88B-4F42-B4B6-04454F036E0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1C3C-5849-40E7-9E4D-BD0DDD3B34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8C55-9732-4CD8-85DB-4350D97745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I:/&#1057;&#1042;/&#1060;&#1080;&#1085;&#1072;&#1085;&#1089;&#1099;%20&#1080;%20&#1082;&#1088;&#1077;&#1076;&#1080;&#1090;/&#1092;&#1080;&#1085;&#1072;&#1085;&#1089;&#1099;%20&#1080;%20&#1082;&#1088;&#1077;&#1076;&#1080;&#1090;/&#1060;&#1080;&#1085;_&#1082;&#1088;&#1077;&#1076;&#1080;&#1090;.doc" TargetMode="External"/><Relationship Id="rId2" Type="http://schemas.openxmlformats.org/officeDocument/2006/relationships/hyperlink" Target="file:///I:/&#1057;&#1042;/&#1060;&#1080;&#1085;&#1072;&#1085;&#1089;&#1099;%20&#1080;%20&#1082;&#1088;&#1077;&#1076;&#1080;&#1090;/&#1092;&#1080;&#1085;&#1072;&#1085;&#1089;&#1099;%20&#1080;%20&#1082;&#1088;&#1077;&#1076;&#1080;&#1090;/&#1060;&#1080;&#1085;_&#1082;&#1088;&#1077;&#1076;&#1080;&#1090;.doc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2276280"/>
            <a:ext cx="6172200" cy="27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83e2c"/>
                </a:solidFill>
                <a:uFillTx/>
                <a:latin typeface="Century Schoolbook"/>
                <a:hlinkClick r:id="rId1"/>
              </a:rPr>
              <a:t>2.1 СОДЕРЖАНИЕ </a:t>
            </a:r>
            <a:r>
              <a:rPr b="0" lang="ru-RU" sz="3200" spc="-1" strike="noStrike" u="sng">
                <a:solidFill>
                  <a:srgbClr val="d83e2c"/>
                </a:solidFill>
                <a:uFillTx/>
                <a:latin typeface="Century Schoolbook"/>
                <a:hlinkClick r:id="rId2"/>
              </a:rPr>
              <a:t>И ЗНАЧЕНИЕ ФИНАНСОВОГО КОНТРОЛЯ, ВИДЫ ФИНАНСОВОГО КОНТРОЛЯ, ЕГО РОЛЬ В ЭКОНОМИКЕ СТРАНЫ</a:t>
            </a:r>
            <a:endParaRPr b="0" lang="en-US" sz="32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1884240" y="476280"/>
            <a:ext cx="619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Тема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Финансовый контрол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ФИНАНСОВЫЙ КОНТРОЛЬ</a:t>
            </a: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 —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дин из видов государственного контроля над образованием, распределением и использованием ресурсов всех звеньев финансовой системы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н направлен на проверку расходования государственных средств, своевременности и полноты мобилизации государственных ресурсов, законности расходов и доходов всех звеньев финансовой системы, соблюдения правил учета и отчет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5e9c"/>
                </a:solidFill>
                <a:latin typeface="Century Schoolbook"/>
              </a:rPr>
              <a:t>В ЗАВИСИМОСТИ ОТ ОРГАНОВ, ЕГО ОСУЩЕСТВЛЯЮЩИХ, ФИНАНСОВЫЙ КОНТРОЛЬ ПОДРАЗДЕЛЯЕТСЯ НА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й, внутрихозяйственный, ауди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й контроль, в свою очередь, делится на  общегосударственный и ведомственны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щегосударственный контроль осуществляют парламент, Правительство, Министерство по налогам и сборам, Федеральное казначейство, Министерство финансов РФ, Центральный Банк Росс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КЛАССИФИКАЦИЯ ФИНАНСОВОГО КОНТРОЛЯ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по времени осуществления финансовых провер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предварительный (до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текущий (во время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последующий (после проведения финансовых операций)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по субъектам осуществления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государственный (общегосударственный и ведомственный)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местный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внутрихозяйственный;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независимый (аудит)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524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ФИНАНСОВЫЙ КОНТРОЛЬ ПО СОДЕРЖАНИЮ ПОДРАЗДЕЛЯЕТСЯ НА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бюджет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арламентский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четной палаты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федерального казначейства Министерства финанс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2) налоговый контроль; его осуществляют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Министерство по налогам и сборам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осударственный таможенный комитет 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) банковский контроль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Центральный Банк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4) контроль над страховой деятельность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епартамент страхового надзора Министерства финансов РФ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5) таможен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ТКРФ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6) валютный контроль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5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органы валютного контроля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5e9c"/>
                </a:solidFill>
                <a:latin typeface="Century Schoolbook"/>
              </a:rPr>
              <a:t>РОЛЬ ФИНАНСОВОГО КОНТРОЛЯ В ОХРАНЕ СОБСТВЕННОСТИ СОСТОИТ В ВЫЯВЛЕНИИ: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7467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ояния учета, использования материальных ценностей и денежных средст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а финансового наруше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ичин и условий, способствующих финансовым нарушения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Program Files (x86)\Microsoft Office\MEDIA\CAGCAT10\j0195384.wmf"/>
          <p:cNvPicPr/>
          <p:nvPr/>
        </p:nvPicPr>
        <p:blipFill>
          <a:blip r:embed="rId1"/>
          <a:stretch/>
        </p:blipFill>
        <p:spPr>
          <a:xfrm>
            <a:off x="5003640" y="3594240"/>
            <a:ext cx="2664000" cy="27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Schoolbook"/>
              </a:rPr>
              <a:t>МЕТОДЫ ОСУЩЕСТВЛЕНИЯ ФИНАНСОВОГО КОНТРОЛЯ:</a:t>
            </a:r>
            <a:endParaRPr b="0" lang="en-US" sz="44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10920" y="2695680"/>
            <a:ext cx="7600680" cy="24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проверка финансово-отчетной документации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ревизия;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анализ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7" name="Picture 2" descr="C:\Program Files (x86)\Microsoft Office\MEDIA\CAGCAT10\j0196400.wmf"/>
          <p:cNvPicPr/>
          <p:nvPr/>
        </p:nvPicPr>
        <p:blipFill>
          <a:blip r:embed="rId1"/>
          <a:stretch/>
        </p:blipFill>
        <p:spPr>
          <a:xfrm>
            <a:off x="5219640" y="3789360"/>
            <a:ext cx="24163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5e9c"/>
                </a:solidFill>
                <a:latin typeface="Century Schoolbook"/>
              </a:rPr>
              <a:t>РЕВИЗИЯ</a:t>
            </a:r>
            <a:endParaRPr b="0" lang="en-US" sz="44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Ревизия —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сновной метод осуществления финансового контрол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одержанию ревизия бывает документальной, фактической (инвентаризация, пересчет денег и валютных ценностей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 способу назначения: плановой, внепланов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визия осуществляется специально созданной комисси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3:55Z</dcterms:modified>
  <cp:revision>9</cp:revision>
  <dc:subject/>
  <dc:title>Сущность и функции финансов</dc:title>
</cp:coreProperties>
</file>