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3.xml.rels" ContentType="application/vnd.openxmlformats-package.relationships+xml"/>
  <Override PartName="/ppt/notesSlides/notesSlide63.xml" ContentType="application/vnd.openxmlformats-officedocument.presentationml.notesSlide+xml"/>
  <Override PartName="/ppt/_rels/presentation.xml.rels" ContentType="application/vnd.openxmlformats-package.relationships+xml"/>
  <Override PartName="/ppt/media/image24.wmf" ContentType="image/x-wmf"/>
  <Override PartName="/ppt/media/image25.wmf" ContentType="image/x-wmf"/>
  <Override PartName="/ppt/media/image15.jpeg" ContentType="image/jpeg"/>
  <Override PartName="/ppt/media/image23.jpeg" ContentType="image/jpeg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7.png" ContentType="image/png"/>
  <Override PartName="/ppt/media/image18.wmf" ContentType="image/x-wmf"/>
  <Override PartName="/ppt/media/hammer.wav" ContentType="audio/x-wav"/>
  <Override PartName="/ppt/media/voltage.wav" ContentType="audio/x-wav"/>
  <Override PartName="/ppt/media/image28.wmf" ContentType="image/x-wmf"/>
  <Override PartName="/ppt/media/click.wav" ContentType="audio/x-wav"/>
  <Override PartName="/ppt/media/image26.jpeg" ContentType="image/jpeg"/>
  <Override PartName="/ppt/media/image27.jpeg" ContentType="image/jpeg"/>
  <Override PartName="/ppt/media/image30.wmf" ContentType="image/x-wmf"/>
  <Override PartName="/ppt/media/image6.png" ContentType="image/png"/>
  <Override PartName="/ppt/media/image29.png" ContentType="image/png"/>
  <Override PartName="/ppt/media/image32.wmf" ContentType="image/x-wmf"/>
  <Override PartName="/ppt/media/image31.wmf" ContentType="image/x-wmf"/>
  <Override PartName="/ppt/media/tada.wav" ContentType="audio/x-wav"/>
  <Override PartName="/ppt/media/image34.wmf" ContentType="image/x-wmf"/>
  <Override PartName="/ppt/media/image13.png" ContentType="image/png"/>
  <Override PartName="/ppt/media/image36.wmf" ContentType="image/x-wmf"/>
  <Override PartName="/ppt/media/image16.png" ContentType="image/png"/>
  <Override PartName="/ppt/media/image9.png" ContentType="image/png"/>
  <Override PartName="/ppt/media/image37.wmf" ContentType="image/x-wmf"/>
  <Override PartName="/ppt/media/image38.wmf" ContentType="image/x-wmf"/>
  <Override PartName="/ppt/media/image12.wmf" ContentType="image/x-wmf"/>
  <Override PartName="/ppt/media/image4.png" ContentType="image/png"/>
  <Override PartName="/ppt/media/image8.png" ContentType="image/png"/>
  <Override PartName="/ppt/media/image14.jpeg" ContentType="image/jpeg"/>
  <Override PartName="/ppt/media/image11.wmf" ContentType="image/x-wmf"/>
  <Override PartName="/ppt/media/image7.png" ContentType="image/png"/>
  <Override PartName="/ppt/media/image10.png" ContentType="image/png"/>
  <Override PartName="/ppt/media/image1.jpeg" ContentType="image/jpeg"/>
  <Override PartName="/ppt/media/image5.wmf" ContentType="image/x-wmf"/>
  <Override PartName="/ppt/media/image35.wmf" ContentType="image/x-wmf"/>
  <Override PartName="/ppt/media/image33.wmf" ContentType="image/x-wmf"/>
  <Override PartName="/ppt/media/image3.wmf" ContentType="image/x-wmf"/>
  <Override PartName="/ppt/media/image2.png" ContentType="image/png"/>
  <Override PartName="/ppt/media/wind.wav" ContentType="audio/x-wav"/>
  <Override PartName="/ppt/media/image3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7BD6A-D1F4-4B7B-9902-CF6F8637EE5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5ED6C-59C2-4F0A-969A-36610FD0685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954FE-6616-4D9C-B312-91236CF5D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09320" y="265320"/>
            <a:ext cx="4876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0010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875400"/>
            <a:ext cx="80010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5D004-4147-4D76-9AE9-F3C7889BD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09320" y="265320"/>
            <a:ext cx="4876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39042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56520" y="1447560"/>
            <a:ext cx="39042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875400"/>
            <a:ext cx="39042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56520" y="3875400"/>
            <a:ext cx="39042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182A4-FC69-49C6-AAFA-FFE1794E2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09320" y="265320"/>
            <a:ext cx="4876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25761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2240" y="1447560"/>
            <a:ext cx="25761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67640" y="1447560"/>
            <a:ext cx="25761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875400"/>
            <a:ext cx="25761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2240" y="3875400"/>
            <a:ext cx="25761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67640" y="3875400"/>
            <a:ext cx="25761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808FB-9E59-4023-9F17-A8A71C782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ACA8C-CC38-4755-BB34-AA7474802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09320" y="265320"/>
            <a:ext cx="4876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14475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A9F95-B2D6-4828-9E33-8B0EE33F1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09320" y="265320"/>
            <a:ext cx="4876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1467A-F018-4266-8BF3-B2F7D2680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09320" y="265320"/>
            <a:ext cx="4876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39042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56520" y="1447560"/>
            <a:ext cx="39042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3E424-864A-483E-84CE-CC3E111EE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09320" y="265320"/>
            <a:ext cx="4876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D48A4-5715-479A-9C11-903376A1A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09320" y="304560"/>
            <a:ext cx="48769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36346-69DF-4141-A39B-862507869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09320" y="265320"/>
            <a:ext cx="4876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39042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56520" y="1447560"/>
            <a:ext cx="39042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3875400"/>
            <a:ext cx="39042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832B3-41E8-4944-918C-BDCD75121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09320" y="265320"/>
            <a:ext cx="4876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4475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39B44-C419-4F8F-9E68-2FB922F7E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09320" y="265320"/>
            <a:ext cx="4876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39042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56520" y="1447560"/>
            <a:ext cx="39042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56520" y="3875400"/>
            <a:ext cx="39042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6902C-7B40-4529-AD30-686919FC9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09320" y="265320"/>
            <a:ext cx="4876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39042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56520" y="1447560"/>
            <a:ext cx="39042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3875400"/>
            <a:ext cx="80010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5A7F7-A89F-4221-B055-CCDF0221C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09320" y="265320"/>
            <a:ext cx="4876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0010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3875400"/>
            <a:ext cx="80010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8D72A-F524-4C63-8E0B-BD49C4A37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09320" y="265320"/>
            <a:ext cx="4876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39042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56520" y="1447560"/>
            <a:ext cx="39042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3875400"/>
            <a:ext cx="39042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56520" y="3875400"/>
            <a:ext cx="39042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B70BA-3BEB-450B-A8D7-CD445E13B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09320" y="265320"/>
            <a:ext cx="4876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25761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2240" y="1447560"/>
            <a:ext cx="25761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867640" y="1447560"/>
            <a:ext cx="25761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3875400"/>
            <a:ext cx="25761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2240" y="3875400"/>
            <a:ext cx="25761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867640" y="3875400"/>
            <a:ext cx="25761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46CF7-B258-4FC8-8D55-A814D6670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09320" y="265320"/>
            <a:ext cx="4876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9AE0C-7745-487D-8319-9B6EFE499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09320" y="265320"/>
            <a:ext cx="4876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39042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56520" y="1447560"/>
            <a:ext cx="39042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B6EF1-7FB3-4E50-A584-4038DB13E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09320" y="265320"/>
            <a:ext cx="4876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1F29A-DBC7-4AE7-9E58-565C9982E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09320" y="304560"/>
            <a:ext cx="48769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8AF51-77B8-4A00-8954-BE67B5232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09320" y="265320"/>
            <a:ext cx="4876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39042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56520" y="1447560"/>
            <a:ext cx="39042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875400"/>
            <a:ext cx="39042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3CB6B-15AB-440D-A493-7D2C9D6B1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09320" y="265320"/>
            <a:ext cx="4876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39042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56520" y="1447560"/>
            <a:ext cx="39042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6520" y="3875400"/>
            <a:ext cx="39042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A0435-7D17-40A2-86E6-4E9C35896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09320" y="265320"/>
            <a:ext cx="4876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39042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56520" y="1447560"/>
            <a:ext cx="39042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875400"/>
            <a:ext cx="80010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A46AA-C54F-43D2-A3DB-918C1D821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09320" y="304560"/>
            <a:ext cx="4876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5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9714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C9AFC-43E2-4CF0-9B06-C98888A4FE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09320" y="304560"/>
            <a:ext cx="4876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6840" y="14475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54A6F-421F-4E62-8FA7-D72BB296A1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0.wmf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5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5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5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5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25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25.wmf"/><Relationship Id="rId2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5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5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5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5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25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25.wmf"/><Relationship Id="rId2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4.wmf"/><Relationship Id="rId3" Type="http://schemas.openxmlformats.org/officeDocument/2006/relationships/image" Target="../media/image35.wmf"/><Relationship Id="rId4" Type="http://schemas.openxmlformats.org/officeDocument/2006/relationships/image" Target="../media/image36.wmf"/><Relationship Id="rId5" Type="http://schemas.openxmlformats.org/officeDocument/2006/relationships/image" Target="../media/image37.wmf"/><Relationship Id="rId6" Type="http://schemas.openxmlformats.org/officeDocument/2006/relationships/image" Target="../media/image38.wmf"/><Relationship Id="rId7" Type="http://schemas.openxmlformats.org/officeDocument/2006/relationships/audio" Target="../media/click.wav"/><Relationship Id="rId8" Type="http://schemas.openxmlformats.org/officeDocument/2006/relationships/audio" Target="../media/click.wav"/><Relationship Id="rId9" Type="http://schemas.openxmlformats.org/officeDocument/2006/relationships/audio" Target="../media/click.wav"/><Relationship Id="rId10" Type="http://schemas.openxmlformats.org/officeDocument/2006/relationships/audio" Target="../media/click.wav"/><Relationship Id="rId11" Type="http://schemas.openxmlformats.org/officeDocument/2006/relationships/audio" Target="../media/click.wav"/><Relationship Id="rId12" Type="http://schemas.openxmlformats.org/officeDocument/2006/relationships/audio" Target="../media/click.wav"/><Relationship Id="rId13" Type="http://schemas.openxmlformats.org/officeDocument/2006/relationships/audio" Target="../media/click.wav"/><Relationship Id="rId14" Type="http://schemas.openxmlformats.org/officeDocument/2006/relationships/audio" Target="../media/click.wav"/><Relationship Id="rId15" Type="http://schemas.openxmlformats.org/officeDocument/2006/relationships/audio" Target="../media/tada.wav"/><Relationship Id="rId16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wmf"/><Relationship Id="rId7" Type="http://schemas.openxmlformats.org/officeDocument/2006/relationships/image" Target="../media/image12.wmf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image" Target="../media/image14.jpeg"/><Relationship Id="rId11" Type="http://schemas.openxmlformats.org/officeDocument/2006/relationships/image" Target="../media/image14.jpeg"/><Relationship Id="rId12" Type="http://schemas.openxmlformats.org/officeDocument/2006/relationships/image" Target="../media/image15.jpe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6.png"/><Relationship Id="rId16" Type="http://schemas.openxmlformats.org/officeDocument/2006/relationships/audio" Target="../media/click.wav"/><Relationship Id="rId17" Type="http://schemas.openxmlformats.org/officeDocument/2006/relationships/audio" Target="../media/click.wav"/><Relationship Id="rId18" Type="http://schemas.openxmlformats.org/officeDocument/2006/relationships/audio" Target="../media/click.wav"/><Relationship Id="rId19" Type="http://schemas.openxmlformats.org/officeDocument/2006/relationships/audio" Target="../media/click.wav"/><Relationship Id="rId20" Type="http://schemas.openxmlformats.org/officeDocument/2006/relationships/audio" Target="../media/click.wav"/><Relationship Id="rId21" Type="http://schemas.openxmlformats.org/officeDocument/2006/relationships/audio" Target="../media/hammer.wav"/><Relationship Id="rId22" Type="http://schemas.openxmlformats.org/officeDocument/2006/relationships/audio" Target="../media/voltage.wav"/><Relationship Id="rId23" Type="http://schemas.openxmlformats.org/officeDocument/2006/relationships/audio" Target="../media/voltage.wav"/><Relationship Id="rId24" Type="http://schemas.openxmlformats.org/officeDocument/2006/relationships/audio" Target="../media/voltage.wav"/><Relationship Id="rId25" Type="http://schemas.openxmlformats.org/officeDocument/2006/relationships/audio" Target="../media/wind.wav"/><Relationship Id="rId26" Type="http://schemas.openxmlformats.org/officeDocument/2006/relationships/audio" Target="../media/hammer.wav"/><Relationship Id="rId2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3"/>
          <p:cNvSpPr/>
          <p:nvPr/>
        </p:nvSpPr>
        <p:spPr>
          <a:xfrm>
            <a:off x="914400" y="304920"/>
            <a:ext cx="7373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ория и практика управл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асть 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6" descr=""/>
          <p:cNvPicPr/>
          <p:nvPr/>
        </p:nvPicPr>
        <p:blipFill>
          <a:blip r:embed="rId1"/>
          <a:stretch/>
        </p:blipFill>
        <p:spPr>
          <a:xfrm>
            <a:off x="1285920" y="1714680"/>
            <a:ext cx="60958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209320" y="304560"/>
            <a:ext cx="48769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Анали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Анализ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знавательная деятельность руководителя, позволяющая проникнуть в суть разнообразных (часто противоречивых) процессов и явлений, выявить причинно-следственные связи, факторы ускорения и торможения развит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Анализ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струмент повышения качества управленческой деятель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ПОЧЕМУ? Докажите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209320" y="304560"/>
            <a:ext cx="48769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ипы управленческого анализ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6840" y="14475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P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ST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анали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O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анали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анали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ркетинговый анали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ловой анализ (анализ проблемы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нализ достиж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огико-структурный анали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нализ результатов собственной управленческой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09320" y="304560"/>
            <a:ext cx="48769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иды управленческого анализ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6840" y="14475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стем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ункциональ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равнитель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троспектив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актор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руктур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араметриче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флексив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09320" y="304560"/>
            <a:ext cx="48769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Факторный анализ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ак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ажный вид управленческого анализ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6840" y="14475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явление значимых фактор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исание их воздействия на систему (в том числе и систему управлени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нжирование факторов по степени интенсивности влия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Практическое задание: ФАКТОРНЫЙ АНАЛИ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2"/>
          <p:cNvSpPr/>
          <p:nvPr/>
        </p:nvSpPr>
        <p:spPr>
          <a:xfrm>
            <a:off x="2376360" y="93600"/>
            <a:ext cx="57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Типология проблем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4" name="Group 10"/>
          <p:cNvGrpSpPr/>
          <p:nvPr/>
        </p:nvGrpSpPr>
        <p:grpSpPr>
          <a:xfrm>
            <a:off x="830880" y="1860480"/>
            <a:ext cx="7728840" cy="459720"/>
            <a:chOff x="830880" y="1860480"/>
            <a:chExt cx="7728840" cy="459720"/>
          </a:xfrm>
        </p:grpSpPr>
        <p:sp>
          <p:nvSpPr>
            <p:cNvPr id="165" name="Text Box 11"/>
            <p:cNvSpPr/>
            <p:nvPr/>
          </p:nvSpPr>
          <p:spPr>
            <a:xfrm>
              <a:off x="830880" y="1860480"/>
              <a:ext cx="1377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 Narrow"/>
                </a:rPr>
                <a:t>Проблем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Text Box 12"/>
            <p:cNvSpPr/>
            <p:nvPr/>
          </p:nvSpPr>
          <p:spPr>
            <a:xfrm>
              <a:off x="2227320" y="1860480"/>
              <a:ext cx="6332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 Narrow"/>
                </a:rPr>
                <a:t>–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 Narrow"/>
                </a:rPr>
                <a:t>острое противоречие, требующее разрешени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7" name="Group 13"/>
          <p:cNvGrpSpPr/>
          <p:nvPr/>
        </p:nvGrpSpPr>
        <p:grpSpPr>
          <a:xfrm>
            <a:off x="885960" y="2492280"/>
            <a:ext cx="8257680" cy="825480"/>
            <a:chOff x="885960" y="2492280"/>
            <a:chExt cx="8257680" cy="825480"/>
          </a:xfrm>
        </p:grpSpPr>
        <p:sp>
          <p:nvSpPr>
            <p:cNvPr id="168" name="Text Box 14"/>
            <p:cNvSpPr/>
            <p:nvPr/>
          </p:nvSpPr>
          <p:spPr>
            <a:xfrm>
              <a:off x="885960" y="2492280"/>
              <a:ext cx="101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 Narrow"/>
                </a:rPr>
                <a:t>Фактор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Text Box 15"/>
            <p:cNvSpPr/>
            <p:nvPr/>
          </p:nvSpPr>
          <p:spPr>
            <a:xfrm>
              <a:off x="2386800" y="2492280"/>
              <a:ext cx="6756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 Narrow"/>
                </a:rPr>
                <a:t>–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 Narrow"/>
                </a:rPr>
                <a:t>движущая сила, причина какого либо процесса или явления (лат. faktor – делающий, производящий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Line 16"/>
          <p:cNvSpPr/>
          <p:nvPr/>
        </p:nvSpPr>
        <p:spPr>
          <a:xfrm>
            <a:off x="0" y="1773360"/>
            <a:ext cx="8928000" cy="0"/>
          </a:xfrm>
          <a:prstGeom prst="line">
            <a:avLst/>
          </a:prstGeom>
          <a:ln w="255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Group 17"/>
          <p:cNvGrpSpPr/>
          <p:nvPr/>
        </p:nvGrpSpPr>
        <p:grpSpPr>
          <a:xfrm>
            <a:off x="-71280" y="3571920"/>
            <a:ext cx="2484360" cy="2890080"/>
            <a:chOff x="-71280" y="3571920"/>
            <a:chExt cx="2484360" cy="2890080"/>
          </a:xfrm>
        </p:grpSpPr>
        <p:sp>
          <p:nvSpPr>
            <p:cNvPr id="172" name="Text Box 18"/>
            <p:cNvSpPr/>
            <p:nvPr/>
          </p:nvSpPr>
          <p:spPr>
            <a:xfrm>
              <a:off x="-71280" y="6002280"/>
              <a:ext cx="21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990033"/>
                  </a:solidFill>
                  <a:latin typeface="Arial Narrow"/>
                </a:rPr>
                <a:t>"независимые"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Text Box 19"/>
            <p:cNvSpPr/>
            <p:nvPr/>
          </p:nvSpPr>
          <p:spPr>
            <a:xfrm>
              <a:off x="-71280" y="3571920"/>
              <a:ext cx="248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990033"/>
                  </a:solidFill>
                  <a:latin typeface="Arial Narrow"/>
                </a:rPr>
                <a:t>"результирующие"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Text Box 20"/>
            <p:cNvSpPr/>
            <p:nvPr/>
          </p:nvSpPr>
          <p:spPr>
            <a:xfrm>
              <a:off x="-71280" y="4286160"/>
              <a:ext cx="165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990033"/>
                  </a:solidFill>
                  <a:latin typeface="Arial Narrow"/>
                </a:rPr>
                <a:t>"узловые"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Text Box 21"/>
            <p:cNvSpPr/>
            <p:nvPr/>
          </p:nvSpPr>
          <p:spPr>
            <a:xfrm>
              <a:off x="-71280" y="5324400"/>
              <a:ext cx="172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990033"/>
                  </a:solidFill>
                  <a:latin typeface="Arial Narrow"/>
                </a:rPr>
                <a:t>"корневые"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Text Box 22"/>
          <p:cNvSpPr/>
          <p:nvPr/>
        </p:nvSpPr>
        <p:spPr>
          <a:xfrm>
            <a:off x="1928880" y="6027840"/>
            <a:ext cx="721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Arial Narrow"/>
              </a:rPr>
              <a:t>– </a:t>
            </a:r>
            <a:r>
              <a:rPr b="0" lang="ru-RU" sz="2400" spc="-1" strike="noStrike">
                <a:solidFill>
                  <a:srgbClr val="3333cc"/>
                </a:solidFill>
                <a:latin typeface="Arial Narrow"/>
              </a:rPr>
              <a:t>проблемы, связи которых с другими проблемами не определен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23"/>
          <p:cNvSpPr/>
          <p:nvPr/>
        </p:nvSpPr>
        <p:spPr>
          <a:xfrm>
            <a:off x="1428840" y="5324400"/>
            <a:ext cx="768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Arial Narrow"/>
              </a:rPr>
              <a:t>– </a:t>
            </a:r>
            <a:r>
              <a:rPr b="0" lang="ru-RU" sz="2400" spc="-1" strike="noStrike">
                <a:solidFill>
                  <a:srgbClr val="3333cc"/>
                </a:solidFill>
                <a:latin typeface="Arial Narrow"/>
              </a:rPr>
              <a:t>проблемы, оказывающие влияние на другие проблем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24"/>
          <p:cNvSpPr/>
          <p:nvPr/>
        </p:nvSpPr>
        <p:spPr>
          <a:xfrm>
            <a:off x="1285920" y="4313160"/>
            <a:ext cx="7642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Arial Narrow"/>
              </a:rPr>
              <a:t>– </a:t>
            </a:r>
            <a:r>
              <a:rPr b="0" lang="ru-RU" sz="2400" spc="-1" strike="noStrike">
                <a:solidFill>
                  <a:srgbClr val="3333cc"/>
                </a:solidFill>
                <a:latin typeface="Arial Narrow"/>
              </a:rPr>
              <a:t>проблемы, оказывающие влияние на одни проблемы, и при этом испытывающие влияние других пробле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25"/>
          <p:cNvSpPr/>
          <p:nvPr/>
        </p:nvSpPr>
        <p:spPr>
          <a:xfrm>
            <a:off x="2357280" y="3608280"/>
            <a:ext cx="678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Arial Narrow"/>
              </a:rPr>
              <a:t>– </a:t>
            </a:r>
            <a:r>
              <a:rPr b="0" lang="ru-RU" sz="2400" spc="-1" strike="noStrike">
                <a:solidFill>
                  <a:srgbClr val="3333cc"/>
                </a:solidFill>
                <a:latin typeface="Arial Narrow"/>
              </a:rPr>
              <a:t>проблемы, испытывающие влияние других пробле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Line 26"/>
          <p:cNvSpPr/>
          <p:nvPr/>
        </p:nvSpPr>
        <p:spPr>
          <a:xfrm>
            <a:off x="108000" y="3571920"/>
            <a:ext cx="8928000" cy="0"/>
          </a:xfrm>
          <a:prstGeom prst="line">
            <a:avLst/>
          </a:prstGeom>
          <a:ln w="255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Прямоугольник 26"/>
          <p:cNvSpPr/>
          <p:nvPr/>
        </p:nvSpPr>
        <p:spPr>
          <a:xfrm>
            <a:off x="135000" y="500040"/>
            <a:ext cx="9009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Проблемы и цели связанные категории и те и другие присутствуют в искусственных системах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Проблемы связывают субъективные ожидания (в форме целей) с объективным состоянием в форме противоречия требующего разрешен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 Box 2"/>
          <p:cNvSpPr/>
          <p:nvPr/>
        </p:nvSpPr>
        <p:spPr>
          <a:xfrm>
            <a:off x="2376360" y="93600"/>
            <a:ext cx="57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Типология проблем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3" name="Group 5"/>
          <p:cNvGrpSpPr/>
          <p:nvPr/>
        </p:nvGrpSpPr>
        <p:grpSpPr>
          <a:xfrm>
            <a:off x="216000" y="4651200"/>
            <a:ext cx="8497800" cy="405000"/>
            <a:chOff x="216000" y="4651200"/>
            <a:chExt cx="8497800" cy="405000"/>
          </a:xfrm>
        </p:grpSpPr>
        <p:sp>
          <p:nvSpPr>
            <p:cNvPr id="184" name="Text Box 6"/>
            <p:cNvSpPr/>
            <p:nvPr/>
          </p:nvSpPr>
          <p:spPr>
            <a:xfrm>
              <a:off x="216000" y="4651200"/>
              <a:ext cx="1871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990033"/>
                  </a:solidFill>
                  <a:latin typeface="Arial Narrow"/>
                </a:rPr>
                <a:t>"антитезные"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Text Box 7"/>
            <p:cNvSpPr/>
            <p:nvPr/>
          </p:nvSpPr>
          <p:spPr>
            <a:xfrm>
              <a:off x="2233440" y="4657320"/>
              <a:ext cx="648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3333cc"/>
                  </a:solidFill>
                  <a:latin typeface="Arial Narrow"/>
                </a:rPr>
                <a:t>– </a:t>
              </a:r>
              <a:r>
                <a:rPr b="0" lang="ru-RU" sz="2000" spc="-1" strike="noStrike">
                  <a:solidFill>
                    <a:srgbClr val="3333cc"/>
                  </a:solidFill>
                  <a:latin typeface="Arial Narrow"/>
                </a:rPr>
                <a:t>фиксирующие противоречие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Group 8"/>
          <p:cNvGrpSpPr/>
          <p:nvPr/>
        </p:nvGrpSpPr>
        <p:grpSpPr>
          <a:xfrm>
            <a:off x="228600" y="1935000"/>
            <a:ext cx="8459640" cy="703800"/>
            <a:chOff x="228600" y="1935000"/>
            <a:chExt cx="8459640" cy="703800"/>
          </a:xfrm>
        </p:grpSpPr>
        <p:sp>
          <p:nvSpPr>
            <p:cNvPr id="187" name="Text Box 9"/>
            <p:cNvSpPr/>
            <p:nvPr/>
          </p:nvSpPr>
          <p:spPr>
            <a:xfrm>
              <a:off x="228600" y="1935000"/>
              <a:ext cx="27352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990033"/>
                  </a:solidFill>
                  <a:latin typeface="Arial Narrow"/>
                </a:rPr>
                <a:t>"причинно-следственные"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Text Box 10"/>
            <p:cNvSpPr/>
            <p:nvPr/>
          </p:nvSpPr>
          <p:spPr>
            <a:xfrm>
              <a:off x="2244600" y="1941480"/>
              <a:ext cx="6443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3333cc"/>
                  </a:solidFill>
                  <a:latin typeface="Arial Narrow"/>
                </a:rPr>
                <a:t>– </a:t>
              </a:r>
              <a:r>
                <a:rPr b="0" lang="ru-RU" sz="2000" spc="-1" strike="noStrike">
                  <a:solidFill>
                    <a:srgbClr val="3333cc"/>
                  </a:solidFill>
                  <a:latin typeface="Arial Narrow"/>
                </a:rPr>
                <a:t>содержащие причину и следствие проблемной ситуации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" name="Group 11"/>
          <p:cNvGrpSpPr/>
          <p:nvPr/>
        </p:nvGrpSpPr>
        <p:grpSpPr>
          <a:xfrm>
            <a:off x="187200" y="843120"/>
            <a:ext cx="7993080" cy="398880"/>
            <a:chOff x="187200" y="843120"/>
            <a:chExt cx="7993080" cy="398880"/>
          </a:xfrm>
        </p:grpSpPr>
        <p:sp>
          <p:nvSpPr>
            <p:cNvPr id="190" name="Text Box 12"/>
            <p:cNvSpPr/>
            <p:nvPr/>
          </p:nvSpPr>
          <p:spPr>
            <a:xfrm>
              <a:off x="187200" y="843120"/>
              <a:ext cx="1619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990033"/>
                  </a:solidFill>
                  <a:latin typeface="Arial Narrow"/>
                </a:rPr>
                <a:t>"назывные"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Text Box 13"/>
            <p:cNvSpPr/>
            <p:nvPr/>
          </p:nvSpPr>
          <p:spPr>
            <a:xfrm>
              <a:off x="2203200" y="843120"/>
              <a:ext cx="5977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3333cc"/>
                  </a:solidFill>
                  <a:latin typeface="Arial Narrow"/>
                </a:rPr>
                <a:t>– </a:t>
              </a:r>
              <a:r>
                <a:rPr b="0" lang="ru-RU" sz="2000" spc="-1" strike="noStrike">
                  <a:solidFill>
                    <a:srgbClr val="3333cc"/>
                  </a:solidFill>
                  <a:latin typeface="Arial Narrow"/>
                </a:rPr>
                <a:t>по сути жалобы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2" name="Group 14"/>
          <p:cNvGrpSpPr/>
          <p:nvPr/>
        </p:nvGrpSpPr>
        <p:grpSpPr>
          <a:xfrm>
            <a:off x="2676600" y="995400"/>
            <a:ext cx="4724640" cy="776880"/>
            <a:chOff x="2676600" y="995400"/>
            <a:chExt cx="4724640" cy="776880"/>
          </a:xfrm>
        </p:grpSpPr>
        <p:sp>
          <p:nvSpPr>
            <p:cNvPr id="193" name="Text Box 15"/>
            <p:cNvSpPr/>
            <p:nvPr/>
          </p:nvSpPr>
          <p:spPr>
            <a:xfrm>
              <a:off x="2681280" y="995400"/>
              <a:ext cx="47199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000000"/>
                  </a:solidFill>
                  <a:latin typeface="Arial Narrow"/>
                </a:rPr>
                <a:t>Отдел сбыта дублирует работу отдела маркетинга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Text Box 16"/>
            <p:cNvSpPr/>
            <p:nvPr/>
          </p:nvSpPr>
          <p:spPr>
            <a:xfrm>
              <a:off x="2676600" y="1434960"/>
              <a:ext cx="4471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000000"/>
                  </a:solidFill>
                  <a:latin typeface="Arial Narrow"/>
                </a:rPr>
                <a:t>Сотрудники хотят много получать, мало работая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Group 17"/>
          <p:cNvGrpSpPr/>
          <p:nvPr/>
        </p:nvGrpSpPr>
        <p:grpSpPr>
          <a:xfrm>
            <a:off x="2374920" y="2765520"/>
            <a:ext cx="6769080" cy="1728000"/>
            <a:chOff x="2374920" y="2765520"/>
            <a:chExt cx="6769080" cy="1728000"/>
          </a:xfrm>
        </p:grpSpPr>
        <p:sp>
          <p:nvSpPr>
            <p:cNvPr id="196" name="Text Box 18"/>
            <p:cNvSpPr/>
            <p:nvPr/>
          </p:nvSpPr>
          <p:spPr>
            <a:xfrm>
              <a:off x="2374920" y="2765520"/>
              <a:ext cx="66024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000000"/>
                  </a:solidFill>
                  <a:latin typeface="Arial Narrow"/>
                </a:rPr>
                <a:t>Отделы сбыта и маркетинга дублируют дуг друга, т.к. не разработаны должностные инструкции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Text Box 19"/>
            <p:cNvSpPr/>
            <p:nvPr/>
          </p:nvSpPr>
          <p:spPr>
            <a:xfrm>
              <a:off x="2374920" y="3484800"/>
              <a:ext cx="676908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000000"/>
                  </a:solidFill>
                  <a:latin typeface="Arial Narrow"/>
                </a:rPr>
                <a:t>Слабая связь между трудовым вкладом и заработной платой не заинтересовывает специалистов к большей трудовой отдаче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8" name="Group 20"/>
          <p:cNvGrpSpPr/>
          <p:nvPr/>
        </p:nvGrpSpPr>
        <p:grpSpPr>
          <a:xfrm>
            <a:off x="2303640" y="5048280"/>
            <a:ext cx="6602400" cy="1448280"/>
            <a:chOff x="2303640" y="5048280"/>
            <a:chExt cx="6602400" cy="1448280"/>
          </a:xfrm>
        </p:grpSpPr>
        <p:sp>
          <p:nvSpPr>
            <p:cNvPr id="199" name="Text Box 21"/>
            <p:cNvSpPr/>
            <p:nvPr/>
          </p:nvSpPr>
          <p:spPr>
            <a:xfrm>
              <a:off x="2303640" y="5048280"/>
              <a:ext cx="66024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000000"/>
                  </a:solidFill>
                  <a:latin typeface="Arial Narrow"/>
                </a:rPr>
                <a:t>В новой структуре организации предусмотрен отдел маркетинга, но компетенция отдела сбыта не изменена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Text Box 22"/>
            <p:cNvSpPr/>
            <p:nvPr/>
          </p:nvSpPr>
          <p:spPr>
            <a:xfrm>
              <a:off x="2321280" y="5792760"/>
              <a:ext cx="57319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000000"/>
                  </a:solidFill>
                  <a:latin typeface="Arial Narrow"/>
                </a:rPr>
                <a:t>Производительность труда специалистов падает,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000000"/>
                  </a:solidFill>
                  <a:latin typeface="Arial Narrow"/>
                </a:rPr>
                <a:t>а заработная плата расте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78920" y="333360"/>
            <a:ext cx="8496360" cy="20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002060"/>
                </a:solidFill>
                <a:latin typeface="Times New Roman"/>
              </a:rPr>
              <a:t>Практическое задание:</a:t>
            </a:r>
            <a:br>
              <a:rPr sz="3200"/>
            </a:br>
            <a:r>
              <a:rPr b="0" lang="ru-RU" sz="3200" spc="-1" strike="noStrike">
                <a:solidFill>
                  <a:srgbClr val="002060"/>
                </a:solidFill>
                <a:latin typeface="Times New Roman"/>
              </a:rPr>
              <a:t> ФАКТОРНЫЙ АНАЛИЗ</a:t>
            </a:r>
            <a:br>
              <a:rPr sz="3200"/>
            </a:br>
            <a:br>
              <a:rPr sz="3200"/>
            </a:br>
            <a:r>
              <a:rPr b="1" lang="ru-RU" sz="1400" spc="-1" strike="noStrike">
                <a:solidFill>
                  <a:srgbClr val="002060"/>
                </a:solidFill>
                <a:latin typeface="Times New Roman"/>
              </a:rPr>
              <a:t>1. Выделите факторы внутренней и внешней среды, влияющие на управление ОО (факторы, влияющие на управленческую деятельность)</a:t>
            </a:r>
            <a:br>
              <a:rPr sz="1400"/>
            </a:br>
            <a:r>
              <a:rPr b="1" lang="ru-RU" sz="1400" spc="-1" strike="noStrike">
                <a:solidFill>
                  <a:srgbClr val="002060"/>
                </a:solidFill>
                <a:latin typeface="Times New Roman"/>
              </a:rPr>
              <a:t>2. Определите степень и характер их влияния на качество управления</a:t>
            </a:r>
            <a:br>
              <a:rPr sz="1400"/>
            </a:br>
            <a:br>
              <a:rPr sz="32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468360" y="2619360"/>
          <a:ext cx="8136000" cy="4259160"/>
        </p:xfrm>
        <a:graphic>
          <a:graphicData uri="http://schemas.openxmlformats.org/drawingml/2006/table">
            <a:tbl>
              <a:tblPr/>
              <a:tblGrid>
                <a:gridCol w="1197000"/>
                <a:gridCol w="2933640"/>
                <a:gridCol w="1531800"/>
                <a:gridCol w="1532160"/>
                <a:gridCol w="941400"/>
              </a:tblGrid>
              <a:tr h="280080">
                <a:tc rowSpan="2"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af3c7"/>
                        </a:gs>
                        <a:gs pos="100000">
                          <a:srgbClr val="ddfaed"/>
                        </a:gs>
                      </a:gsLst>
                      <a:lin ang="5400000"/>
                    </a:gradFill>
                  </a:tcPr>
                </a:tc>
                <a:tc rowSpan="2"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Факто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(Существенное обстоятельство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af3c7"/>
                        </a:gs>
                        <a:gs pos="100000">
                          <a:srgbClr val="ddfaed"/>
                        </a:gs>
                      </a:gsLst>
                      <a:lin ang="5400000"/>
                    </a:gradFill>
                  </a:tcPr>
                </a:tc>
                <a:tc gridSpan="3"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Степень влияния и характе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af3c7"/>
                        </a:gs>
                        <a:gs pos="100000">
                          <a:srgbClr val="ddfaed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39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высок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af3c7"/>
                        </a:gs>
                        <a:gs pos="100000">
                          <a:srgbClr val="ddfaed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средня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af3c7"/>
                        </a:gs>
                        <a:gs pos="100000">
                          <a:srgbClr val="ddfaed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низк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af3c7"/>
                        </a:gs>
                        <a:gs pos="100000">
                          <a:srgbClr val="ddfaed"/>
                        </a:gs>
                      </a:gsLst>
                      <a:lin ang="5400000"/>
                    </a:gradFill>
                  </a:tcPr>
                </a:tc>
              </a:tr>
              <a:tr h="16786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af3c7"/>
                        </a:gs>
                        <a:gs pos="100000">
                          <a:srgbClr val="ddfaed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af3c7"/>
                        </a:gs>
                        <a:gs pos="100000">
                          <a:srgbClr val="ddfaed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af3c7"/>
                        </a:gs>
                        <a:gs pos="100000">
                          <a:srgbClr val="ddfaed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af3c7"/>
                        </a:gs>
                        <a:gs pos="100000">
                          <a:srgbClr val="ddfaed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af3c7"/>
                        </a:gs>
                        <a:gs pos="100000">
                          <a:srgbClr val="ddfaed"/>
                        </a:gs>
                      </a:gsLst>
                      <a:lin ang="5400000"/>
                    </a:gradFill>
                  </a:tcPr>
                </a:tc>
              </a:tr>
              <a:tr h="173052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af3c7"/>
                        </a:gs>
                        <a:gs pos="100000">
                          <a:srgbClr val="ddfaed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af3c7"/>
                        </a:gs>
                        <a:gs pos="100000">
                          <a:srgbClr val="ddfaed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af3c7"/>
                        </a:gs>
                        <a:gs pos="100000">
                          <a:srgbClr val="ddfaed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af3c7"/>
                        </a:gs>
                        <a:gs pos="100000">
                          <a:srgbClr val="ddfaed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af3c7"/>
                        </a:gs>
                        <a:gs pos="100000">
                          <a:srgbClr val="ddfaed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6CDE6-F96E-419F-B510-E9F4FAD41A7F}" type="slidenum">
              <a:rPr b="0" lang="ru-RU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Text Box 2"/>
          <p:cNvSpPr/>
          <p:nvPr/>
        </p:nvSpPr>
        <p:spPr>
          <a:xfrm>
            <a:off x="1189080" y="30240"/>
            <a:ext cx="745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Метод последовательных «почему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5" name="Group 3"/>
          <p:cNvGrpSpPr/>
          <p:nvPr/>
        </p:nvGrpSpPr>
        <p:grpSpPr>
          <a:xfrm>
            <a:off x="2192400" y="2673360"/>
            <a:ext cx="6772320" cy="944280"/>
            <a:chOff x="2192400" y="2673360"/>
            <a:chExt cx="6772320" cy="944280"/>
          </a:xfrm>
        </p:grpSpPr>
        <p:sp>
          <p:nvSpPr>
            <p:cNvPr id="206" name="Text Box 4"/>
            <p:cNvSpPr/>
            <p:nvPr/>
          </p:nvSpPr>
          <p:spPr>
            <a:xfrm>
              <a:off x="2192400" y="2673360"/>
              <a:ext cx="6772320" cy="3682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 Narrow"/>
                </a:rPr>
                <a:t>6. Сложились традиции, закрепляющиеся из поколения в поколени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Text Box 5"/>
            <p:cNvSpPr/>
            <p:nvPr/>
          </p:nvSpPr>
          <p:spPr>
            <a:xfrm>
              <a:off x="2192400" y="3249360"/>
              <a:ext cx="6772320" cy="3682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 Narrow"/>
                </a:rPr>
                <a:t>7. Агрессивная реклама употребления алкоголя как элемента жизни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8" name="Group 6"/>
          <p:cNvGrpSpPr/>
          <p:nvPr/>
        </p:nvGrpSpPr>
        <p:grpSpPr>
          <a:xfrm>
            <a:off x="2192400" y="4449600"/>
            <a:ext cx="6772320" cy="1119240"/>
            <a:chOff x="2192400" y="4449600"/>
            <a:chExt cx="6772320" cy="1119240"/>
          </a:xfrm>
        </p:grpSpPr>
        <p:sp>
          <p:nvSpPr>
            <p:cNvPr id="209" name="Text Box 7"/>
            <p:cNvSpPr/>
            <p:nvPr/>
          </p:nvSpPr>
          <p:spPr>
            <a:xfrm>
              <a:off x="2192400" y="4449600"/>
              <a:ext cx="6772320" cy="5083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 Narrow"/>
                </a:rPr>
                <a:t>8. Разрушилась советская идеология воспитания молодежи как активного элемента социума ("пионер – всем ребятам пример"), но новая не была создана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Text Box 8"/>
            <p:cNvSpPr/>
            <p:nvPr/>
          </p:nvSpPr>
          <p:spPr>
            <a:xfrm>
              <a:off x="2192400" y="5200560"/>
              <a:ext cx="6772320" cy="3682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 Narrow"/>
                </a:rPr>
                <a:t>9. Активное проникновение западной молодежной культуры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1" name="Group 9"/>
          <p:cNvGrpSpPr/>
          <p:nvPr/>
        </p:nvGrpSpPr>
        <p:grpSpPr>
          <a:xfrm>
            <a:off x="1192320" y="6058080"/>
            <a:ext cx="1346040" cy="574560"/>
            <a:chOff x="1192320" y="6058080"/>
            <a:chExt cx="1346040" cy="574560"/>
          </a:xfrm>
        </p:grpSpPr>
        <p:sp>
          <p:nvSpPr>
            <p:cNvPr id="212" name="Freeform 10"/>
            <p:cNvSpPr/>
            <p:nvPr/>
          </p:nvSpPr>
          <p:spPr>
            <a:xfrm>
              <a:off x="1192320" y="6058080"/>
              <a:ext cx="330120" cy="57456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574560"/>
                <a:gd name="textAreaBottom" fmla="*/ 574920 h 574560"/>
              </a:gdLst>
              <a:ahLst/>
              <a:rect l="textAreaLeft" t="textAreaTop" r="textAreaRight" b="textAreaBottom"/>
              <a:pathLst>
                <a:path w="1080" h="1440">
                  <a:moveTo>
                    <a:pt x="0" y="0"/>
                  </a:moveTo>
                  <a:lnTo>
                    <a:pt x="0" y="1440"/>
                  </a:lnTo>
                  <a:lnTo>
                    <a:pt x="1080" y="1440"/>
                  </a:lnTo>
                </a:path>
              </a:pathLst>
            </a:custGeom>
            <a:noFill/>
            <a:ln w="19080">
              <a:solidFill>
                <a:srgbClr val="800000"/>
              </a:solidFill>
              <a:prstDash val="dash"/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Text Box 11"/>
            <p:cNvSpPr/>
            <p:nvPr/>
          </p:nvSpPr>
          <p:spPr>
            <a:xfrm>
              <a:off x="1547640" y="6129360"/>
              <a:ext cx="99072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 Narrow"/>
                </a:rPr>
                <a:t>Почему?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4" name="Group 12"/>
          <p:cNvGrpSpPr/>
          <p:nvPr/>
        </p:nvGrpSpPr>
        <p:grpSpPr>
          <a:xfrm>
            <a:off x="503280" y="1031760"/>
            <a:ext cx="2016000" cy="4918320"/>
            <a:chOff x="503280" y="1031760"/>
            <a:chExt cx="2016000" cy="4918320"/>
          </a:xfrm>
        </p:grpSpPr>
        <p:sp>
          <p:nvSpPr>
            <p:cNvPr id="215" name="Text Box 13"/>
            <p:cNvSpPr/>
            <p:nvPr/>
          </p:nvSpPr>
          <p:spPr>
            <a:xfrm>
              <a:off x="898560" y="1104840"/>
              <a:ext cx="162072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 Narrow"/>
                </a:rPr>
                <a:t>Почему?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6" name="Group 14"/>
            <p:cNvGrpSpPr/>
            <p:nvPr/>
          </p:nvGrpSpPr>
          <p:grpSpPr>
            <a:xfrm>
              <a:off x="503280" y="1031760"/>
              <a:ext cx="360360" cy="4918320"/>
              <a:chOff x="503280" y="1031760"/>
              <a:chExt cx="360360" cy="4918320"/>
            </a:xfrm>
          </p:grpSpPr>
          <p:sp>
            <p:nvSpPr>
              <p:cNvPr id="217" name="Freeform 15"/>
              <p:cNvSpPr/>
              <p:nvPr/>
            </p:nvSpPr>
            <p:spPr>
              <a:xfrm>
                <a:off x="503280" y="1031760"/>
                <a:ext cx="330120" cy="4918320"/>
              </a:xfrm>
              <a:custGeom>
                <a:avLst/>
                <a:gdLst>
                  <a:gd name="textAreaLeft" fmla="*/ 0 w 330120"/>
                  <a:gd name="textAreaRight" fmla="*/ 330480 w 330120"/>
                  <a:gd name="textAreaTop" fmla="*/ 0 h 4918320"/>
                  <a:gd name="textAreaBottom" fmla="*/ 4918680 h 4918320"/>
                </a:gdLst>
                <a:ahLst/>
                <a:rect l="textAreaLeft" t="textAreaTop" r="textAreaRight" b="textAreaBottom"/>
                <a:pathLst>
                  <a:path w="1080" h="1440">
                    <a:moveTo>
                      <a:pt x="0" y="0"/>
                    </a:moveTo>
                    <a:lnTo>
                      <a:pt x="0" y="1440"/>
                    </a:lnTo>
                    <a:lnTo>
                      <a:pt x="1080" y="1440"/>
                    </a:lnTo>
                  </a:path>
                </a:pathLst>
              </a:custGeom>
              <a:noFill/>
              <a:ln w="25560">
                <a:solidFill>
                  <a:srgbClr val="8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Line 16"/>
              <p:cNvSpPr/>
              <p:nvPr/>
            </p:nvSpPr>
            <p:spPr>
              <a:xfrm>
                <a:off x="503280" y="1573200"/>
                <a:ext cx="360360" cy="0"/>
              </a:xfrm>
              <a:prstGeom prst="line">
                <a:avLst/>
              </a:prstGeom>
              <a:ln w="22320">
                <a:solidFill>
                  <a:srgbClr val="800000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19" name="Group 17"/>
          <p:cNvGrpSpPr/>
          <p:nvPr/>
        </p:nvGrpSpPr>
        <p:grpSpPr>
          <a:xfrm>
            <a:off x="1008000" y="1717560"/>
            <a:ext cx="1386000" cy="2266920"/>
            <a:chOff x="1008000" y="1717560"/>
            <a:chExt cx="1386000" cy="2266920"/>
          </a:xfrm>
        </p:grpSpPr>
        <p:sp>
          <p:nvSpPr>
            <p:cNvPr id="220" name="Text Box 18"/>
            <p:cNvSpPr/>
            <p:nvPr/>
          </p:nvSpPr>
          <p:spPr>
            <a:xfrm>
              <a:off x="1403280" y="1752480"/>
              <a:ext cx="99072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 Narrow"/>
                </a:rPr>
                <a:t>Почему?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Freeform 19"/>
            <p:cNvSpPr/>
            <p:nvPr/>
          </p:nvSpPr>
          <p:spPr>
            <a:xfrm>
              <a:off x="1008000" y="1717560"/>
              <a:ext cx="330120" cy="226692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2266920"/>
                <a:gd name="textAreaBottom" fmla="*/ 2267280 h 2266920"/>
              </a:gdLst>
              <a:ahLst/>
              <a:rect l="textAreaLeft" t="textAreaTop" r="textAreaRight" b="textAreaBottom"/>
              <a:pathLst>
                <a:path w="1080" h="1440">
                  <a:moveTo>
                    <a:pt x="0" y="0"/>
                  </a:moveTo>
                  <a:lnTo>
                    <a:pt x="0" y="1440"/>
                  </a:lnTo>
                  <a:lnTo>
                    <a:pt x="1080" y="1440"/>
                  </a:lnTo>
                </a:path>
              </a:pathLst>
            </a:custGeom>
            <a:noFill/>
            <a:ln w="19080">
              <a:solidFill>
                <a:srgbClr val="800000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Line 20"/>
            <p:cNvSpPr/>
            <p:nvPr/>
          </p:nvSpPr>
          <p:spPr>
            <a:xfrm>
              <a:off x="1008000" y="2220840"/>
              <a:ext cx="360360" cy="0"/>
            </a:xfrm>
            <a:prstGeom prst="line">
              <a:avLst/>
            </a:prstGeom>
            <a:ln w="22320">
              <a:solidFill>
                <a:srgbClr val="8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Group 21"/>
          <p:cNvGrpSpPr/>
          <p:nvPr/>
        </p:nvGrpSpPr>
        <p:grpSpPr>
          <a:xfrm>
            <a:off x="1835280" y="4057560"/>
            <a:ext cx="1331640" cy="1336680"/>
            <a:chOff x="1835280" y="4057560"/>
            <a:chExt cx="1331640" cy="1336680"/>
          </a:xfrm>
        </p:grpSpPr>
        <p:sp>
          <p:nvSpPr>
            <p:cNvPr id="224" name="Text Box 22"/>
            <p:cNvSpPr/>
            <p:nvPr/>
          </p:nvSpPr>
          <p:spPr>
            <a:xfrm>
              <a:off x="2174760" y="4173480"/>
              <a:ext cx="99216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 Narrow"/>
                </a:rPr>
                <a:t>Почему?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Freeform 23"/>
            <p:cNvSpPr/>
            <p:nvPr/>
          </p:nvSpPr>
          <p:spPr>
            <a:xfrm>
              <a:off x="1836720" y="4057560"/>
              <a:ext cx="325440" cy="1336680"/>
            </a:xfrm>
            <a:custGeom>
              <a:avLst/>
              <a:gdLst>
                <a:gd name="textAreaLeft" fmla="*/ 0 w 325440"/>
                <a:gd name="textAreaRight" fmla="*/ 325440 w 325440"/>
                <a:gd name="textAreaTop" fmla="*/ 0 h 1336680"/>
                <a:gd name="textAreaBottom" fmla="*/ 1337040 h 1336680"/>
              </a:gdLst>
              <a:ahLst/>
              <a:rect l="textAreaLeft" t="textAreaTop" r="textAreaRight" b="textAreaBottom"/>
              <a:pathLst>
                <a:path w="1080" h="1440">
                  <a:moveTo>
                    <a:pt x="0" y="0"/>
                  </a:moveTo>
                  <a:lnTo>
                    <a:pt x="0" y="1440"/>
                  </a:lnTo>
                  <a:lnTo>
                    <a:pt x="1080" y="1440"/>
                  </a:lnTo>
                </a:path>
              </a:pathLst>
            </a:custGeom>
            <a:noFill/>
            <a:ln w="19080">
              <a:solidFill>
                <a:srgbClr val="800000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24"/>
            <p:cNvSpPr/>
            <p:nvPr/>
          </p:nvSpPr>
          <p:spPr>
            <a:xfrm>
              <a:off x="1835280" y="4741920"/>
              <a:ext cx="360360" cy="0"/>
            </a:xfrm>
            <a:prstGeom prst="line">
              <a:avLst/>
            </a:prstGeom>
            <a:ln w="22320">
              <a:solidFill>
                <a:srgbClr val="8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7" name="Group 25"/>
          <p:cNvGrpSpPr/>
          <p:nvPr/>
        </p:nvGrpSpPr>
        <p:grpSpPr>
          <a:xfrm>
            <a:off x="1835280" y="2384280"/>
            <a:ext cx="1331640" cy="1042920"/>
            <a:chOff x="1835280" y="2384280"/>
            <a:chExt cx="1331640" cy="1042920"/>
          </a:xfrm>
        </p:grpSpPr>
        <p:sp>
          <p:nvSpPr>
            <p:cNvPr id="228" name="Text Box 26"/>
            <p:cNvSpPr/>
            <p:nvPr/>
          </p:nvSpPr>
          <p:spPr>
            <a:xfrm>
              <a:off x="2174760" y="2419200"/>
              <a:ext cx="992160" cy="24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 Narrow"/>
                </a:rPr>
                <a:t>Почему?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Freeform 27"/>
            <p:cNvSpPr/>
            <p:nvPr/>
          </p:nvSpPr>
          <p:spPr>
            <a:xfrm>
              <a:off x="1835280" y="2384280"/>
              <a:ext cx="330120" cy="104292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1042920"/>
                <a:gd name="textAreaBottom" fmla="*/ 1043280 h 1042920"/>
              </a:gdLst>
              <a:ahLst/>
              <a:rect l="textAreaLeft" t="textAreaTop" r="textAreaRight" b="textAreaBottom"/>
              <a:pathLst>
                <a:path w="1080" h="1440">
                  <a:moveTo>
                    <a:pt x="0" y="0"/>
                  </a:moveTo>
                  <a:lnTo>
                    <a:pt x="0" y="1440"/>
                  </a:lnTo>
                  <a:lnTo>
                    <a:pt x="1080" y="1440"/>
                  </a:lnTo>
                </a:path>
              </a:pathLst>
            </a:custGeom>
            <a:noFill/>
            <a:ln w="19080">
              <a:solidFill>
                <a:srgbClr val="800000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28"/>
            <p:cNvSpPr/>
            <p:nvPr/>
          </p:nvSpPr>
          <p:spPr>
            <a:xfrm>
              <a:off x="1835280" y="2850840"/>
              <a:ext cx="360360" cy="0"/>
            </a:xfrm>
            <a:prstGeom prst="line">
              <a:avLst/>
            </a:prstGeom>
            <a:ln w="22320">
              <a:solidFill>
                <a:srgbClr val="8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Group 30"/>
          <p:cNvGrpSpPr/>
          <p:nvPr/>
        </p:nvGrpSpPr>
        <p:grpSpPr>
          <a:xfrm>
            <a:off x="861840" y="1384200"/>
            <a:ext cx="7928280" cy="4761000"/>
            <a:chOff x="861840" y="1384200"/>
            <a:chExt cx="7928280" cy="4761000"/>
          </a:xfrm>
        </p:grpSpPr>
        <p:sp>
          <p:nvSpPr>
            <p:cNvPr id="232" name="Text Box 31"/>
            <p:cNvSpPr/>
            <p:nvPr/>
          </p:nvSpPr>
          <p:spPr>
            <a:xfrm>
              <a:off x="861840" y="1384200"/>
              <a:ext cx="7526520" cy="3682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0" lang="ru-RU" sz="1600" spc="-1" strike="noStrike">
                  <a:solidFill>
                    <a:srgbClr val="000000"/>
                  </a:solidFill>
                  <a:latin typeface="Arial Narrow"/>
                </a:rPr>
                <a:t>2. Население злоупотребляет алкоголем, молодежь употребляет наркотики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Text Box 32"/>
            <p:cNvSpPr/>
            <p:nvPr/>
          </p:nvSpPr>
          <p:spPr>
            <a:xfrm>
              <a:off x="861840" y="5776920"/>
              <a:ext cx="7928280" cy="3682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0" lang="ru-RU" sz="1600" spc="-1" strike="noStrike">
                  <a:solidFill>
                    <a:srgbClr val="000000"/>
                  </a:solidFill>
                  <a:latin typeface="Arial Narrow"/>
                </a:rPr>
                <a:t>3. Услуги здравоохранения не оказываются на должном уровне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Text Box 33"/>
          <p:cNvSpPr/>
          <p:nvPr/>
        </p:nvSpPr>
        <p:spPr>
          <a:xfrm>
            <a:off x="366840" y="728640"/>
            <a:ext cx="7205400" cy="34308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1. Высокий уровень смертности насел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5" name="Group 34"/>
          <p:cNvGrpSpPr/>
          <p:nvPr/>
        </p:nvGrpSpPr>
        <p:grpSpPr>
          <a:xfrm>
            <a:off x="1357200" y="2021040"/>
            <a:ext cx="6607440" cy="4792680"/>
            <a:chOff x="1357200" y="2021040"/>
            <a:chExt cx="6607440" cy="4792680"/>
          </a:xfrm>
        </p:grpSpPr>
        <p:sp>
          <p:nvSpPr>
            <p:cNvPr id="236" name="Text Box 35"/>
            <p:cNvSpPr/>
            <p:nvPr/>
          </p:nvSpPr>
          <p:spPr>
            <a:xfrm>
              <a:off x="1522440" y="6445440"/>
              <a:ext cx="478944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 Narrow"/>
                </a:rPr>
                <a:t>…………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Text Box 36"/>
            <p:cNvSpPr/>
            <p:nvPr/>
          </p:nvSpPr>
          <p:spPr>
            <a:xfrm>
              <a:off x="1357200" y="2021040"/>
              <a:ext cx="4789440" cy="36648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 Narrow"/>
                </a:rPr>
                <a:t>4. Пьянство – устоявшийся вид отдыха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Text Box 37"/>
            <p:cNvSpPr/>
            <p:nvPr/>
          </p:nvSpPr>
          <p:spPr>
            <a:xfrm>
              <a:off x="1357200" y="3781440"/>
              <a:ext cx="6607440" cy="36828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 Narrow"/>
                </a:rPr>
                <a:t>5. Наркотики закрепляются как элемент молодежной культуры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81B94-2017-42A3-BD7F-150D3E1F78E6}" type="slidenum">
              <a:rPr b="0" lang="ru-RU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 Box 2"/>
          <p:cNvSpPr/>
          <p:nvPr/>
        </p:nvSpPr>
        <p:spPr>
          <a:xfrm>
            <a:off x="179280" y="30240"/>
            <a:ext cx="8785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 Narrow"/>
              </a:rPr>
              <a:t>Метод последовательных «почему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Практическое задание (раздаточный материал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1" name="Group 3"/>
          <p:cNvGrpSpPr/>
          <p:nvPr/>
        </p:nvGrpSpPr>
        <p:grpSpPr>
          <a:xfrm>
            <a:off x="2192400" y="2673360"/>
            <a:ext cx="6772320" cy="944280"/>
            <a:chOff x="2192400" y="2673360"/>
            <a:chExt cx="6772320" cy="944280"/>
          </a:xfrm>
        </p:grpSpPr>
        <p:sp>
          <p:nvSpPr>
            <p:cNvPr id="242" name="Text Box 4"/>
            <p:cNvSpPr/>
            <p:nvPr/>
          </p:nvSpPr>
          <p:spPr>
            <a:xfrm>
              <a:off x="2192400" y="2673360"/>
              <a:ext cx="6772320" cy="3682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 Narrow"/>
                </a:rPr>
                <a:t>6.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Text Box 5"/>
            <p:cNvSpPr/>
            <p:nvPr/>
          </p:nvSpPr>
          <p:spPr>
            <a:xfrm>
              <a:off x="2192400" y="3249360"/>
              <a:ext cx="6772320" cy="3682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 Narrow"/>
                </a:rPr>
                <a:t>7.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Group 6"/>
          <p:cNvGrpSpPr/>
          <p:nvPr/>
        </p:nvGrpSpPr>
        <p:grpSpPr>
          <a:xfrm>
            <a:off x="2192400" y="4449600"/>
            <a:ext cx="6772320" cy="1119240"/>
            <a:chOff x="2192400" y="4449600"/>
            <a:chExt cx="6772320" cy="1119240"/>
          </a:xfrm>
        </p:grpSpPr>
        <p:sp>
          <p:nvSpPr>
            <p:cNvPr id="245" name="Text Box 7"/>
            <p:cNvSpPr/>
            <p:nvPr/>
          </p:nvSpPr>
          <p:spPr>
            <a:xfrm>
              <a:off x="2192400" y="4449600"/>
              <a:ext cx="6772320" cy="5083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 Narrow"/>
                </a:rPr>
                <a:t>8.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Text Box 8"/>
            <p:cNvSpPr/>
            <p:nvPr/>
          </p:nvSpPr>
          <p:spPr>
            <a:xfrm>
              <a:off x="2192400" y="5200560"/>
              <a:ext cx="6772320" cy="3682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 Narrow"/>
                </a:rPr>
                <a:t>9.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Group 9"/>
          <p:cNvGrpSpPr/>
          <p:nvPr/>
        </p:nvGrpSpPr>
        <p:grpSpPr>
          <a:xfrm>
            <a:off x="1192320" y="6058080"/>
            <a:ext cx="1346040" cy="574560"/>
            <a:chOff x="1192320" y="6058080"/>
            <a:chExt cx="1346040" cy="574560"/>
          </a:xfrm>
        </p:grpSpPr>
        <p:sp>
          <p:nvSpPr>
            <p:cNvPr id="248" name="Freeform 10"/>
            <p:cNvSpPr/>
            <p:nvPr/>
          </p:nvSpPr>
          <p:spPr>
            <a:xfrm>
              <a:off x="1192320" y="6058080"/>
              <a:ext cx="330120" cy="57456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574560"/>
                <a:gd name="textAreaBottom" fmla="*/ 574920 h 574560"/>
              </a:gdLst>
              <a:ahLst/>
              <a:rect l="textAreaLeft" t="textAreaTop" r="textAreaRight" b="textAreaBottom"/>
              <a:pathLst>
                <a:path w="1080" h="1440">
                  <a:moveTo>
                    <a:pt x="0" y="0"/>
                  </a:moveTo>
                  <a:lnTo>
                    <a:pt x="0" y="1440"/>
                  </a:lnTo>
                  <a:lnTo>
                    <a:pt x="1080" y="1440"/>
                  </a:lnTo>
                </a:path>
              </a:pathLst>
            </a:custGeom>
            <a:noFill/>
            <a:ln w="19080">
              <a:solidFill>
                <a:srgbClr val="800000"/>
              </a:solidFill>
              <a:prstDash val="dash"/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Text Box 11"/>
            <p:cNvSpPr/>
            <p:nvPr/>
          </p:nvSpPr>
          <p:spPr>
            <a:xfrm>
              <a:off x="1547640" y="6129360"/>
              <a:ext cx="99072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 Narrow"/>
                </a:rPr>
                <a:t>Почему?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0" name="Group 12"/>
          <p:cNvGrpSpPr/>
          <p:nvPr/>
        </p:nvGrpSpPr>
        <p:grpSpPr>
          <a:xfrm>
            <a:off x="503280" y="1031760"/>
            <a:ext cx="2016000" cy="4918320"/>
            <a:chOff x="503280" y="1031760"/>
            <a:chExt cx="2016000" cy="4918320"/>
          </a:xfrm>
        </p:grpSpPr>
        <p:sp>
          <p:nvSpPr>
            <p:cNvPr id="251" name="Text Box 13"/>
            <p:cNvSpPr/>
            <p:nvPr/>
          </p:nvSpPr>
          <p:spPr>
            <a:xfrm>
              <a:off x="898560" y="1104840"/>
              <a:ext cx="162072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 Narrow"/>
                </a:rPr>
                <a:t>Почему?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2" name="Group 14"/>
            <p:cNvGrpSpPr/>
            <p:nvPr/>
          </p:nvGrpSpPr>
          <p:grpSpPr>
            <a:xfrm>
              <a:off x="503280" y="1031760"/>
              <a:ext cx="360360" cy="4918320"/>
              <a:chOff x="503280" y="1031760"/>
              <a:chExt cx="360360" cy="4918320"/>
            </a:xfrm>
          </p:grpSpPr>
          <p:sp>
            <p:nvSpPr>
              <p:cNvPr id="253" name="Freeform 15"/>
              <p:cNvSpPr/>
              <p:nvPr/>
            </p:nvSpPr>
            <p:spPr>
              <a:xfrm>
                <a:off x="503280" y="1031760"/>
                <a:ext cx="330120" cy="4918320"/>
              </a:xfrm>
              <a:custGeom>
                <a:avLst/>
                <a:gdLst>
                  <a:gd name="textAreaLeft" fmla="*/ 0 w 330120"/>
                  <a:gd name="textAreaRight" fmla="*/ 330480 w 330120"/>
                  <a:gd name="textAreaTop" fmla="*/ 0 h 4918320"/>
                  <a:gd name="textAreaBottom" fmla="*/ 4918680 h 4918320"/>
                </a:gdLst>
                <a:ahLst/>
                <a:rect l="textAreaLeft" t="textAreaTop" r="textAreaRight" b="textAreaBottom"/>
                <a:pathLst>
                  <a:path w="1080" h="1440">
                    <a:moveTo>
                      <a:pt x="0" y="0"/>
                    </a:moveTo>
                    <a:lnTo>
                      <a:pt x="0" y="1440"/>
                    </a:lnTo>
                    <a:lnTo>
                      <a:pt x="1080" y="1440"/>
                    </a:lnTo>
                  </a:path>
                </a:pathLst>
              </a:custGeom>
              <a:noFill/>
              <a:ln w="25560">
                <a:solidFill>
                  <a:srgbClr val="8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Line 16"/>
              <p:cNvSpPr/>
              <p:nvPr/>
            </p:nvSpPr>
            <p:spPr>
              <a:xfrm>
                <a:off x="503280" y="1573200"/>
                <a:ext cx="360360" cy="0"/>
              </a:xfrm>
              <a:prstGeom prst="line">
                <a:avLst/>
              </a:prstGeom>
              <a:ln w="22320">
                <a:solidFill>
                  <a:srgbClr val="800000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55" name="Group 17"/>
          <p:cNvGrpSpPr/>
          <p:nvPr/>
        </p:nvGrpSpPr>
        <p:grpSpPr>
          <a:xfrm>
            <a:off x="1008000" y="1717560"/>
            <a:ext cx="1386000" cy="2266920"/>
            <a:chOff x="1008000" y="1717560"/>
            <a:chExt cx="1386000" cy="2266920"/>
          </a:xfrm>
        </p:grpSpPr>
        <p:sp>
          <p:nvSpPr>
            <p:cNvPr id="256" name="Text Box 18"/>
            <p:cNvSpPr/>
            <p:nvPr/>
          </p:nvSpPr>
          <p:spPr>
            <a:xfrm>
              <a:off x="1403280" y="1752480"/>
              <a:ext cx="99072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 Narrow"/>
                </a:rPr>
                <a:t>Почему?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Freeform 19"/>
            <p:cNvSpPr/>
            <p:nvPr/>
          </p:nvSpPr>
          <p:spPr>
            <a:xfrm>
              <a:off x="1008000" y="1717560"/>
              <a:ext cx="330120" cy="226692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2266920"/>
                <a:gd name="textAreaBottom" fmla="*/ 2267280 h 2266920"/>
              </a:gdLst>
              <a:ahLst/>
              <a:rect l="textAreaLeft" t="textAreaTop" r="textAreaRight" b="textAreaBottom"/>
              <a:pathLst>
                <a:path w="1080" h="1440">
                  <a:moveTo>
                    <a:pt x="0" y="0"/>
                  </a:moveTo>
                  <a:lnTo>
                    <a:pt x="0" y="1440"/>
                  </a:lnTo>
                  <a:lnTo>
                    <a:pt x="1080" y="1440"/>
                  </a:lnTo>
                </a:path>
              </a:pathLst>
            </a:custGeom>
            <a:noFill/>
            <a:ln w="19080">
              <a:solidFill>
                <a:srgbClr val="800000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20"/>
            <p:cNvSpPr/>
            <p:nvPr/>
          </p:nvSpPr>
          <p:spPr>
            <a:xfrm>
              <a:off x="1008000" y="2220840"/>
              <a:ext cx="360360" cy="0"/>
            </a:xfrm>
            <a:prstGeom prst="line">
              <a:avLst/>
            </a:prstGeom>
            <a:ln w="22320">
              <a:solidFill>
                <a:srgbClr val="8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9" name="Group 21"/>
          <p:cNvGrpSpPr/>
          <p:nvPr/>
        </p:nvGrpSpPr>
        <p:grpSpPr>
          <a:xfrm>
            <a:off x="1835280" y="4057560"/>
            <a:ext cx="1331640" cy="1336680"/>
            <a:chOff x="1835280" y="4057560"/>
            <a:chExt cx="1331640" cy="1336680"/>
          </a:xfrm>
        </p:grpSpPr>
        <p:sp>
          <p:nvSpPr>
            <p:cNvPr id="260" name="Text Box 22"/>
            <p:cNvSpPr/>
            <p:nvPr/>
          </p:nvSpPr>
          <p:spPr>
            <a:xfrm>
              <a:off x="2174760" y="4173480"/>
              <a:ext cx="99216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 Narrow"/>
                </a:rPr>
                <a:t>Почему?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Freeform 23"/>
            <p:cNvSpPr/>
            <p:nvPr/>
          </p:nvSpPr>
          <p:spPr>
            <a:xfrm>
              <a:off x="1836720" y="4057560"/>
              <a:ext cx="325440" cy="1336680"/>
            </a:xfrm>
            <a:custGeom>
              <a:avLst/>
              <a:gdLst>
                <a:gd name="textAreaLeft" fmla="*/ 0 w 325440"/>
                <a:gd name="textAreaRight" fmla="*/ 325440 w 325440"/>
                <a:gd name="textAreaTop" fmla="*/ 0 h 1336680"/>
                <a:gd name="textAreaBottom" fmla="*/ 1337040 h 1336680"/>
              </a:gdLst>
              <a:ahLst/>
              <a:rect l="textAreaLeft" t="textAreaTop" r="textAreaRight" b="textAreaBottom"/>
              <a:pathLst>
                <a:path w="1080" h="1440">
                  <a:moveTo>
                    <a:pt x="0" y="0"/>
                  </a:moveTo>
                  <a:lnTo>
                    <a:pt x="0" y="1440"/>
                  </a:lnTo>
                  <a:lnTo>
                    <a:pt x="1080" y="1440"/>
                  </a:lnTo>
                </a:path>
              </a:pathLst>
            </a:custGeom>
            <a:noFill/>
            <a:ln w="19080">
              <a:solidFill>
                <a:srgbClr val="800000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24"/>
            <p:cNvSpPr/>
            <p:nvPr/>
          </p:nvSpPr>
          <p:spPr>
            <a:xfrm>
              <a:off x="1835280" y="4741920"/>
              <a:ext cx="360360" cy="0"/>
            </a:xfrm>
            <a:prstGeom prst="line">
              <a:avLst/>
            </a:prstGeom>
            <a:ln w="22320">
              <a:solidFill>
                <a:srgbClr val="8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3" name="Group 25"/>
          <p:cNvGrpSpPr/>
          <p:nvPr/>
        </p:nvGrpSpPr>
        <p:grpSpPr>
          <a:xfrm>
            <a:off x="1835280" y="2384280"/>
            <a:ext cx="1331640" cy="1042920"/>
            <a:chOff x="1835280" y="2384280"/>
            <a:chExt cx="1331640" cy="1042920"/>
          </a:xfrm>
        </p:grpSpPr>
        <p:sp>
          <p:nvSpPr>
            <p:cNvPr id="264" name="Text Box 26"/>
            <p:cNvSpPr/>
            <p:nvPr/>
          </p:nvSpPr>
          <p:spPr>
            <a:xfrm>
              <a:off x="2174760" y="2419200"/>
              <a:ext cx="992160" cy="24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 Narrow"/>
                </a:rPr>
                <a:t>Почему?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Freeform 27"/>
            <p:cNvSpPr/>
            <p:nvPr/>
          </p:nvSpPr>
          <p:spPr>
            <a:xfrm>
              <a:off x="1835280" y="2384280"/>
              <a:ext cx="330120" cy="104292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1042920"/>
                <a:gd name="textAreaBottom" fmla="*/ 1043280 h 1042920"/>
              </a:gdLst>
              <a:ahLst/>
              <a:rect l="textAreaLeft" t="textAreaTop" r="textAreaRight" b="textAreaBottom"/>
              <a:pathLst>
                <a:path w="1080" h="1440">
                  <a:moveTo>
                    <a:pt x="0" y="0"/>
                  </a:moveTo>
                  <a:lnTo>
                    <a:pt x="0" y="1440"/>
                  </a:lnTo>
                  <a:lnTo>
                    <a:pt x="1080" y="1440"/>
                  </a:lnTo>
                </a:path>
              </a:pathLst>
            </a:custGeom>
            <a:noFill/>
            <a:ln w="19080">
              <a:solidFill>
                <a:srgbClr val="800000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28"/>
            <p:cNvSpPr/>
            <p:nvPr/>
          </p:nvSpPr>
          <p:spPr>
            <a:xfrm>
              <a:off x="1835280" y="2850840"/>
              <a:ext cx="360360" cy="0"/>
            </a:xfrm>
            <a:prstGeom prst="line">
              <a:avLst/>
            </a:prstGeom>
            <a:ln w="22320">
              <a:solidFill>
                <a:srgbClr val="8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30"/>
          <p:cNvGrpSpPr/>
          <p:nvPr/>
        </p:nvGrpSpPr>
        <p:grpSpPr>
          <a:xfrm>
            <a:off x="887400" y="1297080"/>
            <a:ext cx="7927920" cy="4761000"/>
            <a:chOff x="887400" y="1297080"/>
            <a:chExt cx="7927920" cy="4761000"/>
          </a:xfrm>
        </p:grpSpPr>
        <p:sp>
          <p:nvSpPr>
            <p:cNvPr id="268" name="Text Box 31"/>
            <p:cNvSpPr/>
            <p:nvPr/>
          </p:nvSpPr>
          <p:spPr>
            <a:xfrm>
              <a:off x="887400" y="1297080"/>
              <a:ext cx="7526160" cy="3682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0" lang="ru-RU" sz="1600" spc="-1" strike="noStrike">
                  <a:solidFill>
                    <a:srgbClr val="000000"/>
                  </a:solidFill>
                  <a:latin typeface="Arial Narrow"/>
                </a:rPr>
                <a:t>2.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Text Box 32"/>
            <p:cNvSpPr/>
            <p:nvPr/>
          </p:nvSpPr>
          <p:spPr>
            <a:xfrm>
              <a:off x="887400" y="5689800"/>
              <a:ext cx="7927920" cy="3682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0" lang="ru-RU" sz="1600" spc="-1" strike="noStrike">
                  <a:solidFill>
                    <a:srgbClr val="000000"/>
                  </a:solidFill>
                  <a:latin typeface="Arial Narrow"/>
                </a:rPr>
                <a:t>3.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Text Box 33"/>
          <p:cNvSpPr/>
          <p:nvPr/>
        </p:nvSpPr>
        <p:spPr>
          <a:xfrm>
            <a:off x="366840" y="728640"/>
            <a:ext cx="7205400" cy="34308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1" name="Group 34"/>
          <p:cNvGrpSpPr/>
          <p:nvPr/>
        </p:nvGrpSpPr>
        <p:grpSpPr>
          <a:xfrm>
            <a:off x="1357200" y="2021040"/>
            <a:ext cx="6607440" cy="4792680"/>
            <a:chOff x="1357200" y="2021040"/>
            <a:chExt cx="6607440" cy="4792680"/>
          </a:xfrm>
        </p:grpSpPr>
        <p:sp>
          <p:nvSpPr>
            <p:cNvPr id="272" name="Text Box 35"/>
            <p:cNvSpPr/>
            <p:nvPr/>
          </p:nvSpPr>
          <p:spPr>
            <a:xfrm>
              <a:off x="1522440" y="6445440"/>
              <a:ext cx="478944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 Narrow"/>
                </a:rPr>
                <a:t>…………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Text Box 36"/>
            <p:cNvSpPr/>
            <p:nvPr/>
          </p:nvSpPr>
          <p:spPr>
            <a:xfrm>
              <a:off x="1357200" y="2021040"/>
              <a:ext cx="4789440" cy="36648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 Narrow"/>
                </a:rPr>
                <a:t>4.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Text Box 37"/>
            <p:cNvSpPr/>
            <p:nvPr/>
          </p:nvSpPr>
          <p:spPr>
            <a:xfrm>
              <a:off x="1357200" y="3781440"/>
              <a:ext cx="6607440" cy="36828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 Narrow"/>
                </a:rPr>
                <a:t>5.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500"/>
                            </p:stCondLst>
                            <p:childTnLst>
                              <p:par>
                                <p:cTn id="192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Text Box 2"/>
          <p:cNvSpPr/>
          <p:nvPr/>
        </p:nvSpPr>
        <p:spPr>
          <a:xfrm>
            <a:off x="0" y="3024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пределение связей между проблемам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6" name="Picture 3" descr="Связи"/>
          <p:cNvPicPr/>
          <p:nvPr/>
        </p:nvPicPr>
        <p:blipFill>
          <a:blip r:embed="rId1"/>
          <a:stretch/>
        </p:blipFill>
        <p:spPr>
          <a:xfrm>
            <a:off x="1519200" y="1123920"/>
            <a:ext cx="610560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24000" y="304560"/>
            <a:ext cx="84247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сезнание уму не научает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Ломоносов М.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Object 3" descr=""/>
          <p:cNvPicPr/>
          <p:nvPr/>
        </p:nvPicPr>
        <p:blipFill>
          <a:blip r:embed="rId1"/>
          <a:stretch/>
        </p:blipFill>
        <p:spPr>
          <a:xfrm>
            <a:off x="1905120" y="1981080"/>
            <a:ext cx="5029200" cy="450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78920" y="304560"/>
            <a:ext cx="69073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лгоритм построения модели анализ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57200" y="1447560"/>
            <a:ext cx="8578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ределение цели анали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нкретизация (выделение предмет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работка измерителей, определение инструментов, которые будут использоваться на этапе сбора и обработки дан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ределение последовательности шагов и построение плана рабо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учение реальной ситу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равнение реальной ситуации с эталоном (соотнесение с целью), оценка, обработка результа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ормулирование вывод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9" name="Object 2"/>
          <p:cNvGraphicFramePr/>
          <p:nvPr/>
        </p:nvGraphicFramePr>
        <p:xfrm>
          <a:off x="1828800" y="990720"/>
          <a:ext cx="5486400" cy="5333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990720"/>
                    <a:ext cx="5486400" cy="533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1" name="Object 3"/>
          <p:cNvGraphicFramePr/>
          <p:nvPr/>
        </p:nvGraphicFramePr>
        <p:xfrm>
          <a:off x="906480" y="228600"/>
          <a:ext cx="2438280" cy="6019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2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06480" y="228600"/>
                    <a:ext cx="2438280" cy="601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3" name="Object 4"/>
          <p:cNvGraphicFramePr/>
          <p:nvPr/>
        </p:nvGraphicFramePr>
        <p:xfrm>
          <a:off x="914400" y="1219320"/>
          <a:ext cx="7618320" cy="4724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84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914400" y="1219320"/>
                    <a:ext cx="761832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371600" y="2806200"/>
            <a:ext cx="6781680" cy="129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ЧТО ТАКОЕ ЦЕЛЬ?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52440" y="4419360"/>
            <a:ext cx="837072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Ц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ЕЛ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- это конечный желаемый результа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планируемый результат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7" name="Object 3" descr=""/>
          <p:cNvPicPr/>
          <p:nvPr/>
        </p:nvPicPr>
        <p:blipFill>
          <a:blip r:embed="rId1"/>
          <a:stretch/>
        </p:blipFill>
        <p:spPr>
          <a:xfrm>
            <a:off x="2808360" y="798480"/>
            <a:ext cx="3778200" cy="34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2050920" y="1268280"/>
            <a:ext cx="6593040" cy="147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и один ветер не является попутным для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рабля, который не знает пункта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воего назначения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ене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9" name="Object 3"/>
          <p:cNvGraphicFramePr/>
          <p:nvPr/>
        </p:nvGraphicFramePr>
        <p:xfrm>
          <a:off x="324000" y="1197000"/>
          <a:ext cx="8076960" cy="546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197000"/>
                    <a:ext cx="8076960" cy="546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1" name="Rectangle 4"/>
          <p:cNvSpPr/>
          <p:nvPr/>
        </p:nvSpPr>
        <p:spPr>
          <a:xfrm>
            <a:off x="5396040" y="2498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39640" y="458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ом Хопкинс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6840" y="199512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Планируйте свое будуще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вместо того, чтобы волноваться за него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Picture 5" descr="http://www.hdoboi.org/pic/201307/1024x600/hdoboi.org-8712.jpg"/>
          <p:cNvPicPr/>
          <p:nvPr/>
        </p:nvPicPr>
        <p:blipFill>
          <a:blip r:embed="rId1"/>
          <a:stretch/>
        </p:blipFill>
        <p:spPr>
          <a:xfrm>
            <a:off x="5791320" y="98280"/>
            <a:ext cx="322560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380880" y="1447920"/>
            <a:ext cx="87631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Если Вы хотите получить посредственные результаты, то установите посредственные цели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400"/>
            </a:br>
            <a:br>
              <a:rPr sz="3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А. Томпсон, А.ДЖ. Стрикленд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тратегический менеджмен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6" name="Object 3" descr=""/>
          <p:cNvPicPr/>
          <p:nvPr/>
        </p:nvPicPr>
        <p:blipFill>
          <a:blip r:embed="rId1"/>
          <a:stretch/>
        </p:blipFill>
        <p:spPr>
          <a:xfrm>
            <a:off x="2467080" y="3886200"/>
            <a:ext cx="1317600" cy="2755800"/>
          </a:xfrm>
          <a:prstGeom prst="rect">
            <a:avLst/>
          </a:prstGeom>
          <a:ln w="0">
            <a:noFill/>
          </a:ln>
        </p:spPr>
      </p:pic>
      <p:sp>
        <p:nvSpPr>
          <p:cNvPr id="297" name="Freeform 4"/>
          <p:cNvSpPr/>
          <p:nvPr/>
        </p:nvSpPr>
        <p:spPr>
          <a:xfrm>
            <a:off x="5219640" y="2781360"/>
            <a:ext cx="3657600" cy="3733920"/>
          </a:xfrm>
          <a:custGeom>
            <a:avLst/>
            <a:gdLst>
              <a:gd name="textAreaLeft" fmla="*/ 0 w 3657600"/>
              <a:gd name="textAreaRight" fmla="*/ 3657960 w 3657600"/>
              <a:gd name="textAreaTop" fmla="*/ 0 h 3733920"/>
              <a:gd name="textAreaBottom" fmla="*/ 3734280 h 3733920"/>
            </a:gdLst>
            <a:ahLst/>
            <a:rect l="textAreaLeft" t="textAreaTop" r="textAreaRight" b="textAreaBottom"/>
            <a:pathLst>
              <a:path w="1211" h="1159">
                <a:moveTo>
                  <a:pt x="0" y="147"/>
                </a:moveTo>
                <a:lnTo>
                  <a:pt x="125" y="1159"/>
                </a:lnTo>
                <a:lnTo>
                  <a:pt x="1211" y="1048"/>
                </a:lnTo>
                <a:lnTo>
                  <a:pt x="1136" y="0"/>
                </a:lnTo>
                <a:lnTo>
                  <a:pt x="0" y="147"/>
                </a:lnTo>
                <a:close/>
              </a:path>
            </a:pathLst>
          </a:custGeom>
          <a:solidFill>
            <a:srgbClr val="82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Freeform 5"/>
          <p:cNvSpPr/>
          <p:nvPr/>
        </p:nvSpPr>
        <p:spPr>
          <a:xfrm>
            <a:off x="5249880" y="3413160"/>
            <a:ext cx="3124080" cy="2271600"/>
          </a:xfrm>
          <a:custGeom>
            <a:avLst/>
            <a:gdLst>
              <a:gd name="textAreaLeft" fmla="*/ 0 w 3124080"/>
              <a:gd name="textAreaRight" fmla="*/ 3124440 w 3124080"/>
              <a:gd name="textAreaTop" fmla="*/ 0 h 2271600"/>
              <a:gd name="textAreaBottom" fmla="*/ 2271960 h 2271600"/>
            </a:gdLst>
            <a:ahLst/>
            <a:rect l="textAreaLeft" t="textAreaTop" r="textAreaRight" b="textAreaBottom"/>
            <a:pathLst>
              <a:path w="1403" h="1062">
                <a:moveTo>
                  <a:pt x="1394" y="999"/>
                </a:moveTo>
                <a:lnTo>
                  <a:pt x="1090" y="677"/>
                </a:lnTo>
                <a:lnTo>
                  <a:pt x="1064" y="648"/>
                </a:lnTo>
                <a:lnTo>
                  <a:pt x="1037" y="679"/>
                </a:lnTo>
                <a:lnTo>
                  <a:pt x="980" y="742"/>
                </a:lnTo>
                <a:lnTo>
                  <a:pt x="960" y="722"/>
                </a:lnTo>
                <a:lnTo>
                  <a:pt x="939" y="698"/>
                </a:lnTo>
                <a:lnTo>
                  <a:pt x="912" y="720"/>
                </a:lnTo>
                <a:lnTo>
                  <a:pt x="903" y="727"/>
                </a:lnTo>
                <a:lnTo>
                  <a:pt x="720" y="356"/>
                </a:lnTo>
                <a:lnTo>
                  <a:pt x="698" y="313"/>
                </a:lnTo>
                <a:lnTo>
                  <a:pt x="662" y="344"/>
                </a:lnTo>
                <a:lnTo>
                  <a:pt x="623" y="378"/>
                </a:lnTo>
                <a:lnTo>
                  <a:pt x="433" y="58"/>
                </a:lnTo>
                <a:lnTo>
                  <a:pt x="400" y="0"/>
                </a:lnTo>
                <a:lnTo>
                  <a:pt x="368" y="60"/>
                </a:lnTo>
                <a:lnTo>
                  <a:pt x="308" y="180"/>
                </a:lnTo>
                <a:lnTo>
                  <a:pt x="231" y="33"/>
                </a:lnTo>
                <a:lnTo>
                  <a:pt x="214" y="0"/>
                </a:lnTo>
                <a:lnTo>
                  <a:pt x="181" y="17"/>
                </a:lnTo>
                <a:lnTo>
                  <a:pt x="19" y="108"/>
                </a:lnTo>
                <a:lnTo>
                  <a:pt x="7" y="118"/>
                </a:lnTo>
                <a:lnTo>
                  <a:pt x="3" y="132"/>
                </a:lnTo>
                <a:lnTo>
                  <a:pt x="0" y="144"/>
                </a:lnTo>
                <a:lnTo>
                  <a:pt x="5" y="159"/>
                </a:lnTo>
                <a:lnTo>
                  <a:pt x="15" y="171"/>
                </a:lnTo>
                <a:lnTo>
                  <a:pt x="27" y="176"/>
                </a:lnTo>
                <a:lnTo>
                  <a:pt x="41" y="178"/>
                </a:lnTo>
                <a:lnTo>
                  <a:pt x="56" y="173"/>
                </a:lnTo>
                <a:lnTo>
                  <a:pt x="185" y="101"/>
                </a:lnTo>
                <a:lnTo>
                  <a:pt x="277" y="279"/>
                </a:lnTo>
                <a:lnTo>
                  <a:pt x="311" y="342"/>
                </a:lnTo>
                <a:lnTo>
                  <a:pt x="342" y="277"/>
                </a:lnTo>
                <a:lnTo>
                  <a:pt x="404" y="154"/>
                </a:lnTo>
                <a:lnTo>
                  <a:pt x="583" y="455"/>
                </a:lnTo>
                <a:lnTo>
                  <a:pt x="604" y="494"/>
                </a:lnTo>
                <a:lnTo>
                  <a:pt x="638" y="465"/>
                </a:lnTo>
                <a:lnTo>
                  <a:pt x="674" y="431"/>
                </a:lnTo>
                <a:lnTo>
                  <a:pt x="857" y="802"/>
                </a:lnTo>
                <a:lnTo>
                  <a:pt x="876" y="843"/>
                </a:lnTo>
                <a:lnTo>
                  <a:pt x="912" y="814"/>
                </a:lnTo>
                <a:lnTo>
                  <a:pt x="931" y="797"/>
                </a:lnTo>
                <a:lnTo>
                  <a:pt x="956" y="821"/>
                </a:lnTo>
                <a:lnTo>
                  <a:pt x="982" y="848"/>
                </a:lnTo>
                <a:lnTo>
                  <a:pt x="1009" y="819"/>
                </a:lnTo>
                <a:lnTo>
                  <a:pt x="1064" y="756"/>
                </a:lnTo>
                <a:lnTo>
                  <a:pt x="1341" y="1050"/>
                </a:lnTo>
                <a:lnTo>
                  <a:pt x="1353" y="1057"/>
                </a:lnTo>
                <a:lnTo>
                  <a:pt x="1367" y="1062"/>
                </a:lnTo>
                <a:lnTo>
                  <a:pt x="1379" y="1060"/>
                </a:lnTo>
                <a:lnTo>
                  <a:pt x="1391" y="1052"/>
                </a:lnTo>
                <a:lnTo>
                  <a:pt x="1401" y="1040"/>
                </a:lnTo>
                <a:lnTo>
                  <a:pt x="1403" y="1026"/>
                </a:lnTo>
                <a:lnTo>
                  <a:pt x="1401" y="1011"/>
                </a:lnTo>
                <a:lnTo>
                  <a:pt x="1394" y="999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Text Box 2"/>
          <p:cNvSpPr/>
          <p:nvPr/>
        </p:nvSpPr>
        <p:spPr>
          <a:xfrm>
            <a:off x="2124000" y="93600"/>
            <a:ext cx="57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a50021"/>
                </a:solidFill>
                <a:latin typeface="Times New Roman"/>
              </a:rPr>
              <a:t>Принципы целеполага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Text Box 3"/>
          <p:cNvSpPr/>
          <p:nvPr/>
        </p:nvSpPr>
        <p:spPr>
          <a:xfrm>
            <a:off x="8687880" y="68400"/>
            <a:ext cx="385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ff"/>
                </a:solidFill>
                <a:latin typeface="Times New Roman"/>
              </a:rPr>
              <a:t>5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11"/>
          <p:cNvSpPr/>
          <p:nvPr/>
        </p:nvSpPr>
        <p:spPr>
          <a:xfrm>
            <a:off x="71280" y="1700280"/>
            <a:ext cx="8928360" cy="0"/>
          </a:xfrm>
          <a:prstGeom prst="line">
            <a:avLst/>
          </a:prstGeom>
          <a:ln w="255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2" name="Group 33"/>
          <p:cNvGrpSpPr/>
          <p:nvPr/>
        </p:nvGrpSpPr>
        <p:grpSpPr>
          <a:xfrm>
            <a:off x="1928880" y="2857680"/>
            <a:ext cx="5214960" cy="459720"/>
            <a:chOff x="1928880" y="2857680"/>
            <a:chExt cx="5214960" cy="459720"/>
          </a:xfrm>
        </p:grpSpPr>
        <p:sp>
          <p:nvSpPr>
            <p:cNvPr id="303" name="Text Box 7"/>
            <p:cNvSpPr/>
            <p:nvPr/>
          </p:nvSpPr>
          <p:spPr>
            <a:xfrm>
              <a:off x="1928880" y="2857680"/>
              <a:ext cx="1549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cc"/>
                  </a:solidFill>
                  <a:latin typeface="Times New Roman"/>
                </a:rPr>
                <a:t>pecifi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Text Box 12"/>
            <p:cNvSpPr/>
            <p:nvPr/>
          </p:nvSpPr>
          <p:spPr>
            <a:xfrm>
              <a:off x="4551480" y="2889360"/>
              <a:ext cx="2592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990033"/>
                  </a:solidFill>
                  <a:latin typeface="Times New Roman"/>
                </a:rPr>
                <a:t>Конкретность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5" name="Text Box 16"/>
          <p:cNvSpPr/>
          <p:nvPr/>
        </p:nvSpPr>
        <p:spPr>
          <a:xfrm>
            <a:off x="1698480" y="1125360"/>
            <a:ext cx="578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Times New Roman"/>
              </a:rPr>
              <a:t>Нельзя управлять тем, чего нельзя измерит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6" name="Group 34"/>
          <p:cNvGrpSpPr/>
          <p:nvPr/>
        </p:nvGrpSpPr>
        <p:grpSpPr>
          <a:xfrm>
            <a:off x="2071800" y="3500280"/>
            <a:ext cx="5000040" cy="459720"/>
            <a:chOff x="2071800" y="3500280"/>
            <a:chExt cx="5000040" cy="459720"/>
          </a:xfrm>
        </p:grpSpPr>
        <p:sp>
          <p:nvSpPr>
            <p:cNvPr id="307" name="Text Box 6"/>
            <p:cNvSpPr/>
            <p:nvPr/>
          </p:nvSpPr>
          <p:spPr>
            <a:xfrm>
              <a:off x="4624920" y="3532320"/>
              <a:ext cx="2446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990033"/>
                  </a:solidFill>
                  <a:latin typeface="Times New Roman"/>
                </a:rPr>
                <a:t>Измеримость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Text Box 22"/>
            <p:cNvSpPr/>
            <p:nvPr/>
          </p:nvSpPr>
          <p:spPr>
            <a:xfrm>
              <a:off x="2071800" y="3500280"/>
              <a:ext cx="1757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cc"/>
                  </a:solidFill>
                  <a:latin typeface="Times New Roman"/>
                </a:rPr>
                <a:t>easurab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9" name="Group 35"/>
          <p:cNvGrpSpPr/>
          <p:nvPr/>
        </p:nvGrpSpPr>
        <p:grpSpPr>
          <a:xfrm>
            <a:off x="2041560" y="4165560"/>
            <a:ext cx="5087880" cy="482040"/>
            <a:chOff x="2041560" y="4165560"/>
            <a:chExt cx="5087880" cy="482040"/>
          </a:xfrm>
        </p:grpSpPr>
        <p:sp>
          <p:nvSpPr>
            <p:cNvPr id="310" name="Text Box 13"/>
            <p:cNvSpPr/>
            <p:nvPr/>
          </p:nvSpPr>
          <p:spPr>
            <a:xfrm>
              <a:off x="4859280" y="4165560"/>
              <a:ext cx="2270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990033"/>
                  </a:solidFill>
                  <a:latin typeface="Times New Roman"/>
                </a:rPr>
                <a:t>Согласованность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Text Box 23"/>
            <p:cNvSpPr/>
            <p:nvPr/>
          </p:nvSpPr>
          <p:spPr>
            <a:xfrm>
              <a:off x="2041560" y="4187880"/>
              <a:ext cx="1549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cc"/>
                  </a:solidFill>
                  <a:latin typeface="Times New Roman"/>
                </a:rPr>
                <a:t>ccorda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2" name="Group 36"/>
          <p:cNvGrpSpPr/>
          <p:nvPr/>
        </p:nvGrpSpPr>
        <p:grpSpPr>
          <a:xfrm>
            <a:off x="1965240" y="4830840"/>
            <a:ext cx="5167440" cy="470160"/>
            <a:chOff x="1965240" y="4830840"/>
            <a:chExt cx="5167440" cy="470160"/>
          </a:xfrm>
        </p:grpSpPr>
        <p:sp>
          <p:nvSpPr>
            <p:cNvPr id="313" name="Text Box 14"/>
            <p:cNvSpPr/>
            <p:nvPr/>
          </p:nvSpPr>
          <p:spPr>
            <a:xfrm>
              <a:off x="4862520" y="4902120"/>
              <a:ext cx="2270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990033"/>
                  </a:solidFill>
                  <a:latin typeface="Times New Roman"/>
                </a:rPr>
                <a:t>Достижимость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Text Box 24"/>
            <p:cNvSpPr/>
            <p:nvPr/>
          </p:nvSpPr>
          <p:spPr>
            <a:xfrm>
              <a:off x="1965240" y="4830840"/>
              <a:ext cx="1549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cc"/>
                  </a:solidFill>
                  <a:latin typeface="Times New Roman"/>
                </a:rPr>
                <a:t>ealisti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5" name="Group 37"/>
          <p:cNvGrpSpPr/>
          <p:nvPr/>
        </p:nvGrpSpPr>
        <p:grpSpPr>
          <a:xfrm>
            <a:off x="2214720" y="5562720"/>
            <a:ext cx="6499800" cy="459720"/>
            <a:chOff x="2214720" y="5562720"/>
            <a:chExt cx="6499800" cy="459720"/>
          </a:xfrm>
        </p:grpSpPr>
        <p:sp>
          <p:nvSpPr>
            <p:cNvPr id="316" name="Text Box 15"/>
            <p:cNvSpPr/>
            <p:nvPr/>
          </p:nvSpPr>
          <p:spPr>
            <a:xfrm>
              <a:off x="4429080" y="5587920"/>
              <a:ext cx="4285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990033"/>
                  </a:solidFill>
                  <a:latin typeface="Times New Roman"/>
                </a:rPr>
                <a:t>Определенность во времени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Text Box 25"/>
            <p:cNvSpPr/>
            <p:nvPr/>
          </p:nvSpPr>
          <p:spPr>
            <a:xfrm>
              <a:off x="2214720" y="5562720"/>
              <a:ext cx="1755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cc"/>
                  </a:solidFill>
                  <a:latin typeface="Times New Roman"/>
                </a:rPr>
                <a:t>ime-bound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8" name="Group 38"/>
          <p:cNvGrpSpPr/>
          <p:nvPr/>
        </p:nvGrpSpPr>
        <p:grpSpPr>
          <a:xfrm>
            <a:off x="1928880" y="2028960"/>
            <a:ext cx="3605760" cy="3992400"/>
            <a:chOff x="1928880" y="2028960"/>
            <a:chExt cx="3605760" cy="3992400"/>
          </a:xfrm>
        </p:grpSpPr>
        <p:sp>
          <p:nvSpPr>
            <p:cNvPr id="319" name="Text Box 17"/>
            <p:cNvSpPr/>
            <p:nvPr/>
          </p:nvSpPr>
          <p:spPr>
            <a:xfrm>
              <a:off x="1928880" y="2822400"/>
              <a:ext cx="468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a50021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Text Box 18"/>
            <p:cNvSpPr/>
            <p:nvPr/>
          </p:nvSpPr>
          <p:spPr>
            <a:xfrm>
              <a:off x="1928880" y="3470400"/>
              <a:ext cx="468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Text Box 19"/>
            <p:cNvSpPr/>
            <p:nvPr/>
          </p:nvSpPr>
          <p:spPr>
            <a:xfrm>
              <a:off x="1928880" y="4143240"/>
              <a:ext cx="468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a50021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Text Box 20"/>
            <p:cNvSpPr/>
            <p:nvPr/>
          </p:nvSpPr>
          <p:spPr>
            <a:xfrm>
              <a:off x="1928880" y="4786200"/>
              <a:ext cx="468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a50021"/>
                  </a:solidFill>
                  <a:latin typeface="Times New Roman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Text Box 21"/>
            <p:cNvSpPr/>
            <p:nvPr/>
          </p:nvSpPr>
          <p:spPr>
            <a:xfrm>
              <a:off x="1928880" y="5500800"/>
              <a:ext cx="468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a50021"/>
                  </a:solidFill>
                  <a:latin typeface="Times New Roman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Text Box 32"/>
            <p:cNvSpPr/>
            <p:nvPr/>
          </p:nvSpPr>
          <p:spPr>
            <a:xfrm>
              <a:off x="2358360" y="2028960"/>
              <a:ext cx="3176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 u="sng">
                  <a:solidFill>
                    <a:srgbClr val="a50021"/>
                  </a:solidFill>
                  <a:uFillTx/>
                  <a:latin typeface="Times New Roman"/>
                </a:rPr>
                <a:t>Требования к целям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Text Box 2"/>
          <p:cNvSpPr/>
          <p:nvPr/>
        </p:nvSpPr>
        <p:spPr>
          <a:xfrm>
            <a:off x="611280" y="-27000"/>
            <a:ext cx="871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облемно-целевое управление организациям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Rectangle 3"/>
          <p:cNvSpPr/>
          <p:nvPr/>
        </p:nvSpPr>
        <p:spPr>
          <a:xfrm>
            <a:off x="675000" y="1341360"/>
            <a:ext cx="35334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атологии проявляются в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Rectangle 4"/>
          <p:cNvSpPr/>
          <p:nvPr/>
        </p:nvSpPr>
        <p:spPr>
          <a:xfrm>
            <a:off x="1207440" y="1846440"/>
            <a:ext cx="47844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худшении финансовых результат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AutoShape 5"/>
          <p:cNvSpPr/>
          <p:nvPr/>
        </p:nvSpPr>
        <p:spPr>
          <a:xfrm>
            <a:off x="830160" y="184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Rectangle 6"/>
          <p:cNvSpPr/>
          <p:nvPr/>
        </p:nvSpPr>
        <p:spPr>
          <a:xfrm>
            <a:off x="1222560" y="2349360"/>
            <a:ext cx="4872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нижении охватываемой доли рынк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AutoShape 7"/>
          <p:cNvSpPr/>
          <p:nvPr/>
        </p:nvSpPr>
        <p:spPr>
          <a:xfrm>
            <a:off x="830160" y="234936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Rectangle 8"/>
          <p:cNvSpPr/>
          <p:nvPr/>
        </p:nvSpPr>
        <p:spPr>
          <a:xfrm>
            <a:off x="1235520" y="2852640"/>
            <a:ext cx="6223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растании внутриорганизационной депресси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AutoShape 9"/>
          <p:cNvSpPr/>
          <p:nvPr/>
        </p:nvSpPr>
        <p:spPr>
          <a:xfrm>
            <a:off x="830160" y="184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AutoShape 10"/>
          <p:cNvSpPr/>
          <p:nvPr/>
        </p:nvSpPr>
        <p:spPr>
          <a:xfrm>
            <a:off x="830160" y="234936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AutoShape 11"/>
          <p:cNvSpPr/>
          <p:nvPr/>
        </p:nvSpPr>
        <p:spPr>
          <a:xfrm>
            <a:off x="830160" y="184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AutoShape 12"/>
          <p:cNvSpPr/>
          <p:nvPr/>
        </p:nvSpPr>
        <p:spPr>
          <a:xfrm>
            <a:off x="830160" y="2852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AutoShape 13"/>
          <p:cNvSpPr/>
          <p:nvPr/>
        </p:nvSpPr>
        <p:spPr>
          <a:xfrm>
            <a:off x="830160" y="234936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AutoShape 14"/>
          <p:cNvSpPr/>
          <p:nvPr/>
        </p:nvSpPr>
        <p:spPr>
          <a:xfrm>
            <a:off x="830160" y="184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Rectangle 15"/>
          <p:cNvSpPr/>
          <p:nvPr/>
        </p:nvSpPr>
        <p:spPr>
          <a:xfrm>
            <a:off x="657360" y="3716280"/>
            <a:ext cx="509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ольшая доля патологий обусловлена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AutoShape 16"/>
          <p:cNvSpPr/>
          <p:nvPr/>
        </p:nvSpPr>
        <p:spPr>
          <a:xfrm>
            <a:off x="830160" y="4149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Rectangle 17"/>
          <p:cNvSpPr/>
          <p:nvPr/>
        </p:nvSpPr>
        <p:spPr>
          <a:xfrm>
            <a:off x="1333440" y="4149720"/>
            <a:ext cx="6645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тсутствием реакции на изменение внешней сред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AutoShape 18"/>
          <p:cNvSpPr/>
          <p:nvPr/>
        </p:nvSpPr>
        <p:spPr>
          <a:xfrm>
            <a:off x="830160" y="465300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Rectangle 19"/>
          <p:cNvSpPr/>
          <p:nvPr/>
        </p:nvSpPr>
        <p:spPr>
          <a:xfrm>
            <a:off x="1310040" y="4648320"/>
            <a:ext cx="70477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адекватность реакции на изменения внешней сред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AutoShape 20"/>
          <p:cNvSpPr/>
          <p:nvPr/>
        </p:nvSpPr>
        <p:spPr>
          <a:xfrm>
            <a:off x="826920" y="5157720"/>
            <a:ext cx="28764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Rectangle 21"/>
          <p:cNvSpPr/>
          <p:nvPr/>
        </p:nvSpPr>
        <p:spPr>
          <a:xfrm>
            <a:off x="1307160" y="5151600"/>
            <a:ext cx="7779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своевременностью реакции на изменения внешней сред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AutoShape 22"/>
          <p:cNvSpPr/>
          <p:nvPr/>
        </p:nvSpPr>
        <p:spPr>
          <a:xfrm>
            <a:off x="826920" y="5661000"/>
            <a:ext cx="28764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Rectangle 23"/>
          <p:cNvSpPr/>
          <p:nvPr/>
        </p:nvSpPr>
        <p:spPr>
          <a:xfrm>
            <a:off x="1287000" y="5656320"/>
            <a:ext cx="67780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ормальной реакцией на изменения внешней сред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AutoShape 2"/>
          <p:cNvSpPr/>
          <p:nvPr/>
        </p:nvSpPr>
        <p:spPr>
          <a:xfrm>
            <a:off x="3587760" y="82440"/>
            <a:ext cx="901800" cy="825480"/>
          </a:xfrm>
          <a:custGeom>
            <a:avLst/>
            <a:gdLst>
              <a:gd name="textAreaLeft" fmla="*/ 205920 w 901800"/>
              <a:gd name="textAreaRight" fmla="*/ 695880 w 901800"/>
              <a:gd name="textAreaTop" fmla="*/ 188280 h 825480"/>
              <a:gd name="textAreaBottom" fmla="*/ 637200 h 825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AutoShape 3"/>
          <p:cNvSpPr/>
          <p:nvPr/>
        </p:nvSpPr>
        <p:spPr>
          <a:xfrm>
            <a:off x="1149480" y="844560"/>
            <a:ext cx="5778360" cy="5702400"/>
          </a:xfrm>
          <a:prstGeom prst="triangle">
            <a:avLst>
              <a:gd name="adj" fmla="val 4999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AutoShape 4"/>
          <p:cNvSpPr/>
          <p:nvPr/>
        </p:nvSpPr>
        <p:spPr>
          <a:xfrm flipV="1">
            <a:off x="1987560" y="2595960"/>
            <a:ext cx="4102200" cy="2273400"/>
          </a:xfrm>
          <a:custGeom>
            <a:avLst/>
            <a:gdLst>
              <a:gd name="textAreaLeft" fmla="*/ 924120 w 4102200"/>
              <a:gd name="textAreaRight" fmla="*/ 3178080 w 4102200"/>
              <a:gd name="textAreaTop" fmla="*/ 512280 h 2273400"/>
              <a:gd name="textAreaBottom" fmla="*/ 1761120 h 2273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6133" y="21600"/>
                </a:lnTo>
                <a:lnTo>
                  <a:pt x="15467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AutoShape 5"/>
          <p:cNvSpPr/>
          <p:nvPr/>
        </p:nvSpPr>
        <p:spPr>
          <a:xfrm>
            <a:off x="3968640" y="6026040"/>
            <a:ext cx="1282680" cy="520920"/>
          </a:xfrm>
          <a:prstGeom prst="rightArrow">
            <a:avLst>
              <a:gd name="adj1" fmla="val 75009"/>
              <a:gd name="adj2" fmla="val 123128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AutoShape 6"/>
          <p:cNvSpPr/>
          <p:nvPr/>
        </p:nvSpPr>
        <p:spPr>
          <a:xfrm rot="2220000">
            <a:off x="4807080" y="3435480"/>
            <a:ext cx="1282680" cy="520560"/>
          </a:xfrm>
          <a:prstGeom prst="rightArrow">
            <a:avLst>
              <a:gd name="adj1" fmla="val 75009"/>
              <a:gd name="adj2" fmla="val 123213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AutoShape 7"/>
          <p:cNvSpPr/>
          <p:nvPr/>
        </p:nvSpPr>
        <p:spPr>
          <a:xfrm rot="19680000">
            <a:off x="3739680" y="2749680"/>
            <a:ext cx="1282680" cy="520560"/>
          </a:xfrm>
          <a:prstGeom prst="rightArrow">
            <a:avLst>
              <a:gd name="adj1" fmla="val 75009"/>
              <a:gd name="adj2" fmla="val 123213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AutoShape 8"/>
          <p:cNvSpPr/>
          <p:nvPr/>
        </p:nvSpPr>
        <p:spPr>
          <a:xfrm>
            <a:off x="2673360" y="4730760"/>
            <a:ext cx="368280" cy="596880"/>
          </a:xfrm>
          <a:prstGeom prst="upArrow">
            <a:avLst>
              <a:gd name="adj1" fmla="val 75009"/>
              <a:gd name="adj2" fmla="val 81028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AutoShape 9"/>
          <p:cNvSpPr/>
          <p:nvPr/>
        </p:nvSpPr>
        <p:spPr>
          <a:xfrm>
            <a:off x="2901960" y="3435480"/>
            <a:ext cx="520560" cy="901440"/>
          </a:xfrm>
          <a:prstGeom prst="downArrow">
            <a:avLst>
              <a:gd name="adj1" fmla="val 75009"/>
              <a:gd name="adj2" fmla="val 86592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AutoShape 10"/>
          <p:cNvSpPr/>
          <p:nvPr/>
        </p:nvSpPr>
        <p:spPr>
          <a:xfrm>
            <a:off x="5568840" y="5340240"/>
            <a:ext cx="368280" cy="673200"/>
          </a:xfrm>
          <a:prstGeom prst="downArrow">
            <a:avLst>
              <a:gd name="adj1" fmla="val 75009"/>
              <a:gd name="adj2" fmla="val 91406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AutoShape 11"/>
          <p:cNvSpPr/>
          <p:nvPr/>
        </p:nvSpPr>
        <p:spPr>
          <a:xfrm>
            <a:off x="5264280" y="6102360"/>
            <a:ext cx="672840" cy="368280"/>
          </a:xfrm>
          <a:prstGeom prst="leftArrow">
            <a:avLst>
              <a:gd name="adj1" fmla="val 75009"/>
              <a:gd name="adj2" fmla="val 91340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AutoShape 12"/>
          <p:cNvSpPr/>
          <p:nvPr/>
        </p:nvSpPr>
        <p:spPr>
          <a:xfrm rot="4560000">
            <a:off x="4261680" y="4885560"/>
            <a:ext cx="906480" cy="409680"/>
          </a:xfrm>
          <a:prstGeom prst="leftArrow">
            <a:avLst>
              <a:gd name="adj1" fmla="val 75009"/>
              <a:gd name="adj2" fmla="val 110622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AutoShape 13"/>
          <p:cNvSpPr/>
          <p:nvPr/>
        </p:nvSpPr>
        <p:spPr>
          <a:xfrm rot="18300000">
            <a:off x="1682640" y="4806360"/>
            <a:ext cx="291960" cy="673200"/>
          </a:xfrm>
          <a:prstGeom prst="upArrow">
            <a:avLst>
              <a:gd name="adj1" fmla="val 75009"/>
              <a:gd name="adj2" fmla="val 115279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AutoShape 14"/>
          <p:cNvSpPr/>
          <p:nvPr/>
        </p:nvSpPr>
        <p:spPr>
          <a:xfrm>
            <a:off x="3359160" y="5492880"/>
            <a:ext cx="368280" cy="672840"/>
          </a:xfrm>
          <a:prstGeom prst="downArrow">
            <a:avLst>
              <a:gd name="adj1" fmla="val 75009"/>
              <a:gd name="adj2" fmla="val 91357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0" name="Object 15"/>
          <p:cNvGraphicFramePr/>
          <p:nvPr/>
        </p:nvGraphicFramePr>
        <p:xfrm>
          <a:off x="2647800" y="5181480"/>
          <a:ext cx="400320" cy="39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1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47800" y="5181480"/>
                    <a:ext cx="400320" cy="39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2" name="Object 16"/>
          <p:cNvGraphicFramePr/>
          <p:nvPr/>
        </p:nvGraphicFramePr>
        <p:xfrm>
          <a:off x="3638520" y="3048120"/>
          <a:ext cx="552600" cy="542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3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38520" y="3048120"/>
                    <a:ext cx="552600" cy="5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4" name="Object 17"/>
          <p:cNvGraphicFramePr/>
          <p:nvPr/>
        </p:nvGraphicFramePr>
        <p:xfrm>
          <a:off x="3714840" y="6097680"/>
          <a:ext cx="476280" cy="466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65" name="Object 1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714840" y="6097680"/>
                    <a:ext cx="476280" cy="46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6" name="Object 18"/>
          <p:cNvGraphicFramePr/>
          <p:nvPr/>
        </p:nvGraphicFramePr>
        <p:xfrm>
          <a:off x="5543640" y="5029200"/>
          <a:ext cx="399960" cy="392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67" name="Object 1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543640" y="5029200"/>
                    <a:ext cx="399960" cy="39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8" name="Object 19"/>
          <p:cNvGraphicFramePr/>
          <p:nvPr/>
        </p:nvGraphicFramePr>
        <p:xfrm>
          <a:off x="3333600" y="5257800"/>
          <a:ext cx="400320" cy="3808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69" name="Object 1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333600" y="5257800"/>
                    <a:ext cx="40032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0" name="Object 20"/>
          <p:cNvGraphicFramePr/>
          <p:nvPr/>
        </p:nvGraphicFramePr>
        <p:xfrm>
          <a:off x="1962000" y="5181480"/>
          <a:ext cx="400320" cy="3924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71" name="Object 2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962000" y="5181480"/>
                    <a:ext cx="400320" cy="39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2" name="Object 21"/>
          <p:cNvGraphicFramePr/>
          <p:nvPr/>
        </p:nvGraphicFramePr>
        <p:xfrm>
          <a:off x="5848200" y="6097680"/>
          <a:ext cx="400320" cy="3920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373" name="Object 21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848200" y="6097680"/>
                    <a:ext cx="400320" cy="39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4" name="Object 22"/>
          <p:cNvGraphicFramePr/>
          <p:nvPr/>
        </p:nvGraphicFramePr>
        <p:xfrm>
          <a:off x="2876400" y="3124080"/>
          <a:ext cx="543240" cy="5335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375" name="Object 22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876400" y="3124080"/>
                    <a:ext cx="54324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6" name="Object 23"/>
          <p:cNvGraphicFramePr/>
          <p:nvPr/>
        </p:nvGraphicFramePr>
        <p:xfrm>
          <a:off x="4629240" y="2971800"/>
          <a:ext cx="552240" cy="54288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377" name="Object 23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4629240" y="2971800"/>
                    <a:ext cx="552240" cy="5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8" name="AutoShape 24"/>
          <p:cNvSpPr/>
          <p:nvPr/>
        </p:nvSpPr>
        <p:spPr>
          <a:xfrm rot="1020000">
            <a:off x="3735000" y="794880"/>
            <a:ext cx="933480" cy="1435320"/>
          </a:xfrm>
          <a:prstGeom prst="upArrow">
            <a:avLst>
              <a:gd name="adj1" fmla="val 75009"/>
              <a:gd name="adj2" fmla="val 76873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9" name="Object 25"/>
          <p:cNvGraphicFramePr/>
          <p:nvPr/>
        </p:nvGraphicFramePr>
        <p:xfrm>
          <a:off x="3581280" y="1776240"/>
          <a:ext cx="828720" cy="8146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380" name="Object 25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3581280" y="1776240"/>
                    <a:ext cx="828720" cy="81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1" name="Object 26"/>
          <p:cNvGraphicFramePr/>
          <p:nvPr/>
        </p:nvGraphicFramePr>
        <p:xfrm>
          <a:off x="4648320" y="5292720"/>
          <a:ext cx="404640" cy="41112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382" name="Object 26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4648320" y="5292720"/>
                    <a:ext cx="40464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AutoShape 2"/>
          <p:cNvSpPr/>
          <p:nvPr/>
        </p:nvSpPr>
        <p:spPr>
          <a:xfrm rot="17820000">
            <a:off x="-315360" y="3299760"/>
            <a:ext cx="6260760" cy="485640"/>
          </a:xfrm>
          <a:prstGeom prst="rightArrow">
            <a:avLst>
              <a:gd name="adj1" fmla="val 75009"/>
              <a:gd name="adj2" fmla="val 644648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AutoShape 3"/>
          <p:cNvSpPr/>
          <p:nvPr/>
        </p:nvSpPr>
        <p:spPr>
          <a:xfrm rot="3720000">
            <a:off x="3270240" y="3281040"/>
            <a:ext cx="6360840" cy="586080"/>
          </a:xfrm>
          <a:prstGeom prst="leftArrow">
            <a:avLst>
              <a:gd name="adj1" fmla="val 75009"/>
              <a:gd name="adj2" fmla="val 542609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AutoShape 4"/>
          <p:cNvSpPr/>
          <p:nvPr/>
        </p:nvSpPr>
        <p:spPr>
          <a:xfrm>
            <a:off x="4197240" y="82440"/>
            <a:ext cx="749520" cy="673200"/>
          </a:xfrm>
          <a:custGeom>
            <a:avLst/>
            <a:gdLst>
              <a:gd name="textAreaLeft" fmla="*/ 171000 w 749520"/>
              <a:gd name="textAreaRight" fmla="*/ 578520 w 749520"/>
              <a:gd name="textAreaTop" fmla="*/ 153720 h 673200"/>
              <a:gd name="textAreaBottom" fmla="*/ 519480 h 673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6" name="Object 5"/>
          <p:cNvGraphicFramePr/>
          <p:nvPr/>
        </p:nvGraphicFramePr>
        <p:xfrm>
          <a:off x="4400640" y="5486400"/>
          <a:ext cx="399960" cy="392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00640" y="5486400"/>
                    <a:ext cx="399960" cy="39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8" name="Object 6"/>
          <p:cNvGraphicFramePr/>
          <p:nvPr/>
        </p:nvGraphicFramePr>
        <p:xfrm>
          <a:off x="5010120" y="5486400"/>
          <a:ext cx="399960" cy="392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89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10120" y="5486400"/>
                    <a:ext cx="399960" cy="39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0" name="Object 7"/>
          <p:cNvGraphicFramePr/>
          <p:nvPr/>
        </p:nvGraphicFramePr>
        <p:xfrm>
          <a:off x="5695920" y="5486400"/>
          <a:ext cx="399960" cy="392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91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695920" y="5486400"/>
                    <a:ext cx="399960" cy="39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2" name="Object 8"/>
          <p:cNvGraphicFramePr/>
          <p:nvPr/>
        </p:nvGraphicFramePr>
        <p:xfrm>
          <a:off x="6381720" y="5486400"/>
          <a:ext cx="399960" cy="392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93" name="Object 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381720" y="5486400"/>
                    <a:ext cx="399960" cy="39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4" name="Object 9"/>
          <p:cNvGraphicFramePr/>
          <p:nvPr/>
        </p:nvGraphicFramePr>
        <p:xfrm>
          <a:off x="3714840" y="5486400"/>
          <a:ext cx="399960" cy="3920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95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714840" y="5486400"/>
                    <a:ext cx="399960" cy="39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6" name="Object 10"/>
          <p:cNvGraphicFramePr/>
          <p:nvPr/>
        </p:nvGraphicFramePr>
        <p:xfrm>
          <a:off x="3029040" y="5486400"/>
          <a:ext cx="399960" cy="3920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97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029040" y="5486400"/>
                    <a:ext cx="399960" cy="39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8" name="Object 11"/>
          <p:cNvGraphicFramePr/>
          <p:nvPr/>
        </p:nvGraphicFramePr>
        <p:xfrm>
          <a:off x="2343240" y="5487840"/>
          <a:ext cx="399960" cy="3924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399" name="Object 11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343240" y="5487840"/>
                    <a:ext cx="399960" cy="39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0" name="Line 12"/>
          <p:cNvSpPr/>
          <p:nvPr/>
        </p:nvSpPr>
        <p:spPr>
          <a:xfrm flipH="1">
            <a:off x="3809520" y="2057400"/>
            <a:ext cx="762120" cy="1371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Line 13"/>
          <p:cNvSpPr/>
          <p:nvPr/>
        </p:nvSpPr>
        <p:spPr>
          <a:xfrm>
            <a:off x="4572000" y="2057400"/>
            <a:ext cx="685800" cy="1371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Line 14"/>
          <p:cNvSpPr/>
          <p:nvPr/>
        </p:nvSpPr>
        <p:spPr>
          <a:xfrm>
            <a:off x="4572000" y="3733920"/>
            <a:ext cx="533520" cy="1752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Line 15"/>
          <p:cNvSpPr/>
          <p:nvPr/>
        </p:nvSpPr>
        <p:spPr>
          <a:xfrm flipH="1">
            <a:off x="3962160" y="3733920"/>
            <a:ext cx="609480" cy="1752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Line 16"/>
          <p:cNvSpPr/>
          <p:nvPr/>
        </p:nvSpPr>
        <p:spPr>
          <a:xfrm>
            <a:off x="4572000" y="373392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Line 17"/>
          <p:cNvSpPr/>
          <p:nvPr/>
        </p:nvSpPr>
        <p:spPr>
          <a:xfrm flipH="1">
            <a:off x="2666880" y="3733920"/>
            <a:ext cx="990720" cy="1752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Line 18"/>
          <p:cNvSpPr/>
          <p:nvPr/>
        </p:nvSpPr>
        <p:spPr>
          <a:xfrm>
            <a:off x="5334120" y="3733920"/>
            <a:ext cx="457200" cy="1752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Line 19"/>
          <p:cNvSpPr/>
          <p:nvPr/>
        </p:nvSpPr>
        <p:spPr>
          <a:xfrm>
            <a:off x="5334120" y="3733920"/>
            <a:ext cx="1143000" cy="1752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Line 20"/>
          <p:cNvSpPr/>
          <p:nvPr/>
        </p:nvSpPr>
        <p:spPr>
          <a:xfrm flipH="1">
            <a:off x="3276720" y="3733920"/>
            <a:ext cx="380880" cy="1752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09" name="Object 21"/>
          <p:cNvGraphicFramePr/>
          <p:nvPr/>
        </p:nvGraphicFramePr>
        <p:xfrm>
          <a:off x="3409920" y="3429000"/>
          <a:ext cx="542880" cy="5335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410" name="Object 21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409920" y="3429000"/>
                    <a:ext cx="54288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1" name="Object 22"/>
          <p:cNvGraphicFramePr/>
          <p:nvPr/>
        </p:nvGraphicFramePr>
        <p:xfrm>
          <a:off x="4324320" y="3429000"/>
          <a:ext cx="552600" cy="54288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412" name="Object 22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4324320" y="3429000"/>
                    <a:ext cx="552600" cy="5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3" name="Object 23"/>
          <p:cNvGraphicFramePr/>
          <p:nvPr/>
        </p:nvGraphicFramePr>
        <p:xfrm>
          <a:off x="5086440" y="3429000"/>
          <a:ext cx="552240" cy="5428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414" name="Object 23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5086440" y="3429000"/>
                    <a:ext cx="552240" cy="5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5" name="AutoShape 24"/>
          <p:cNvSpPr/>
          <p:nvPr/>
        </p:nvSpPr>
        <p:spPr>
          <a:xfrm>
            <a:off x="1682640" y="844560"/>
            <a:ext cx="5778720" cy="5702400"/>
          </a:xfrm>
          <a:prstGeom prst="triangle">
            <a:avLst>
              <a:gd name="adj" fmla="val 4999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AutoShape 25"/>
          <p:cNvSpPr/>
          <p:nvPr/>
        </p:nvSpPr>
        <p:spPr>
          <a:xfrm flipV="1">
            <a:off x="2521080" y="2595960"/>
            <a:ext cx="4101840" cy="2273400"/>
          </a:xfrm>
          <a:custGeom>
            <a:avLst/>
            <a:gdLst>
              <a:gd name="textAreaLeft" fmla="*/ 924120 w 4101840"/>
              <a:gd name="textAreaRight" fmla="*/ 3177720 w 4101840"/>
              <a:gd name="textAreaTop" fmla="*/ 512280 h 2273400"/>
              <a:gd name="textAreaBottom" fmla="*/ 1761120 h 2273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6133" y="21600"/>
                </a:lnTo>
                <a:lnTo>
                  <a:pt x="15467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Line 26"/>
          <p:cNvSpPr/>
          <p:nvPr/>
        </p:nvSpPr>
        <p:spPr>
          <a:xfrm>
            <a:off x="4572000" y="762120"/>
            <a:ext cx="0" cy="914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Line 27"/>
          <p:cNvSpPr/>
          <p:nvPr/>
        </p:nvSpPr>
        <p:spPr>
          <a:xfrm>
            <a:off x="4572000" y="2057400"/>
            <a:ext cx="0" cy="1447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19" name="Object 28"/>
          <p:cNvGraphicFramePr/>
          <p:nvPr/>
        </p:nvGraphicFramePr>
        <p:xfrm>
          <a:off x="4191120" y="1623960"/>
          <a:ext cx="828720" cy="81432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420" name="Object 28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4191120" y="1623960"/>
                    <a:ext cx="828720" cy="81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03080" y="1218960"/>
            <a:ext cx="7848360" cy="434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высить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ичную эффективность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 руководител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Прямоугольник 2"/>
          <p:cNvSpPr/>
          <p:nvPr/>
        </p:nvSpPr>
        <p:spPr>
          <a:xfrm>
            <a:off x="1071720" y="428760"/>
            <a:ext cx="435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Цель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урса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5357880" y="500040"/>
            <a:ext cx="2800440" cy="278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8242200" cy="80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РЕБОВАНИЯ К ФОРМУЛИРОВКЕ ЦЕЛЕ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74278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личие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лагола совершенного вида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ли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глагольного существительн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зитивная формулиров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означение уровня ответственности или средств достиж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Picture 8" descr="http://psyh-olog.ru/wp-content/uploads/2015/06/%D0%9A%D0%B0%D0%BA-%D0%B6%D0%B5-%D0%B4%D0%BE%D1%81%D1%82%D0%B8%D1%87%D1%8C-%D0%BB%D1%8E%D0%B1%D0%BE%D0%B9-%D1%86%D0%B5%D0%BB%D0%B8-%D0%B2-%D0%B6%D0%B8%D0%B7%D0%BD%D0%B8.jpg"/>
          <p:cNvPicPr/>
          <p:nvPr/>
        </p:nvPicPr>
        <p:blipFill>
          <a:blip r:embed="rId1"/>
          <a:stretch/>
        </p:blipFill>
        <p:spPr>
          <a:xfrm>
            <a:off x="6012000" y="4581360"/>
            <a:ext cx="2868480" cy="214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209320" y="304560"/>
            <a:ext cx="48769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ЛИЧЕСТВО ЦЕЛЕЙ ДЛЯ ОДНОГО СОТРУДНИКА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50760">
            <a:solidFill>
              <a:srgbClr val="339966"/>
            </a:solidFill>
            <a:prstDash val="dash"/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аксимально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количество -  5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вязано с максимальным объемом оперативной памят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птимально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количество – 3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Легче определять важность той или иной предстоящей работы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нужденное количество - 0-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6" name="Picture 5" descr="https://coachingsession.ru/attachments/Image/goals.jpg?template=generic"/>
          <p:cNvPicPr/>
          <p:nvPr/>
        </p:nvPicPr>
        <p:blipFill>
          <a:blip r:embed="rId1"/>
          <a:stretch/>
        </p:blipFill>
        <p:spPr>
          <a:xfrm>
            <a:off x="5580000" y="4149720"/>
            <a:ext cx="3411720" cy="23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23640" y="304560"/>
            <a:ext cx="85690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АКСИМАЛЬНЫЙ ОБЪЕМ КОНТРОЛИРУЕМЫХ ЗАДА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еловек не способен контролировать выполн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олее чем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задач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ли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групп зада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89330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ЦЕЛИ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актические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тратегическ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221360" cy="4876920"/>
          </a:xfrm>
          <a:prstGeom prst="rect">
            <a:avLst/>
          </a:prstGeom>
          <a:solidFill>
            <a:srgbClr val="ccffff">
              <a:alpha val="50000"/>
            </a:srgbClr>
          </a:solidFill>
          <a:ln w="57240">
            <a:solidFill>
              <a:srgbClr val="006666"/>
            </a:solidFill>
            <a:miter/>
          </a:ln>
        </p:spPr>
        <p:txBody>
          <a:bodyPr lIns="118440" rIns="118440" tIns="75240" bIns="7524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541760" y="1371240"/>
            <a:ext cx="4221360" cy="4876920"/>
          </a:xfrm>
          <a:prstGeom prst="rect">
            <a:avLst/>
          </a:prstGeom>
          <a:solidFill>
            <a:srgbClr val="ccffff">
              <a:alpha val="50000"/>
            </a:srgbClr>
          </a:solidFill>
          <a:ln w="57240">
            <a:solidFill>
              <a:srgbClr val="006666"/>
            </a:solidFill>
            <a:miter/>
          </a:ln>
        </p:spPr>
        <p:txBody>
          <a:bodyPr lIns="118440" rIns="118440" tIns="75240" bIns="7524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AutoShape 2"/>
          <p:cNvSpPr/>
          <p:nvPr/>
        </p:nvSpPr>
        <p:spPr>
          <a:xfrm>
            <a:off x="1828800" y="1143000"/>
            <a:ext cx="1057320" cy="91440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AutoShape 3"/>
          <p:cNvSpPr/>
          <p:nvPr/>
        </p:nvSpPr>
        <p:spPr>
          <a:xfrm>
            <a:off x="7620120" y="1143000"/>
            <a:ext cx="1057320" cy="91440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AutoShape 4"/>
          <p:cNvSpPr/>
          <p:nvPr/>
        </p:nvSpPr>
        <p:spPr>
          <a:xfrm>
            <a:off x="6629400" y="3657600"/>
            <a:ext cx="1057320" cy="91440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AutoShape 5"/>
          <p:cNvSpPr/>
          <p:nvPr/>
        </p:nvSpPr>
        <p:spPr>
          <a:xfrm>
            <a:off x="4038480" y="3886200"/>
            <a:ext cx="1057320" cy="91440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Rectangle 6"/>
          <p:cNvSpPr/>
          <p:nvPr/>
        </p:nvSpPr>
        <p:spPr>
          <a:xfrm>
            <a:off x="2209680" y="4038480"/>
            <a:ext cx="91440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Rectangle 7"/>
          <p:cNvSpPr/>
          <p:nvPr/>
        </p:nvSpPr>
        <p:spPr>
          <a:xfrm>
            <a:off x="533520" y="3581280"/>
            <a:ext cx="91440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Rectangle 8"/>
          <p:cNvSpPr/>
          <p:nvPr/>
        </p:nvSpPr>
        <p:spPr>
          <a:xfrm>
            <a:off x="4267080" y="1295280"/>
            <a:ext cx="91440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Rectangle 9"/>
          <p:cNvSpPr/>
          <p:nvPr/>
        </p:nvSpPr>
        <p:spPr>
          <a:xfrm>
            <a:off x="5791320" y="5029200"/>
            <a:ext cx="91440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AutoShape 10"/>
          <p:cNvSpPr/>
          <p:nvPr/>
        </p:nvSpPr>
        <p:spPr>
          <a:xfrm>
            <a:off x="7162920" y="5715000"/>
            <a:ext cx="1047600" cy="914400"/>
          </a:xfrm>
          <a:custGeom>
            <a:avLst/>
            <a:gdLst>
              <a:gd name="textAreaLeft" fmla="*/ 244080 w 1047600"/>
              <a:gd name="textAreaRight" fmla="*/ 803160 w 1047600"/>
              <a:gd name="textAreaTop" fmla="*/ 96120 h 914400"/>
              <a:gd name="textAreaBottom" fmla="*/ 578880 h 91440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AutoShape 11"/>
          <p:cNvSpPr/>
          <p:nvPr/>
        </p:nvSpPr>
        <p:spPr>
          <a:xfrm>
            <a:off x="990720" y="5715000"/>
            <a:ext cx="1047600" cy="914400"/>
          </a:xfrm>
          <a:custGeom>
            <a:avLst/>
            <a:gdLst>
              <a:gd name="textAreaLeft" fmla="*/ 244080 w 1047600"/>
              <a:gd name="textAreaRight" fmla="*/ 803160 w 1047600"/>
              <a:gd name="textAreaTop" fmla="*/ 96120 h 914400"/>
              <a:gd name="textAreaBottom" fmla="*/ 578880 h 91440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AutoShape 12"/>
          <p:cNvSpPr/>
          <p:nvPr/>
        </p:nvSpPr>
        <p:spPr>
          <a:xfrm>
            <a:off x="1523880" y="2895480"/>
            <a:ext cx="1047960" cy="914400"/>
          </a:xfrm>
          <a:custGeom>
            <a:avLst/>
            <a:gdLst>
              <a:gd name="textAreaLeft" fmla="*/ 244440 w 1047960"/>
              <a:gd name="textAreaRight" fmla="*/ 803520 w 1047960"/>
              <a:gd name="textAreaTop" fmla="*/ 96120 h 914400"/>
              <a:gd name="textAreaBottom" fmla="*/ 578880 h 91440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AutoShape 13"/>
          <p:cNvSpPr/>
          <p:nvPr/>
        </p:nvSpPr>
        <p:spPr>
          <a:xfrm>
            <a:off x="5562720" y="2133720"/>
            <a:ext cx="1047600" cy="914400"/>
          </a:xfrm>
          <a:custGeom>
            <a:avLst/>
            <a:gdLst>
              <a:gd name="textAreaLeft" fmla="*/ 244080 w 1047600"/>
              <a:gd name="textAreaRight" fmla="*/ 803160 w 1047600"/>
              <a:gd name="textAreaTop" fmla="*/ 96120 h 914400"/>
              <a:gd name="textAreaBottom" fmla="*/ 578880 h 91440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AutoShape 14"/>
          <p:cNvSpPr/>
          <p:nvPr/>
        </p:nvSpPr>
        <p:spPr>
          <a:xfrm>
            <a:off x="3276720" y="571500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AutoShape 15"/>
          <p:cNvSpPr/>
          <p:nvPr/>
        </p:nvSpPr>
        <p:spPr>
          <a:xfrm>
            <a:off x="457200" y="152388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AutoShape 16"/>
          <p:cNvSpPr/>
          <p:nvPr/>
        </p:nvSpPr>
        <p:spPr>
          <a:xfrm>
            <a:off x="7467480" y="289548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AutoShape 17"/>
          <p:cNvSpPr/>
          <p:nvPr/>
        </p:nvSpPr>
        <p:spPr>
          <a:xfrm>
            <a:off x="4572000" y="541008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979280" y="151920"/>
            <a:ext cx="586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 ХАОСА К КОНТРОЛЮ СИТУАЦИИ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9" name="Object 3" descr=""/>
          <p:cNvPicPr/>
          <p:nvPr/>
        </p:nvPicPr>
        <p:blipFill>
          <a:blip r:embed="rId1"/>
          <a:stretch/>
        </p:blipFill>
        <p:spPr>
          <a:xfrm>
            <a:off x="2176560" y="1295280"/>
            <a:ext cx="460044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AutoShape 2"/>
          <p:cNvSpPr/>
          <p:nvPr/>
        </p:nvSpPr>
        <p:spPr>
          <a:xfrm>
            <a:off x="5791320" y="1219320"/>
            <a:ext cx="1057320" cy="914400"/>
          </a:xfrm>
          <a:prstGeom prst="triangle">
            <a:avLst>
              <a:gd name="adj" fmla="val 500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AutoShape 3"/>
          <p:cNvSpPr/>
          <p:nvPr/>
        </p:nvSpPr>
        <p:spPr>
          <a:xfrm>
            <a:off x="7620120" y="1219320"/>
            <a:ext cx="1057320" cy="914400"/>
          </a:xfrm>
          <a:prstGeom prst="triangle">
            <a:avLst>
              <a:gd name="adj" fmla="val 500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AutoShape 4"/>
          <p:cNvSpPr/>
          <p:nvPr/>
        </p:nvSpPr>
        <p:spPr>
          <a:xfrm>
            <a:off x="5791320" y="2666880"/>
            <a:ext cx="1057320" cy="914400"/>
          </a:xfrm>
          <a:prstGeom prst="triangle">
            <a:avLst>
              <a:gd name="adj" fmla="val 500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AutoShape 5"/>
          <p:cNvSpPr/>
          <p:nvPr/>
        </p:nvSpPr>
        <p:spPr>
          <a:xfrm>
            <a:off x="7620120" y="2590920"/>
            <a:ext cx="1057320" cy="914400"/>
          </a:xfrm>
          <a:prstGeom prst="triangle">
            <a:avLst>
              <a:gd name="adj" fmla="val 500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Rectangle 6"/>
          <p:cNvSpPr/>
          <p:nvPr/>
        </p:nvSpPr>
        <p:spPr>
          <a:xfrm>
            <a:off x="304920" y="2743200"/>
            <a:ext cx="91440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Rectangle 7"/>
          <p:cNvSpPr/>
          <p:nvPr/>
        </p:nvSpPr>
        <p:spPr>
          <a:xfrm>
            <a:off x="1676520" y="1295280"/>
            <a:ext cx="91440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Rectangle 8"/>
          <p:cNvSpPr/>
          <p:nvPr/>
        </p:nvSpPr>
        <p:spPr>
          <a:xfrm>
            <a:off x="304920" y="1295280"/>
            <a:ext cx="91440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Rectangle 9"/>
          <p:cNvSpPr/>
          <p:nvPr/>
        </p:nvSpPr>
        <p:spPr>
          <a:xfrm>
            <a:off x="1676520" y="2743200"/>
            <a:ext cx="91440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AutoShape 10"/>
          <p:cNvSpPr/>
          <p:nvPr/>
        </p:nvSpPr>
        <p:spPr>
          <a:xfrm>
            <a:off x="1676520" y="5334120"/>
            <a:ext cx="1047600" cy="914400"/>
          </a:xfrm>
          <a:custGeom>
            <a:avLst/>
            <a:gdLst>
              <a:gd name="textAreaLeft" fmla="*/ 244080 w 1047600"/>
              <a:gd name="textAreaRight" fmla="*/ 803160 w 1047600"/>
              <a:gd name="textAreaTop" fmla="*/ 96120 h 914400"/>
              <a:gd name="textAreaBottom" fmla="*/ 578880 h 91440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AutoShape 11"/>
          <p:cNvSpPr/>
          <p:nvPr/>
        </p:nvSpPr>
        <p:spPr>
          <a:xfrm>
            <a:off x="228600" y="5334120"/>
            <a:ext cx="1047600" cy="914400"/>
          </a:xfrm>
          <a:custGeom>
            <a:avLst/>
            <a:gdLst>
              <a:gd name="textAreaLeft" fmla="*/ 244080 w 1047600"/>
              <a:gd name="textAreaRight" fmla="*/ 803160 w 1047600"/>
              <a:gd name="textAreaTop" fmla="*/ 96120 h 914400"/>
              <a:gd name="textAreaBottom" fmla="*/ 578880 h 91440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AutoShape 12"/>
          <p:cNvSpPr/>
          <p:nvPr/>
        </p:nvSpPr>
        <p:spPr>
          <a:xfrm>
            <a:off x="1676520" y="4038480"/>
            <a:ext cx="1047600" cy="914400"/>
          </a:xfrm>
          <a:custGeom>
            <a:avLst/>
            <a:gdLst>
              <a:gd name="textAreaLeft" fmla="*/ 244080 w 1047600"/>
              <a:gd name="textAreaRight" fmla="*/ 803160 w 1047600"/>
              <a:gd name="textAreaTop" fmla="*/ 96120 h 914400"/>
              <a:gd name="textAreaBottom" fmla="*/ 578880 h 91440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AutoShape 13"/>
          <p:cNvSpPr/>
          <p:nvPr/>
        </p:nvSpPr>
        <p:spPr>
          <a:xfrm>
            <a:off x="228600" y="4038480"/>
            <a:ext cx="1047600" cy="914400"/>
          </a:xfrm>
          <a:custGeom>
            <a:avLst/>
            <a:gdLst>
              <a:gd name="textAreaLeft" fmla="*/ 244080 w 1047600"/>
              <a:gd name="textAreaRight" fmla="*/ 803160 w 1047600"/>
              <a:gd name="textAreaTop" fmla="*/ 96120 h 914400"/>
              <a:gd name="textAreaBottom" fmla="*/ 578880 h 91440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AutoShape 14"/>
          <p:cNvSpPr/>
          <p:nvPr/>
        </p:nvSpPr>
        <p:spPr>
          <a:xfrm>
            <a:off x="5791320" y="396252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AutoShape 15"/>
          <p:cNvSpPr/>
          <p:nvPr/>
        </p:nvSpPr>
        <p:spPr>
          <a:xfrm>
            <a:off x="7696080" y="533412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AutoShape 16"/>
          <p:cNvSpPr/>
          <p:nvPr/>
        </p:nvSpPr>
        <p:spPr>
          <a:xfrm>
            <a:off x="7696080" y="396252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AutoShape 17"/>
          <p:cNvSpPr/>
          <p:nvPr/>
        </p:nvSpPr>
        <p:spPr>
          <a:xfrm>
            <a:off x="5867280" y="533412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39640" y="1557360"/>
            <a:ext cx="7918560" cy="32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юди объединяются в группы для выполнения работы, которую нельзя сделать в одиночку.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ля этого надо решить две задачи: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 распределить выполняемые функции между участниками совместной работы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 скоординировать действия участников для достижения общей цели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subTitle"/>
          </p:nvPr>
        </p:nvSpPr>
        <p:spPr>
          <a:xfrm>
            <a:off x="971280" y="5229360"/>
            <a:ext cx="8280360" cy="98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бренькова Е.В., Долгоруков А.М.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ратегическое управление бизнесо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М.: Импра, 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8" name="Объект 1"/>
          <p:cNvGraphicFramePr/>
          <p:nvPr/>
        </p:nvGraphicFramePr>
        <p:xfrm>
          <a:off x="7596360" y="115920"/>
          <a:ext cx="1152360" cy="115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9" name="Объект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96360" y="115920"/>
                    <a:ext cx="1152360" cy="115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0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2"/>
          <p:cNvSpPr/>
          <p:nvPr/>
        </p:nvSpPr>
        <p:spPr>
          <a:xfrm>
            <a:off x="1332000" y="2205000"/>
            <a:ext cx="6083280" cy="4345200"/>
          </a:xfrm>
          <a:prstGeom prst="rect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Rectangle 3"/>
          <p:cNvSpPr/>
          <p:nvPr/>
        </p:nvSpPr>
        <p:spPr>
          <a:xfrm>
            <a:off x="1332000" y="1762200"/>
            <a:ext cx="6083280" cy="2425680"/>
          </a:xfrm>
          <a:prstGeom prst="rect">
            <a:avLst/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Line 4"/>
          <p:cNvSpPr/>
          <p:nvPr/>
        </p:nvSpPr>
        <p:spPr>
          <a:xfrm>
            <a:off x="1325520" y="6556320"/>
            <a:ext cx="6705720" cy="0"/>
          </a:xfrm>
          <a:prstGeom prst="line">
            <a:avLst/>
          </a:prstGeom>
          <a:ln w="127080">
            <a:solidFill>
              <a:srgbClr val="000000"/>
            </a:solidFill>
            <a:miter/>
            <a:headEnd len="med" type="oval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Line 5"/>
          <p:cNvSpPr/>
          <p:nvPr/>
        </p:nvSpPr>
        <p:spPr>
          <a:xfrm>
            <a:off x="1325520" y="1146240"/>
            <a:ext cx="0" cy="5410080"/>
          </a:xfrm>
          <a:prstGeom prst="line">
            <a:avLst/>
          </a:prstGeom>
          <a:ln w="127080">
            <a:solidFill>
              <a:srgbClr val="000000"/>
            </a:solidFill>
            <a:miter/>
            <a:headEnd len="lg" type="stealth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Rectangle 6"/>
          <p:cNvSpPr/>
          <p:nvPr/>
        </p:nvSpPr>
        <p:spPr>
          <a:xfrm>
            <a:off x="4962600" y="2379600"/>
            <a:ext cx="1719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АЖНО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РОЧНО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Rectangle 7"/>
          <p:cNvSpPr/>
          <p:nvPr/>
        </p:nvSpPr>
        <p:spPr>
          <a:xfrm>
            <a:off x="4866840" y="4894200"/>
            <a:ext cx="1913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еВАЖНО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РОЧНО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Rectangle 8"/>
          <p:cNvSpPr/>
          <p:nvPr/>
        </p:nvSpPr>
        <p:spPr>
          <a:xfrm>
            <a:off x="1739880" y="4894200"/>
            <a:ext cx="2073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еВАЖНО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еСРОЧНО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Rectangle 9"/>
          <p:cNvSpPr/>
          <p:nvPr/>
        </p:nvSpPr>
        <p:spPr>
          <a:xfrm>
            <a:off x="1739880" y="2379600"/>
            <a:ext cx="2073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АЖНО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еСРОЧНО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0" name="Object 10"/>
          <p:cNvGraphicFramePr/>
          <p:nvPr/>
        </p:nvGraphicFramePr>
        <p:xfrm>
          <a:off x="7951680" y="5106960"/>
          <a:ext cx="609840" cy="110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1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51680" y="5106960"/>
                    <a:ext cx="609840" cy="110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2" name="Object 11"/>
          <p:cNvGraphicFramePr/>
          <p:nvPr/>
        </p:nvGraphicFramePr>
        <p:xfrm>
          <a:off x="539640" y="287280"/>
          <a:ext cx="716040" cy="730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83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9640" y="287280"/>
                    <a:ext cx="716040" cy="73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4" name="Line 12"/>
          <p:cNvSpPr/>
          <p:nvPr/>
        </p:nvSpPr>
        <p:spPr>
          <a:xfrm>
            <a:off x="4297320" y="1755720"/>
            <a:ext cx="0" cy="4800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Rectangle 13"/>
          <p:cNvSpPr/>
          <p:nvPr/>
        </p:nvSpPr>
        <p:spPr>
          <a:xfrm>
            <a:off x="1979640" y="260280"/>
            <a:ext cx="563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атрица Эйзенхауэр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640720" cy="86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ДНАЗНАЧЕНИЕ МЕНЕДЖЕР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480" y="5105160"/>
            <a:ext cx="746784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lvl="1" marL="735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 “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Управлять - значит приводи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к успеху других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 algn="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итер Друкер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Object 4" descr=""/>
          <p:cNvPicPr/>
          <p:nvPr/>
        </p:nvPicPr>
        <p:blipFill>
          <a:blip r:embed="rId1"/>
          <a:stretch/>
        </p:blipFill>
        <p:spPr>
          <a:xfrm>
            <a:off x="2195640" y="1628640"/>
            <a:ext cx="4876560" cy="319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8497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лишком много важных срочных де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сроки и даты управ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л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яют Вам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Вас одолевают постоянные авралы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у Вас нет времени на перспективные планы?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ичин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еправильно расставлены приорите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ытаетесь все сделать сами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Что делать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ересмотреть приорите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учиться делегиров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8" name="Объект 1"/>
          <p:cNvGraphicFramePr/>
          <p:nvPr/>
        </p:nvGraphicFramePr>
        <p:xfrm>
          <a:off x="539640" y="189000"/>
          <a:ext cx="716040" cy="73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9" name="Объект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89000"/>
                    <a:ext cx="716040" cy="73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85690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лишком много неважных  срочных де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выполняете самую неважную часть работы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кто это устроил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кто за Вас делает остальное?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ичин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з всех задач Вы выбрали самые неваж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ы отказались от планирования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Что делать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ересмотреть приорите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оздать план выполнения зада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2" name="Объект 1"/>
          <p:cNvGraphicFramePr/>
          <p:nvPr/>
        </p:nvGraphicFramePr>
        <p:xfrm>
          <a:off x="468360" y="260280"/>
          <a:ext cx="716040" cy="730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3" name="Объект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260280"/>
                    <a:ext cx="716040" cy="73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4247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лишком много неважных несрочных де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219200" y="1981080"/>
            <a:ext cx="4713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За что В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платя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зарплату?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6" name="Object 4" descr=""/>
          <p:cNvPicPr/>
          <p:nvPr/>
        </p:nvPicPr>
        <p:blipFill>
          <a:blip r:embed="rId1"/>
          <a:stretch/>
        </p:blipFill>
        <p:spPr>
          <a:xfrm>
            <a:off x="281160" y="2139840"/>
            <a:ext cx="3773160" cy="3797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97" name="Объект 1"/>
          <p:cNvGraphicFramePr/>
          <p:nvPr/>
        </p:nvGraphicFramePr>
        <p:xfrm>
          <a:off x="324000" y="189000"/>
          <a:ext cx="715680" cy="730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98" name="Объект 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4000" y="189000"/>
                    <a:ext cx="715680" cy="73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8497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онцентрация на важных несрочных дела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озможность сосредоточить усилия на главном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онцентрация на перспективе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 не на проблем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1" name="Объект 1"/>
          <p:cNvGraphicFramePr/>
          <p:nvPr/>
        </p:nvGraphicFramePr>
        <p:xfrm>
          <a:off x="250920" y="260280"/>
          <a:ext cx="716040" cy="730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2" name="Объект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260280"/>
                    <a:ext cx="716040" cy="73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250560" y="304560"/>
            <a:ext cx="8281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Arial"/>
              </a:rPr>
              <a:t>Планирование </a:t>
            </a:r>
            <a:br>
              <a:rPr sz="4000"/>
            </a:br>
            <a:r>
              <a:rPr b="0" lang="ru-RU" sz="4000" spc="-1" strike="noStrike">
                <a:solidFill>
                  <a:srgbClr val="002060"/>
                </a:solidFill>
                <a:latin typeface="Arial"/>
              </a:rPr>
              <a:t>как функция менеджмент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то………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обходимо для………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5" name="Объект 1"/>
          <p:cNvGraphicFramePr/>
          <p:nvPr/>
        </p:nvGraphicFramePr>
        <p:xfrm>
          <a:off x="324000" y="11160"/>
          <a:ext cx="715680" cy="73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6" name="Объект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1160"/>
                    <a:ext cx="715680" cy="73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250560" y="304560"/>
            <a:ext cx="8281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Arial"/>
              </a:rPr>
              <a:t>Планирование </a:t>
            </a:r>
            <a:br>
              <a:rPr sz="4000"/>
            </a:br>
            <a:r>
              <a:rPr b="0" lang="ru-RU" sz="4000" spc="-1" strike="noStrike">
                <a:solidFill>
                  <a:srgbClr val="002060"/>
                </a:solidFill>
                <a:latin typeface="Arial"/>
              </a:rPr>
              <a:t>как функция менеджмент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следовательность выполнения задач с учетом состояния    ресурсов   результат:    план   действий   для подчиненных/исполнителе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9" name="Объект 1"/>
          <p:cNvGraphicFramePr/>
          <p:nvPr/>
        </p:nvGraphicFramePr>
        <p:xfrm>
          <a:off x="250920" y="189000"/>
          <a:ext cx="716040" cy="73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0" name="Объект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89000"/>
                    <a:ext cx="716040" cy="73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987640" y="259920"/>
            <a:ext cx="35863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иды планирова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6840" y="2050920"/>
            <a:ext cx="8001000" cy="404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тратегическое планирование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оектное планирование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перативное планиро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3" name="Объект 1"/>
          <p:cNvGraphicFramePr/>
          <p:nvPr/>
        </p:nvGraphicFramePr>
        <p:xfrm>
          <a:off x="539640" y="189000"/>
          <a:ext cx="716040" cy="73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4" name="Объект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89000"/>
                    <a:ext cx="716040" cy="73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209320" y="304560"/>
            <a:ext cx="48769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иагр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мма Гант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Rectangle 3"/>
          <p:cNvSpPr/>
          <p:nvPr/>
        </p:nvSpPr>
        <p:spPr>
          <a:xfrm>
            <a:off x="1225440" y="2139840"/>
            <a:ext cx="63720" cy="33400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Rectangle 4"/>
          <p:cNvSpPr/>
          <p:nvPr/>
        </p:nvSpPr>
        <p:spPr>
          <a:xfrm>
            <a:off x="1225440" y="5492880"/>
            <a:ext cx="6540480" cy="6336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1301760" y="2139840"/>
            <a:ext cx="1130400" cy="292320"/>
          </a:xfrm>
          <a:prstGeom prst="rect">
            <a:avLst/>
          </a:prstGeom>
          <a:solidFill>
            <a:srgbClr val="33cc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2444760" y="2444760"/>
            <a:ext cx="749160" cy="291960"/>
          </a:xfrm>
          <a:prstGeom prst="rect">
            <a:avLst/>
          </a:prstGeom>
          <a:solidFill>
            <a:srgbClr val="33cc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Rectangle 7"/>
          <p:cNvSpPr/>
          <p:nvPr/>
        </p:nvSpPr>
        <p:spPr>
          <a:xfrm>
            <a:off x="3206880" y="2749680"/>
            <a:ext cx="1130040" cy="291960"/>
          </a:xfrm>
          <a:prstGeom prst="rect">
            <a:avLst/>
          </a:prstGeom>
          <a:solidFill>
            <a:srgbClr val="33cc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Rectangle 8"/>
          <p:cNvSpPr/>
          <p:nvPr/>
        </p:nvSpPr>
        <p:spPr>
          <a:xfrm>
            <a:off x="3587760" y="3054240"/>
            <a:ext cx="1892160" cy="292320"/>
          </a:xfrm>
          <a:prstGeom prst="rect">
            <a:avLst/>
          </a:prstGeom>
          <a:solidFill>
            <a:srgbClr val="33cc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Rectangle 9"/>
          <p:cNvSpPr/>
          <p:nvPr/>
        </p:nvSpPr>
        <p:spPr>
          <a:xfrm>
            <a:off x="4349880" y="3359160"/>
            <a:ext cx="1739880" cy="291960"/>
          </a:xfrm>
          <a:prstGeom prst="rect">
            <a:avLst/>
          </a:prstGeom>
          <a:solidFill>
            <a:srgbClr val="33cc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Rectangle 10"/>
          <p:cNvSpPr/>
          <p:nvPr/>
        </p:nvSpPr>
        <p:spPr>
          <a:xfrm>
            <a:off x="4883040" y="3664080"/>
            <a:ext cx="2882880" cy="291960"/>
          </a:xfrm>
          <a:prstGeom prst="rect">
            <a:avLst/>
          </a:prstGeom>
          <a:solidFill>
            <a:srgbClr val="33cc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Rectangle 11"/>
          <p:cNvSpPr/>
          <p:nvPr/>
        </p:nvSpPr>
        <p:spPr>
          <a:xfrm>
            <a:off x="4425840" y="4273560"/>
            <a:ext cx="1816200" cy="291960"/>
          </a:xfrm>
          <a:prstGeom prst="rect">
            <a:avLst/>
          </a:prstGeom>
          <a:solidFill>
            <a:srgbClr val="33cc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Rectangle 12"/>
          <p:cNvSpPr/>
          <p:nvPr/>
        </p:nvSpPr>
        <p:spPr>
          <a:xfrm>
            <a:off x="6330960" y="4883040"/>
            <a:ext cx="520560" cy="292320"/>
          </a:xfrm>
          <a:prstGeom prst="rect">
            <a:avLst/>
          </a:prstGeom>
          <a:solidFill>
            <a:srgbClr val="33cc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Rectangle 13"/>
          <p:cNvSpPr/>
          <p:nvPr/>
        </p:nvSpPr>
        <p:spPr>
          <a:xfrm>
            <a:off x="6864480" y="5187960"/>
            <a:ext cx="901440" cy="291960"/>
          </a:xfrm>
          <a:prstGeom prst="rect">
            <a:avLst/>
          </a:prstGeom>
          <a:solidFill>
            <a:srgbClr val="33cc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Rectangle 14"/>
          <p:cNvSpPr/>
          <p:nvPr/>
        </p:nvSpPr>
        <p:spPr>
          <a:xfrm>
            <a:off x="5645160" y="3968640"/>
            <a:ext cx="1130400" cy="292320"/>
          </a:xfrm>
          <a:prstGeom prst="rect">
            <a:avLst/>
          </a:prstGeom>
          <a:solidFill>
            <a:srgbClr val="33cc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Rectangle 15"/>
          <p:cNvSpPr/>
          <p:nvPr/>
        </p:nvSpPr>
        <p:spPr>
          <a:xfrm>
            <a:off x="5721480" y="4578480"/>
            <a:ext cx="1130040" cy="291960"/>
          </a:xfrm>
          <a:prstGeom prst="rect">
            <a:avLst/>
          </a:prstGeom>
          <a:solidFill>
            <a:srgbClr val="33cc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2209320" y="304560"/>
            <a:ext cx="48769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Диаграмма Ганта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456840" y="14475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то один из наиболее популярных способов графического представления плана проекта и графика работ. Диаграмма представляет собой изображение задач в виде отрезков на шкале времени.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иаграмма Ганта позволяет: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изуально оценить последовательность задач, их относительную длительность и протяженность проекта в цел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равнить планируемый и реальный ход выполнения зада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етально проанализировать реальный ход выполнения задач. На план-графике отображаются интервалы времени, в течение которых задача: выполнялась, была приостановлена, возвращалась на доработку и т.д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1" name="Объект 1"/>
          <p:cNvGraphicFramePr/>
          <p:nvPr/>
        </p:nvGraphicFramePr>
        <p:xfrm>
          <a:off x="539640" y="189000"/>
          <a:ext cx="716040" cy="73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2" name="Объект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89000"/>
                    <a:ext cx="716040" cy="73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58560" y="259920"/>
            <a:ext cx="87850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Arial"/>
              </a:rPr>
              <a:t>Организация как функция менеджмент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спределение и постановка задач перед подчиненными, формирование мотив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пределение ответственности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 создание календарных планов исполнител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оздание системы обратной связ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оздание системы мотив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зультат: понятые и принятые исполнителями задач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5" name="Объект 1"/>
          <p:cNvGraphicFramePr/>
          <p:nvPr/>
        </p:nvGraphicFramePr>
        <p:xfrm>
          <a:off x="539640" y="189000"/>
          <a:ext cx="716040" cy="73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6" name="Объект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89000"/>
                    <a:ext cx="716040" cy="73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AutoShape 3"/>
          <p:cNvSpPr/>
          <p:nvPr/>
        </p:nvSpPr>
        <p:spPr>
          <a:xfrm>
            <a:off x="2511360" y="1895400"/>
            <a:ext cx="3903840" cy="2678040"/>
          </a:xfrm>
          <a:prstGeom prst="triangle">
            <a:avLst>
              <a:gd name="adj" fmla="val 49995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3599640" y="3220920"/>
            <a:ext cx="17258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зульта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5"/>
          <p:cNvSpPr/>
          <p:nvPr/>
        </p:nvSpPr>
        <p:spPr>
          <a:xfrm>
            <a:off x="3984480" y="1382760"/>
            <a:ext cx="957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Цел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3707640" y="4565520"/>
            <a:ext cx="1510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сурс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8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РЕУГОЛЬНИК МЕНЕДЖМЕНТ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ГЛЯД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УКОВОДИТЕЛЯ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ДЧИНЕННЫХ НА ВЫПОЛНЯЕМЫЕ ЗАДАЧ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Rectangle 3"/>
          <p:cNvSpPr/>
          <p:nvPr/>
        </p:nvSpPr>
        <p:spPr>
          <a:xfrm>
            <a:off x="2673360" y="2666880"/>
            <a:ext cx="2179800" cy="25909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Rectangle 4"/>
          <p:cNvSpPr/>
          <p:nvPr/>
        </p:nvSpPr>
        <p:spPr>
          <a:xfrm>
            <a:off x="4994280" y="1828800"/>
            <a:ext cx="3409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идят руководители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видят подчиненны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Rectangle 5"/>
          <p:cNvSpPr/>
          <p:nvPr/>
        </p:nvSpPr>
        <p:spPr>
          <a:xfrm>
            <a:off x="1752840" y="1981080"/>
            <a:ext cx="794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Rectangle 6"/>
          <p:cNvSpPr/>
          <p:nvPr/>
        </p:nvSpPr>
        <p:spPr>
          <a:xfrm>
            <a:off x="1822680" y="5562720"/>
            <a:ext cx="794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Rectangle 7"/>
          <p:cNvSpPr/>
          <p:nvPr/>
        </p:nvSpPr>
        <p:spPr>
          <a:xfrm>
            <a:off x="2673360" y="1676520"/>
            <a:ext cx="2179800" cy="1015920"/>
          </a:xfrm>
          <a:prstGeom prst="rect">
            <a:avLst/>
          </a:prstGeom>
          <a:solidFill>
            <a:srgbClr val="ff505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Rectangle 8"/>
          <p:cNvSpPr/>
          <p:nvPr/>
        </p:nvSpPr>
        <p:spPr>
          <a:xfrm>
            <a:off x="2673360" y="5257800"/>
            <a:ext cx="2179800" cy="1015920"/>
          </a:xfrm>
          <a:prstGeom prst="rect">
            <a:avLst/>
          </a:prstGeom>
          <a:solidFill>
            <a:srgbClr val="ff505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Rectangle 9"/>
          <p:cNvSpPr/>
          <p:nvPr/>
        </p:nvSpPr>
        <p:spPr>
          <a:xfrm>
            <a:off x="1752840" y="3657600"/>
            <a:ext cx="794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Rectangle 10"/>
          <p:cNvSpPr/>
          <p:nvPr/>
        </p:nvSpPr>
        <p:spPr>
          <a:xfrm>
            <a:off x="4992480" y="5410080"/>
            <a:ext cx="3470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идят подчиненные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видят руководител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Rectangle 11"/>
          <p:cNvSpPr/>
          <p:nvPr/>
        </p:nvSpPr>
        <p:spPr>
          <a:xfrm>
            <a:off x="4926240" y="3429000"/>
            <a:ext cx="3982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щий взгляд на задачи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полняемые персонало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2209320" y="304560"/>
            <a:ext cx="48769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ПЫ ВЛАСТ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зиционная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Основана на положении в организации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Личная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Основана на личной харизм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7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идер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дминистрато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38098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Думает, как поощрить персонал лучше работа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ам принимает решения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мело берется решать сложные пробле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Терпим к открытому несогласи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Берет вину на себя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ложительно отзывается о своих сотрудниках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следователен и честен по отношению к подчиненны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724280" y="1371240"/>
            <a:ext cx="42674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Думает о личном вознаграждении, статус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ичего не решает без руковод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Уходит от решения сложных пробл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етерпим к любому несогласи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Ищет “козла отпущения”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Жалуется на отсутствие компетентных работников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меет размытую (неизвестную подчиненным) систему ценност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2" name="Object 5"/>
          <p:cNvGraphicFramePr/>
          <p:nvPr/>
        </p:nvGraphicFramePr>
        <p:xfrm>
          <a:off x="3564000" y="0"/>
          <a:ext cx="1520640" cy="111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3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64000" y="0"/>
                    <a:ext cx="1520640" cy="11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4" name="Group 2"/>
          <p:cNvGrpSpPr/>
          <p:nvPr/>
        </p:nvGrpSpPr>
        <p:grpSpPr>
          <a:xfrm>
            <a:off x="3714840" y="5265720"/>
            <a:ext cx="2789280" cy="638280"/>
            <a:chOff x="3714840" y="5265720"/>
            <a:chExt cx="2789280" cy="638280"/>
          </a:xfrm>
        </p:grpSpPr>
        <p:sp>
          <p:nvSpPr>
            <p:cNvPr id="555" name="AutoShape 3"/>
            <p:cNvSpPr/>
            <p:nvPr/>
          </p:nvSpPr>
          <p:spPr>
            <a:xfrm>
              <a:off x="3714840" y="5265720"/>
              <a:ext cx="2789280" cy="638280"/>
            </a:xfrm>
            <a:custGeom>
              <a:avLst/>
              <a:gdLst>
                <a:gd name="textAreaLeft" fmla="*/ 507960 w 2789280"/>
                <a:gd name="textAreaRight" fmla="*/ 2281320 w 2789280"/>
                <a:gd name="textAreaTop" fmla="*/ 95040 h 638280"/>
                <a:gd name="textAreaBottom" fmla="*/ 543240 h 638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3224"/>
                  </a:moveTo>
                  <a:lnTo>
                    <a:pt x="15991" y="3224"/>
                  </a:lnTo>
                  <a:lnTo>
                    <a:pt x="15991" y="0"/>
                  </a:lnTo>
                  <a:lnTo>
                    <a:pt x="21600" y="10800"/>
                  </a:lnTo>
                  <a:lnTo>
                    <a:pt x="15991" y="21600"/>
                  </a:lnTo>
                  <a:lnTo>
                    <a:pt x="15991" y="18376"/>
                  </a:lnTo>
                  <a:lnTo>
                    <a:pt x="0" y="18376"/>
                  </a:lnTo>
                  <a:lnTo>
                    <a:pt x="3935" y="10800"/>
                  </a:lnTo>
                  <a:lnTo>
                    <a:pt x="0" y="3224"/>
                  </a:lnTo>
                  <a:close/>
                </a:path>
              </a:pathLst>
            </a:custGeom>
            <a:gradFill rotWithShape="0">
              <a:gsLst>
                <a:gs pos="0">
                  <a:srgbClr val="66ff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Text Box 4"/>
            <p:cNvSpPr/>
            <p:nvPr/>
          </p:nvSpPr>
          <p:spPr>
            <a:xfrm>
              <a:off x="4246560" y="5288040"/>
              <a:ext cx="21636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0000"/>
                  </a:solidFill>
                  <a:latin typeface="Arial"/>
                  <a:ea typeface="Arial"/>
                </a:rPr>
                <a:t>Делегирование полномочий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7" name="Text Box 5"/>
          <p:cNvSpPr/>
          <p:nvPr/>
        </p:nvSpPr>
        <p:spPr>
          <a:xfrm>
            <a:off x="2097000" y="1879560"/>
            <a:ext cx="685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a8950"/>
                </a:solidFill>
                <a:latin typeface="Arial"/>
                <a:ea typeface="Arial"/>
              </a:rPr>
              <a:t>Цель: </a:t>
            </a:r>
            <a:r>
              <a:rPr b="1" lang="ru-RU" sz="1800" spc="-1" strike="noStrike">
                <a:solidFill>
                  <a:srgbClr val="ff9933"/>
                </a:solidFill>
                <a:latin typeface="Arial"/>
                <a:ea typeface="Arial"/>
              </a:rPr>
              <a:t>навыки выбора стиля лидерства под конкретную задачу в зависимости от профессионализма и мотивации подчиненного</a:t>
            </a:r>
            <a:r>
              <a:rPr b="0" lang="ru-RU" sz="1800" spc="-1" strike="noStrike">
                <a:solidFill>
                  <a:srgbClr val="ff9933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1902960" y="304920"/>
            <a:ext cx="6389640" cy="139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итуационное лидерство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9" name="Picture 7" descr="atwrk008"/>
          <p:cNvPicPr/>
          <p:nvPr/>
        </p:nvPicPr>
        <p:blipFill>
          <a:blip r:embed="rId1"/>
          <a:stretch/>
        </p:blipFill>
        <p:spPr>
          <a:xfrm>
            <a:off x="682560" y="1614600"/>
            <a:ext cx="1217520" cy="1000080"/>
          </a:xfrm>
          <a:prstGeom prst="rect">
            <a:avLst/>
          </a:prstGeom>
          <a:ln w="0">
            <a:noFill/>
          </a:ln>
        </p:spPr>
      </p:pic>
      <p:grpSp>
        <p:nvGrpSpPr>
          <p:cNvPr id="560" name="Group 8"/>
          <p:cNvGrpSpPr/>
          <p:nvPr/>
        </p:nvGrpSpPr>
        <p:grpSpPr>
          <a:xfrm>
            <a:off x="404640" y="2938320"/>
            <a:ext cx="3232080" cy="671400"/>
            <a:chOff x="404640" y="2938320"/>
            <a:chExt cx="3232080" cy="671400"/>
          </a:xfrm>
        </p:grpSpPr>
        <p:pic>
          <p:nvPicPr>
            <p:cNvPr id="561" name="Picture 9" descr="j0078740"/>
            <p:cNvPicPr/>
            <p:nvPr/>
          </p:nvPicPr>
          <p:blipFill>
            <a:blip r:embed="rId2"/>
            <a:stretch/>
          </p:blipFill>
          <p:spPr>
            <a:xfrm>
              <a:off x="569520" y="2938320"/>
              <a:ext cx="316440" cy="48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2" name="Text Box 10"/>
            <p:cNvSpPr/>
            <p:nvPr/>
          </p:nvSpPr>
          <p:spPr>
            <a:xfrm>
              <a:off x="998280" y="3210840"/>
              <a:ext cx="2572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Не может - не хоче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AutoShape 11"/>
            <p:cNvSpPr/>
            <p:nvPr/>
          </p:nvSpPr>
          <p:spPr>
            <a:xfrm>
              <a:off x="404640" y="3090240"/>
              <a:ext cx="3232080" cy="512640"/>
            </a:xfrm>
            <a:prstGeom prst="flowChartAlternate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4" name="Group 12"/>
          <p:cNvGrpSpPr/>
          <p:nvPr/>
        </p:nvGrpSpPr>
        <p:grpSpPr>
          <a:xfrm>
            <a:off x="388800" y="3722760"/>
            <a:ext cx="3206520" cy="668160"/>
            <a:chOff x="388800" y="3722760"/>
            <a:chExt cx="3206520" cy="668160"/>
          </a:xfrm>
        </p:grpSpPr>
        <p:pic>
          <p:nvPicPr>
            <p:cNvPr id="565" name="Picture 13" descr="j0078744"/>
            <p:cNvPicPr/>
            <p:nvPr/>
          </p:nvPicPr>
          <p:blipFill>
            <a:blip r:embed="rId3"/>
            <a:stretch/>
          </p:blipFill>
          <p:spPr>
            <a:xfrm>
              <a:off x="436320" y="3779640"/>
              <a:ext cx="571680" cy="49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Text Box 14"/>
            <p:cNvSpPr/>
            <p:nvPr/>
          </p:nvSpPr>
          <p:spPr>
            <a:xfrm>
              <a:off x="1093680" y="3851280"/>
              <a:ext cx="2344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Хочет - не может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AutoShape 15"/>
            <p:cNvSpPr/>
            <p:nvPr/>
          </p:nvSpPr>
          <p:spPr>
            <a:xfrm>
              <a:off x="388800" y="3722760"/>
              <a:ext cx="3206520" cy="668160"/>
            </a:xfrm>
            <a:prstGeom prst="flowChartAlternate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8" name="Group 16"/>
          <p:cNvGrpSpPr/>
          <p:nvPr/>
        </p:nvGrpSpPr>
        <p:grpSpPr>
          <a:xfrm>
            <a:off x="388800" y="4471920"/>
            <a:ext cx="3206520" cy="668160"/>
            <a:chOff x="388800" y="4471920"/>
            <a:chExt cx="3206520" cy="668160"/>
          </a:xfrm>
        </p:grpSpPr>
        <p:pic>
          <p:nvPicPr>
            <p:cNvPr id="569" name="Picture 17" descr="j0288982"/>
            <p:cNvPicPr/>
            <p:nvPr/>
          </p:nvPicPr>
          <p:blipFill>
            <a:blip r:embed="rId4"/>
            <a:stretch/>
          </p:blipFill>
          <p:spPr>
            <a:xfrm>
              <a:off x="450720" y="4582800"/>
              <a:ext cx="699840" cy="46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0" name="Text Box 18"/>
            <p:cNvSpPr/>
            <p:nvPr/>
          </p:nvSpPr>
          <p:spPr>
            <a:xfrm>
              <a:off x="1270800" y="4630680"/>
              <a:ext cx="2199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Может - не хоче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AutoShape 19"/>
            <p:cNvSpPr/>
            <p:nvPr/>
          </p:nvSpPr>
          <p:spPr>
            <a:xfrm>
              <a:off x="388800" y="4471920"/>
              <a:ext cx="3206520" cy="668160"/>
            </a:xfrm>
            <a:prstGeom prst="flowChartAlternate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2" name="Group 20"/>
          <p:cNvGrpSpPr/>
          <p:nvPr/>
        </p:nvGrpSpPr>
        <p:grpSpPr>
          <a:xfrm>
            <a:off x="388800" y="5221440"/>
            <a:ext cx="3206880" cy="668160"/>
            <a:chOff x="388800" y="5221440"/>
            <a:chExt cx="3206880" cy="668160"/>
          </a:xfrm>
        </p:grpSpPr>
        <p:pic>
          <p:nvPicPr>
            <p:cNvPr id="573" name="Picture 21" descr="j0078748"/>
            <p:cNvPicPr/>
            <p:nvPr/>
          </p:nvPicPr>
          <p:blipFill>
            <a:blip r:embed="rId5"/>
            <a:stretch/>
          </p:blipFill>
          <p:spPr>
            <a:xfrm>
              <a:off x="568440" y="5248440"/>
              <a:ext cx="371160" cy="54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Text Box 22"/>
            <p:cNvSpPr/>
            <p:nvPr/>
          </p:nvSpPr>
          <p:spPr>
            <a:xfrm>
              <a:off x="1267920" y="5364000"/>
              <a:ext cx="205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Может - и хоче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AutoShape 23"/>
            <p:cNvSpPr/>
            <p:nvPr/>
          </p:nvSpPr>
          <p:spPr>
            <a:xfrm>
              <a:off x="388800" y="5221440"/>
              <a:ext cx="3206880" cy="668160"/>
            </a:xfrm>
            <a:prstGeom prst="flowChartAlternate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6" name="Group 24"/>
          <p:cNvGrpSpPr/>
          <p:nvPr/>
        </p:nvGrpSpPr>
        <p:grpSpPr>
          <a:xfrm>
            <a:off x="3713040" y="3019320"/>
            <a:ext cx="2789280" cy="593640"/>
            <a:chOff x="3713040" y="3019320"/>
            <a:chExt cx="2789280" cy="593640"/>
          </a:xfrm>
        </p:grpSpPr>
        <p:sp>
          <p:nvSpPr>
            <p:cNvPr id="577" name="AutoShape 25"/>
            <p:cNvSpPr/>
            <p:nvPr/>
          </p:nvSpPr>
          <p:spPr>
            <a:xfrm>
              <a:off x="3713040" y="3019320"/>
              <a:ext cx="2789280" cy="593640"/>
            </a:xfrm>
            <a:custGeom>
              <a:avLst/>
              <a:gdLst>
                <a:gd name="textAreaLeft" fmla="*/ 348480 w 2789280"/>
                <a:gd name="textAreaRight" fmla="*/ 2440800 w 2789280"/>
                <a:gd name="textAreaTop" fmla="*/ 148320 h 593640"/>
                <a:gd name="textAreaBottom" fmla="*/ 445320 h 593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gradFill rotWithShape="0">
              <a:gsLst>
                <a:gs pos="0">
                  <a:srgbClr val="66ff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Text Box 26"/>
            <p:cNvSpPr/>
            <p:nvPr/>
          </p:nvSpPr>
          <p:spPr>
            <a:xfrm>
              <a:off x="4005360" y="3112920"/>
              <a:ext cx="2282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  <a:ea typeface="Arial"/>
                </a:rPr>
                <a:t>инструктирование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9" name="Group 27"/>
          <p:cNvGrpSpPr/>
          <p:nvPr/>
        </p:nvGrpSpPr>
        <p:grpSpPr>
          <a:xfrm>
            <a:off x="3714840" y="3787920"/>
            <a:ext cx="2789280" cy="595080"/>
            <a:chOff x="3714840" y="3787920"/>
            <a:chExt cx="2789280" cy="595080"/>
          </a:xfrm>
        </p:grpSpPr>
        <p:sp>
          <p:nvSpPr>
            <p:cNvPr id="580" name="AutoShape 28"/>
            <p:cNvSpPr/>
            <p:nvPr/>
          </p:nvSpPr>
          <p:spPr>
            <a:xfrm>
              <a:off x="3714840" y="3787920"/>
              <a:ext cx="2789280" cy="595080"/>
            </a:xfrm>
            <a:custGeom>
              <a:avLst/>
              <a:gdLst>
                <a:gd name="textAreaLeft" fmla="*/ 348480 w 2789280"/>
                <a:gd name="textAreaRight" fmla="*/ 2440800 w 2789280"/>
                <a:gd name="textAreaTop" fmla="*/ 148680 h 595080"/>
                <a:gd name="textAreaBottom" fmla="*/ 446400 h 595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2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Text Box 29"/>
            <p:cNvSpPr/>
            <p:nvPr/>
          </p:nvSpPr>
          <p:spPr>
            <a:xfrm>
              <a:off x="4091760" y="3881520"/>
              <a:ext cx="2006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  <a:ea typeface="Arial"/>
                </a:rPr>
                <a:t>наставничество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2" name="Group 30"/>
          <p:cNvGrpSpPr/>
          <p:nvPr/>
        </p:nvGrpSpPr>
        <p:grpSpPr>
          <a:xfrm>
            <a:off x="3714840" y="4584600"/>
            <a:ext cx="2789280" cy="595440"/>
            <a:chOff x="3714840" y="4584600"/>
            <a:chExt cx="2789280" cy="595440"/>
          </a:xfrm>
        </p:grpSpPr>
        <p:sp>
          <p:nvSpPr>
            <p:cNvPr id="583" name="AutoShape 31"/>
            <p:cNvSpPr/>
            <p:nvPr/>
          </p:nvSpPr>
          <p:spPr>
            <a:xfrm>
              <a:off x="3714840" y="4584600"/>
              <a:ext cx="2789280" cy="595440"/>
            </a:xfrm>
            <a:custGeom>
              <a:avLst/>
              <a:gdLst>
                <a:gd name="textAreaLeft" fmla="*/ 348480 w 2789280"/>
                <a:gd name="textAreaRight" fmla="*/ 2440800 w 2789280"/>
                <a:gd name="textAreaTop" fmla="*/ 148680 h 595440"/>
                <a:gd name="textAreaBottom" fmla="*/ 446760 h 595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gradFill rotWithShape="0">
              <a:gsLst>
                <a:gs pos="0">
                  <a:srgbClr val="66ff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Text Box 32"/>
            <p:cNvSpPr/>
            <p:nvPr/>
          </p:nvSpPr>
          <p:spPr>
            <a:xfrm>
              <a:off x="4206600" y="4692600"/>
              <a:ext cx="142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  <a:ea typeface="Arial"/>
                </a:rPr>
                <a:t>мотивация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5" name="WordArt 33"/>
          <p:cNvSpPr txBox="1"/>
          <p:nvPr/>
        </p:nvSpPr>
        <p:spPr>
          <a:xfrm>
            <a:off x="6700680" y="5149800"/>
            <a:ext cx="1865520" cy="64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5670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Результат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586" name="Picture 35" descr="perform"/>
          <p:cNvPicPr/>
          <p:nvPr/>
        </p:nvPicPr>
        <p:blipFill>
          <a:blip r:embed="rId6"/>
          <a:stretch/>
        </p:blipFill>
        <p:spPr>
          <a:xfrm>
            <a:off x="6678720" y="3003480"/>
            <a:ext cx="1987560" cy="19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tad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192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3" dur="192" fill="hold"/>
                                        <p:tgtEl>
                                          <p:spTgt spid="58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04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05" dur="192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06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07" dur="192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08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385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2" dur="385" fill="hold"/>
                                        <p:tgtEl>
                                          <p:spTgt spid="58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1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14" dur="385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1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16" dur="385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1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250560" y="115560"/>
            <a:ext cx="8569080" cy="86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АВИЛА ПОСТАНОВКИ И ПРИНЯТИЯ ЗАДАЧ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53416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пишите конечный результат, который Вы хотите получ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пределите степень ответствен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бъясните, зачем должно быть выполнено зад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кажите конечный срок исполнения и назначьте точки промежуточного контро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етализируйте задание в зависимости от компетентности подчиненн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обейтесь единого понимания зада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оговоритесь о требуемом уровне каче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2680920" y="304560"/>
            <a:ext cx="44053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Наставничество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0" name="Picture 3" descr="PE01561_"/>
          <p:cNvPicPr/>
          <p:nvPr/>
        </p:nvPicPr>
        <p:blipFill>
          <a:blip r:embed="rId1"/>
          <a:stretch/>
        </p:blipFill>
        <p:spPr>
          <a:xfrm>
            <a:off x="2590920" y="2057400"/>
            <a:ext cx="548640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Verdana"/>
              </a:rPr>
              <a:t>Определение наставничеств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1828440" y="205740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Наставничество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– процесс закрепления на практике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и дальнейшей поддержки полученных знани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752480" y="4568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Verdana"/>
              </a:rPr>
              <a:t>Качества 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Verdana"/>
              </a:rPr>
              <a:t>хорошего наставник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11426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Verdana"/>
              </a:rPr>
              <a:t>Знает интересы и личностные особенности специалис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являет интерес к специалиста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Verdana"/>
              </a:rPr>
              <a:t>Выявляет потенциал специалис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селяет уверенность в специалисто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Verdana"/>
              </a:rPr>
              <a:t>Строит обучение в соответствии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2800"/>
            </a:br>
            <a:r>
              <a:rPr b="0" lang="ru-RU" sz="2800" spc="-1" strike="noStrike">
                <a:solidFill>
                  <a:srgbClr val="cc0000"/>
                </a:solidFill>
                <a:latin typeface="Verdana"/>
              </a:rPr>
              <a:t>со стандартами компан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2680920" y="304560"/>
            <a:ext cx="44053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Verdana"/>
              </a:rPr>
              <a:t>Навыки наставник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2057040" y="190512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блюда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луша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беждать, оказывать влия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правлять и мотивироват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ощрять, оказывать эмоциональную поддержк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209320" y="304560"/>
            <a:ext cx="48769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МОТИВАЦ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4358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вокупность внутренних и внешних движущих сил, которые побуждают  человека к деятельности для достижения целей организац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56840" y="3860640"/>
            <a:ext cx="8001000" cy="26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Эффективность - отношение результата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 ресурс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езультативность - отношение целей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 результат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Экономичность - отношение ресурсов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 целя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3492360" y="1916280"/>
            <a:ext cx="1898640" cy="1600200"/>
          </a:xfrm>
          <a:prstGeom prst="triangle">
            <a:avLst>
              <a:gd name="adj" fmla="val 49995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5603040" y="3135240"/>
            <a:ext cx="17258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зульта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5"/>
          <p:cNvSpPr/>
          <p:nvPr/>
        </p:nvSpPr>
        <p:spPr>
          <a:xfrm>
            <a:off x="3984480" y="1382760"/>
            <a:ext cx="957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Цел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6"/>
          <p:cNvSpPr/>
          <p:nvPr/>
        </p:nvSpPr>
        <p:spPr>
          <a:xfrm>
            <a:off x="1693080" y="3141720"/>
            <a:ext cx="1510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сурс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8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РЕУГОЛЬНИК МЕНЕДЖМЕНТ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209320" y="304560"/>
            <a:ext cx="48769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реднестатистическая демотивация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744480" y="2206440"/>
            <a:ext cx="8004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Критика, отсутствие признания</a:t>
            </a: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60%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Некомпетентный руководитель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45%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Отсутствие информации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10%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Перегруженность / недогруженность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10%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Неудачи в работе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10%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Неясность функций / целей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10%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Прочее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25%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209320" y="304560"/>
            <a:ext cx="48769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Среднестатистическая мотивация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806400" y="1447560"/>
            <a:ext cx="72914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Признание</a:t>
            </a: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50%</a:t>
            </a: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Положительный результат работы 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40%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Цель как таковая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35%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Грамотный руководитель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30%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Самостоятельность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25%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Заработная плата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25%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Хороший коллектив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Информированность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15%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Четкая постановка задач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10%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Прочее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15%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2"/>
          <p:cNvSpPr/>
          <p:nvPr/>
        </p:nvSpPr>
        <p:spPr>
          <a:xfrm>
            <a:off x="765000" y="5410080"/>
            <a:ext cx="7770960" cy="11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AutoShape 3"/>
          <p:cNvSpPr/>
          <p:nvPr/>
        </p:nvSpPr>
        <p:spPr>
          <a:xfrm>
            <a:off x="685800" y="5410080"/>
            <a:ext cx="4800600" cy="914400"/>
          </a:xfrm>
          <a:prstGeom prst="cube">
            <a:avLst>
              <a:gd name="adj" fmla="val 35245"/>
            </a:avLst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Физиологи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AutoShape 4"/>
          <p:cNvSpPr/>
          <p:nvPr/>
        </p:nvSpPr>
        <p:spPr>
          <a:xfrm>
            <a:off x="1409760" y="4457880"/>
            <a:ext cx="4800600" cy="914400"/>
          </a:xfrm>
          <a:prstGeom prst="cube">
            <a:avLst>
              <a:gd name="adj" fmla="val 35245"/>
            </a:avLst>
          </a:prstGeom>
          <a:solidFill>
            <a:srgbClr val="ff66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Безопасност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AutoShape 5"/>
          <p:cNvSpPr/>
          <p:nvPr/>
        </p:nvSpPr>
        <p:spPr>
          <a:xfrm>
            <a:off x="2133720" y="3505320"/>
            <a:ext cx="4800600" cy="914400"/>
          </a:xfrm>
          <a:prstGeom prst="cube">
            <a:avLst>
              <a:gd name="adj" fmla="val 35245"/>
            </a:avLst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бщени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AutoShape 6"/>
          <p:cNvSpPr/>
          <p:nvPr/>
        </p:nvSpPr>
        <p:spPr>
          <a:xfrm>
            <a:off x="2857680" y="2552760"/>
            <a:ext cx="4800600" cy="914400"/>
          </a:xfrm>
          <a:prstGeom prst="cube">
            <a:avLst>
              <a:gd name="adj" fmla="val 35245"/>
            </a:avLst>
          </a:prstGeom>
          <a:solidFill>
            <a:srgbClr val="00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ризнани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AutoShape 7"/>
          <p:cNvSpPr/>
          <p:nvPr/>
        </p:nvSpPr>
        <p:spPr>
          <a:xfrm>
            <a:off x="3581280" y="1600200"/>
            <a:ext cx="4800600" cy="914400"/>
          </a:xfrm>
          <a:prstGeom prst="cube">
            <a:avLst>
              <a:gd name="adj" fmla="val 35245"/>
            </a:avLst>
          </a:prstGeom>
          <a:solidFill>
            <a:srgbClr val="0066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амореализаци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ИЕРАРХИЯ ПОТРЕБНОСТЕЙ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по А.МАСЛО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114120" y="56664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Пять потребностей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ваших подчиненны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6840" y="187452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Чего я хочу от начальника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Rectangle 4"/>
          <p:cNvSpPr/>
          <p:nvPr/>
        </p:nvSpPr>
        <p:spPr>
          <a:xfrm>
            <a:off x="304920" y="2835360"/>
            <a:ext cx="8743680" cy="311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71680" indent="-571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ясните, что я должен делать и какие результаты от меня ожидаются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йте мне ресурсы и возможность выполнения работы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йте мне знать о том, как у меня идут дела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доставьте мне необходимый инструктаж и тренинг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градите меня в соответствии с моим вкладом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nodeType="clickEffect" fill="hold">
                      <p:stCondLst>
                        <p:cond delay="0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8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1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1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1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1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79" dur="1" fill="hold"/>
                                  <p:tgtEl>
                                    <p:spTgt spid="61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2209320" y="304920"/>
            <a:ext cx="4876920" cy="19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Спасибо за работу!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 txBox="1"/>
          <p:nvPr/>
        </p:nvSpPr>
        <p:spPr>
          <a:xfrm>
            <a:off x="456840" y="14475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99"/>
                </a:solidFill>
                <a:latin typeface="Arial"/>
              </a:rPr>
              <a:t>Предлагаю изучить следующую литературу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99"/>
                </a:solidFill>
                <a:latin typeface="Arial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buClr>
                <a:srgbClr val="262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Freeform 2"/>
          <p:cNvSpPr/>
          <p:nvPr/>
        </p:nvSpPr>
        <p:spPr>
          <a:xfrm>
            <a:off x="558720" y="1943280"/>
            <a:ext cx="7780320" cy="3585960"/>
          </a:xfrm>
          <a:custGeom>
            <a:avLst/>
            <a:gdLst>
              <a:gd name="textAreaLeft" fmla="*/ 0 w 7780320"/>
              <a:gd name="textAreaRight" fmla="*/ 7780680 w 7780320"/>
              <a:gd name="textAreaTop" fmla="*/ 0 h 3585960"/>
              <a:gd name="textAreaBottom" fmla="*/ 3586320 h 3585960"/>
            </a:gdLst>
            <a:ahLst/>
            <a:rect l="textAreaLeft" t="textAreaTop" r="textAreaRight" b="textAreaBottom"/>
            <a:pathLst>
              <a:path w="4901" h="2259">
                <a:moveTo>
                  <a:pt x="4632" y="2232"/>
                </a:moveTo>
                <a:cubicBezTo>
                  <a:pt x="4624" y="1960"/>
                  <a:pt x="4615" y="2192"/>
                  <a:pt x="4640" y="1960"/>
                </a:cubicBezTo>
                <a:cubicBezTo>
                  <a:pt x="4677" y="1757"/>
                  <a:pt x="4901" y="1116"/>
                  <a:pt x="4704" y="824"/>
                </a:cubicBezTo>
                <a:cubicBezTo>
                  <a:pt x="4547" y="529"/>
                  <a:pt x="4168" y="311"/>
                  <a:pt x="3696" y="192"/>
                </a:cubicBezTo>
                <a:cubicBezTo>
                  <a:pt x="3224" y="73"/>
                  <a:pt x="2445" y="92"/>
                  <a:pt x="1872" y="112"/>
                </a:cubicBezTo>
                <a:cubicBezTo>
                  <a:pt x="1299" y="132"/>
                  <a:pt x="512" y="0"/>
                  <a:pt x="256" y="312"/>
                </a:cubicBezTo>
                <a:cubicBezTo>
                  <a:pt x="0" y="624"/>
                  <a:pt x="72" y="1296"/>
                  <a:pt x="48" y="1568"/>
                </a:cubicBezTo>
                <a:cubicBezTo>
                  <a:pt x="24" y="1840"/>
                  <a:pt x="185" y="2052"/>
                  <a:pt x="936" y="2160"/>
                </a:cubicBezTo>
                <a:cubicBezTo>
                  <a:pt x="1389" y="2259"/>
                  <a:pt x="2856" y="2220"/>
                  <a:pt x="3472" y="2232"/>
                </a:cubicBezTo>
                <a:cubicBezTo>
                  <a:pt x="4032" y="2224"/>
                  <a:pt x="4103" y="2112"/>
                  <a:pt x="4296" y="2112"/>
                </a:cubicBezTo>
                <a:cubicBezTo>
                  <a:pt x="4489" y="2112"/>
                  <a:pt x="4562" y="2207"/>
                  <a:pt x="4632" y="2232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ee7dc"/>
              </a:gs>
            </a:gsLst>
            <a:lin ang="0"/>
          </a:gradFill>
          <a:ln w="6336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AutoShape 3"/>
          <p:cNvSpPr/>
          <p:nvPr/>
        </p:nvSpPr>
        <p:spPr>
          <a:xfrm>
            <a:off x="774720" y="3670200"/>
            <a:ext cx="2819520" cy="889200"/>
          </a:xfrm>
          <a:prstGeom prst="cube">
            <a:avLst>
              <a:gd name="adj" fmla="val 4643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ровень оперативного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правлен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9640" y="590400"/>
            <a:ext cx="6912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Times New Roman"/>
              </a:rPr>
              <a:t>Осуществление управленческого цикла</a:t>
            </a:r>
            <a:r>
              <a:rPr b="0" lang="ru-RU" sz="3500" spc="-1" strike="noStrike">
                <a:solidFill>
                  <a:srgbClr val="000000"/>
                </a:solidFill>
                <a:latin typeface="Times New Roman"/>
              </a:rPr>
              <a:t> , функции руководителя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Group 5"/>
          <p:cNvGrpSpPr/>
          <p:nvPr/>
        </p:nvGrpSpPr>
        <p:grpSpPr>
          <a:xfrm>
            <a:off x="4275000" y="2649600"/>
            <a:ext cx="1117440" cy="1559880"/>
            <a:chOff x="4275000" y="2649600"/>
            <a:chExt cx="1117440" cy="1559880"/>
          </a:xfrm>
        </p:grpSpPr>
        <p:sp>
          <p:nvSpPr>
            <p:cNvPr id="115" name="Freeform 6"/>
            <p:cNvSpPr/>
            <p:nvPr/>
          </p:nvSpPr>
          <p:spPr>
            <a:xfrm>
              <a:off x="4275000" y="3051000"/>
              <a:ext cx="676440" cy="1118880"/>
            </a:xfrm>
            <a:custGeom>
              <a:avLst/>
              <a:gdLst>
                <a:gd name="textAreaLeft" fmla="*/ 0 w 676440"/>
                <a:gd name="textAreaRight" fmla="*/ 676800 w 676440"/>
                <a:gd name="textAreaTop" fmla="*/ 0 h 1118880"/>
                <a:gd name="textAreaBottom" fmla="*/ 1119240 h 1118880"/>
              </a:gdLst>
              <a:ahLst/>
              <a:rect l="textAreaLeft" t="textAreaTop" r="textAreaRight" b="textAreaBottom"/>
              <a:pathLst>
                <a:path w="612" h="1020">
                  <a:moveTo>
                    <a:pt x="600" y="180"/>
                  </a:moveTo>
                  <a:lnTo>
                    <a:pt x="612" y="12"/>
                  </a:lnTo>
                  <a:lnTo>
                    <a:pt x="402" y="0"/>
                  </a:lnTo>
                  <a:lnTo>
                    <a:pt x="462" y="60"/>
                  </a:lnTo>
                  <a:cubicBezTo>
                    <a:pt x="416" y="127"/>
                    <a:pt x="196" y="244"/>
                    <a:pt x="126" y="402"/>
                  </a:cubicBezTo>
                  <a:cubicBezTo>
                    <a:pt x="0" y="624"/>
                    <a:pt x="33" y="922"/>
                    <a:pt x="42" y="1008"/>
                  </a:cubicBezTo>
                  <a:lnTo>
                    <a:pt x="240" y="954"/>
                  </a:lnTo>
                  <a:lnTo>
                    <a:pt x="408" y="1020"/>
                  </a:lnTo>
                  <a:cubicBezTo>
                    <a:pt x="430" y="945"/>
                    <a:pt x="352" y="651"/>
                    <a:pt x="372" y="504"/>
                  </a:cubicBezTo>
                  <a:cubicBezTo>
                    <a:pt x="392" y="357"/>
                    <a:pt x="490" y="192"/>
                    <a:pt x="528" y="138"/>
                  </a:cubicBezTo>
                  <a:lnTo>
                    <a:pt x="600" y="180"/>
                  </a:lnTo>
                  <a:close/>
                </a:path>
              </a:pathLst>
            </a:custGeom>
            <a:gradFill rotWithShape="0">
              <a:gsLst>
                <a:gs pos="0">
                  <a:srgbClr val="89b9ff"/>
                </a:gs>
                <a:gs pos="100000">
                  <a:srgbClr val="ffebfa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WordArt 7"/>
            <p:cNvSpPr txBox="1"/>
            <p:nvPr/>
          </p:nvSpPr>
          <p:spPr>
            <a:xfrm rot="16973400">
              <a:off x="4459680" y="3287160"/>
              <a:ext cx="885240" cy="80280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3758729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Оценка</a:t>
              </a:r>
              <a:endPara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pic>
          <p:nvPicPr>
            <p:cNvPr id="117" name="Picture 8" descr="BD10301_"/>
            <p:cNvPicPr/>
            <p:nvPr/>
          </p:nvPicPr>
          <p:blipFill>
            <a:blip r:embed="rId1"/>
            <a:stretch/>
          </p:blipFill>
          <p:spPr>
            <a:xfrm>
              <a:off x="4834800" y="2649600"/>
              <a:ext cx="122760" cy="136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8" name="Group 9"/>
          <p:cNvGrpSpPr/>
          <p:nvPr/>
        </p:nvGrpSpPr>
        <p:grpSpPr>
          <a:xfrm>
            <a:off x="5253120" y="2496960"/>
            <a:ext cx="1868040" cy="719640"/>
            <a:chOff x="5253120" y="2496960"/>
            <a:chExt cx="1868040" cy="719640"/>
          </a:xfrm>
        </p:grpSpPr>
        <p:sp>
          <p:nvSpPr>
            <p:cNvPr id="119" name="Freeform 10"/>
            <p:cNvSpPr/>
            <p:nvPr/>
          </p:nvSpPr>
          <p:spPr>
            <a:xfrm>
              <a:off x="5253120" y="2496960"/>
              <a:ext cx="1647720" cy="436680"/>
            </a:xfrm>
            <a:custGeom>
              <a:avLst/>
              <a:gdLst>
                <a:gd name="textAreaLeft" fmla="*/ 0 w 1647720"/>
                <a:gd name="textAreaRight" fmla="*/ 1648080 w 1647720"/>
                <a:gd name="textAreaTop" fmla="*/ 0 h 436680"/>
                <a:gd name="textAreaBottom" fmla="*/ 437040 h 436680"/>
              </a:gdLst>
              <a:ahLst/>
              <a:rect l="textAreaLeft" t="textAreaTop" r="textAreaRight" b="textAreaBottom"/>
              <a:pathLst>
                <a:path w="1140" h="343">
                  <a:moveTo>
                    <a:pt x="1014" y="306"/>
                  </a:moveTo>
                  <a:lnTo>
                    <a:pt x="1140" y="246"/>
                  </a:lnTo>
                  <a:lnTo>
                    <a:pt x="1128" y="138"/>
                  </a:lnTo>
                  <a:lnTo>
                    <a:pt x="1086" y="192"/>
                  </a:lnTo>
                  <a:cubicBezTo>
                    <a:pt x="1005" y="175"/>
                    <a:pt x="924" y="72"/>
                    <a:pt x="642" y="36"/>
                  </a:cubicBezTo>
                  <a:cubicBezTo>
                    <a:pt x="360" y="0"/>
                    <a:pt x="77" y="99"/>
                    <a:pt x="0" y="138"/>
                  </a:cubicBezTo>
                  <a:lnTo>
                    <a:pt x="102" y="228"/>
                  </a:lnTo>
                  <a:lnTo>
                    <a:pt x="78" y="342"/>
                  </a:lnTo>
                  <a:cubicBezTo>
                    <a:pt x="151" y="343"/>
                    <a:pt x="380" y="250"/>
                    <a:pt x="540" y="234"/>
                  </a:cubicBezTo>
                  <a:cubicBezTo>
                    <a:pt x="700" y="218"/>
                    <a:pt x="959" y="234"/>
                    <a:pt x="1038" y="246"/>
                  </a:cubicBezTo>
                  <a:lnTo>
                    <a:pt x="1014" y="306"/>
                  </a:lnTo>
                  <a:close/>
                </a:path>
              </a:pathLst>
            </a:custGeom>
            <a:gradFill rotWithShape="0">
              <a:gsLst>
                <a:gs pos="0">
                  <a:srgbClr val="adc7fb"/>
                </a:gs>
                <a:gs pos="100000">
                  <a:srgbClr val="808080"/>
                </a:gs>
              </a:gsLst>
              <a:lin ang="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WordArt 11"/>
            <p:cNvSpPr txBox="1"/>
            <p:nvPr/>
          </p:nvSpPr>
          <p:spPr>
            <a:xfrm rot="21249600">
              <a:off x="5392440" y="2660400"/>
              <a:ext cx="1155600" cy="49860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3464149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Анализ</a:t>
              </a:r>
              <a:endPara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pic>
          <p:nvPicPr>
            <p:cNvPr id="121" name="Picture 12" descr="BD10298_"/>
            <p:cNvPicPr/>
            <p:nvPr/>
          </p:nvPicPr>
          <p:blipFill>
            <a:blip r:embed="rId2"/>
            <a:stretch/>
          </p:blipFill>
          <p:spPr>
            <a:xfrm>
              <a:off x="6956280" y="2782800"/>
              <a:ext cx="164880" cy="146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2" name="Group 13"/>
          <p:cNvGrpSpPr/>
          <p:nvPr/>
        </p:nvGrpSpPr>
        <p:grpSpPr>
          <a:xfrm>
            <a:off x="4446720" y="4138560"/>
            <a:ext cx="1764000" cy="1244160"/>
            <a:chOff x="4446720" y="4138560"/>
            <a:chExt cx="1764000" cy="1244160"/>
          </a:xfrm>
        </p:grpSpPr>
        <p:sp>
          <p:nvSpPr>
            <p:cNvPr id="123" name="Freeform 14"/>
            <p:cNvSpPr/>
            <p:nvPr/>
          </p:nvSpPr>
          <p:spPr>
            <a:xfrm>
              <a:off x="4497120" y="4375080"/>
              <a:ext cx="1534680" cy="975960"/>
            </a:xfrm>
            <a:custGeom>
              <a:avLst/>
              <a:gdLst>
                <a:gd name="textAreaLeft" fmla="*/ 0 w 1534680"/>
                <a:gd name="textAreaRight" fmla="*/ 1535040 w 1534680"/>
                <a:gd name="textAreaTop" fmla="*/ 0 h 975960"/>
                <a:gd name="textAreaBottom" fmla="*/ 976320 h 975960"/>
              </a:gdLst>
              <a:ahLst/>
              <a:rect l="textAreaLeft" t="textAreaTop" r="textAreaRight" b="textAreaBottom"/>
              <a:pathLst>
                <a:path w="1062" h="768">
                  <a:moveTo>
                    <a:pt x="270" y="24"/>
                  </a:moveTo>
                  <a:lnTo>
                    <a:pt x="54" y="0"/>
                  </a:lnTo>
                  <a:lnTo>
                    <a:pt x="0" y="150"/>
                  </a:lnTo>
                  <a:lnTo>
                    <a:pt x="60" y="120"/>
                  </a:lnTo>
                  <a:cubicBezTo>
                    <a:pt x="126" y="183"/>
                    <a:pt x="246" y="420"/>
                    <a:pt x="396" y="528"/>
                  </a:cubicBezTo>
                  <a:cubicBezTo>
                    <a:pt x="510" y="624"/>
                    <a:pt x="853" y="739"/>
                    <a:pt x="960" y="768"/>
                  </a:cubicBezTo>
                  <a:lnTo>
                    <a:pt x="960" y="636"/>
                  </a:lnTo>
                  <a:lnTo>
                    <a:pt x="1062" y="540"/>
                  </a:lnTo>
                  <a:cubicBezTo>
                    <a:pt x="1000" y="496"/>
                    <a:pt x="735" y="449"/>
                    <a:pt x="588" y="372"/>
                  </a:cubicBezTo>
                  <a:cubicBezTo>
                    <a:pt x="474" y="324"/>
                    <a:pt x="221" y="128"/>
                    <a:pt x="180" y="78"/>
                  </a:cubicBezTo>
                  <a:lnTo>
                    <a:pt x="270" y="24"/>
                  </a:lnTo>
                  <a:close/>
                </a:path>
              </a:pathLst>
            </a:custGeom>
            <a:gradFill rotWithShape="0">
              <a:gsLst>
                <a:gs pos="0">
                  <a:srgbClr val="f7d2f8">
                    <a:alpha val="73333"/>
                  </a:srgbClr>
                </a:gs>
                <a:gs pos="100000">
                  <a:srgbClr val="badedd">
                    <a:alpha val="76078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WordArt 15"/>
            <p:cNvSpPr txBox="1"/>
            <p:nvPr/>
          </p:nvSpPr>
          <p:spPr>
            <a:xfrm rot="1880400">
              <a:off x="4698360" y="4480920"/>
              <a:ext cx="1474560" cy="55872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2406702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Координация</a:t>
              </a:r>
              <a:endPara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pic>
          <p:nvPicPr>
            <p:cNvPr id="125" name="Picture 16" descr="BD10302_"/>
            <p:cNvPicPr/>
            <p:nvPr/>
          </p:nvPicPr>
          <p:blipFill>
            <a:blip r:embed="rId3"/>
            <a:stretch/>
          </p:blipFill>
          <p:spPr>
            <a:xfrm>
              <a:off x="4446720" y="4199040"/>
              <a:ext cx="155160" cy="133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6" name="Group 17"/>
          <p:cNvGrpSpPr/>
          <p:nvPr/>
        </p:nvGrpSpPr>
        <p:grpSpPr>
          <a:xfrm>
            <a:off x="6089760" y="4201920"/>
            <a:ext cx="1877400" cy="1057320"/>
            <a:chOff x="6089760" y="4201920"/>
            <a:chExt cx="1877400" cy="1057320"/>
          </a:xfrm>
        </p:grpSpPr>
        <p:sp>
          <p:nvSpPr>
            <p:cNvPr id="127" name="Freeform 18"/>
            <p:cNvSpPr/>
            <p:nvPr/>
          </p:nvSpPr>
          <p:spPr>
            <a:xfrm>
              <a:off x="6319800" y="4245120"/>
              <a:ext cx="1647360" cy="1014120"/>
            </a:xfrm>
            <a:custGeom>
              <a:avLst/>
              <a:gdLst>
                <a:gd name="textAreaLeft" fmla="*/ 0 w 1647360"/>
                <a:gd name="textAreaRight" fmla="*/ 1647720 w 1647360"/>
                <a:gd name="textAreaTop" fmla="*/ 0 h 1014120"/>
                <a:gd name="textAreaBottom" fmla="*/ 1014480 h 1014120"/>
              </a:gdLst>
              <a:ahLst/>
              <a:rect l="textAreaLeft" t="textAreaTop" r="textAreaRight" b="textAreaBottom"/>
              <a:pathLst>
                <a:path w="1140" h="798">
                  <a:moveTo>
                    <a:pt x="66" y="582"/>
                  </a:moveTo>
                  <a:lnTo>
                    <a:pt x="0" y="720"/>
                  </a:lnTo>
                  <a:lnTo>
                    <a:pt x="126" y="798"/>
                  </a:lnTo>
                  <a:lnTo>
                    <a:pt x="126" y="744"/>
                  </a:lnTo>
                  <a:cubicBezTo>
                    <a:pt x="229" y="704"/>
                    <a:pt x="575" y="672"/>
                    <a:pt x="744" y="558"/>
                  </a:cubicBezTo>
                  <a:cubicBezTo>
                    <a:pt x="1020" y="372"/>
                    <a:pt x="1077" y="171"/>
                    <a:pt x="1140" y="60"/>
                  </a:cubicBezTo>
                  <a:lnTo>
                    <a:pt x="924" y="36"/>
                  </a:lnTo>
                  <a:lnTo>
                    <a:pt x="810" y="0"/>
                  </a:lnTo>
                  <a:cubicBezTo>
                    <a:pt x="753" y="58"/>
                    <a:pt x="701" y="277"/>
                    <a:pt x="582" y="384"/>
                  </a:cubicBezTo>
                  <a:cubicBezTo>
                    <a:pt x="463" y="491"/>
                    <a:pt x="182" y="609"/>
                    <a:pt x="96" y="642"/>
                  </a:cubicBezTo>
                  <a:lnTo>
                    <a:pt x="66" y="582"/>
                  </a:lnTo>
                  <a:close/>
                </a:path>
              </a:pathLst>
            </a:custGeom>
            <a:gradFill rotWithShape="0">
              <a:gsLst>
                <a:gs pos="0">
                  <a:srgbClr val="fdad97"/>
                </a:gs>
                <a:gs pos="100000">
                  <a:srgbClr val="badedd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WordArt 19"/>
            <p:cNvSpPr txBox="1"/>
            <p:nvPr/>
          </p:nvSpPr>
          <p:spPr>
            <a:xfrm rot="19311600">
              <a:off x="6662520" y="4506840"/>
              <a:ext cx="1103040" cy="33300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65047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Организация</a:t>
              </a:r>
              <a:endPara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pic>
          <p:nvPicPr>
            <p:cNvPr id="129" name="Picture 20" descr="BD10297_"/>
            <p:cNvPicPr/>
            <p:nvPr/>
          </p:nvPicPr>
          <p:blipFill>
            <a:blip r:embed="rId4"/>
            <a:stretch/>
          </p:blipFill>
          <p:spPr>
            <a:xfrm>
              <a:off x="6089760" y="5118120"/>
              <a:ext cx="129960" cy="113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0" name="Group 21"/>
          <p:cNvGrpSpPr/>
          <p:nvPr/>
        </p:nvGrpSpPr>
        <p:grpSpPr>
          <a:xfrm>
            <a:off x="6915240" y="2798640"/>
            <a:ext cx="1069560" cy="1319040"/>
            <a:chOff x="6915240" y="2798640"/>
            <a:chExt cx="1069560" cy="1319040"/>
          </a:xfrm>
        </p:grpSpPr>
        <p:sp>
          <p:nvSpPr>
            <p:cNvPr id="131" name="Freeform 22"/>
            <p:cNvSpPr/>
            <p:nvPr/>
          </p:nvSpPr>
          <p:spPr>
            <a:xfrm>
              <a:off x="6915240" y="2798640"/>
              <a:ext cx="1069560" cy="1290240"/>
            </a:xfrm>
            <a:custGeom>
              <a:avLst/>
              <a:gdLst>
                <a:gd name="textAreaLeft" fmla="*/ 0 w 1069560"/>
                <a:gd name="textAreaRight" fmla="*/ 1069920 w 1069560"/>
                <a:gd name="textAreaTop" fmla="*/ 0 h 1290240"/>
                <a:gd name="textAreaBottom" fmla="*/ 1290600 h 1290240"/>
              </a:gdLst>
              <a:ahLst/>
              <a:rect l="textAreaLeft" t="textAreaTop" r="textAreaRight" b="textAreaBottom"/>
              <a:pathLst>
                <a:path w="738" h="1056">
                  <a:moveTo>
                    <a:pt x="480" y="960"/>
                  </a:moveTo>
                  <a:lnTo>
                    <a:pt x="588" y="1056"/>
                  </a:lnTo>
                  <a:lnTo>
                    <a:pt x="738" y="972"/>
                  </a:lnTo>
                  <a:lnTo>
                    <a:pt x="684" y="972"/>
                  </a:lnTo>
                  <a:cubicBezTo>
                    <a:pt x="668" y="899"/>
                    <a:pt x="717" y="696"/>
                    <a:pt x="642" y="534"/>
                  </a:cubicBezTo>
                  <a:cubicBezTo>
                    <a:pt x="543" y="267"/>
                    <a:pt x="317" y="67"/>
                    <a:pt x="234" y="0"/>
                  </a:cubicBezTo>
                  <a:lnTo>
                    <a:pt x="144" y="132"/>
                  </a:lnTo>
                  <a:lnTo>
                    <a:pt x="0" y="186"/>
                  </a:lnTo>
                  <a:cubicBezTo>
                    <a:pt x="45" y="258"/>
                    <a:pt x="326" y="436"/>
                    <a:pt x="414" y="564"/>
                  </a:cubicBezTo>
                  <a:cubicBezTo>
                    <a:pt x="502" y="692"/>
                    <a:pt x="517" y="888"/>
                    <a:pt x="528" y="954"/>
                  </a:cubicBezTo>
                  <a:lnTo>
                    <a:pt x="480" y="96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da89f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WordArt 23"/>
            <p:cNvSpPr txBox="1"/>
            <p:nvPr/>
          </p:nvSpPr>
          <p:spPr>
            <a:xfrm rot="3926400">
              <a:off x="7001280" y="3330720"/>
              <a:ext cx="1017720" cy="37908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0800011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Планирование</a:t>
              </a:r>
              <a:endPara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pic>
          <p:nvPicPr>
            <p:cNvPr id="133" name="Picture 24" descr="BD21294_"/>
            <p:cNvPicPr/>
            <p:nvPr/>
          </p:nvPicPr>
          <p:blipFill>
            <a:blip r:embed="rId5"/>
            <a:stretch/>
          </p:blipFill>
          <p:spPr>
            <a:xfrm>
              <a:off x="7671240" y="4007880"/>
              <a:ext cx="117720" cy="1098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34" name="Picture 25" descr="dartgoal"/>
          <p:cNvPicPr/>
          <p:nvPr/>
        </p:nvPicPr>
        <p:blipFill>
          <a:blip r:embed="rId6"/>
          <a:stretch/>
        </p:blipFill>
        <p:spPr>
          <a:xfrm>
            <a:off x="7843680" y="5178600"/>
            <a:ext cx="933480" cy="9331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26" descr="buzzy063"/>
          <p:cNvPicPr/>
          <p:nvPr/>
        </p:nvPicPr>
        <p:blipFill>
          <a:blip r:embed="rId7"/>
          <a:stretch/>
        </p:blipFill>
        <p:spPr>
          <a:xfrm>
            <a:off x="5052960" y="2576520"/>
            <a:ext cx="1698840" cy="1733400"/>
          </a:xfrm>
          <a:prstGeom prst="rect">
            <a:avLst/>
          </a:prstGeom>
          <a:ln w="0">
            <a:noFill/>
          </a:ln>
        </p:spPr>
      </p:pic>
      <p:sp>
        <p:nvSpPr>
          <p:cNvPr id="136" name="AutoShape 27"/>
          <p:cNvSpPr/>
          <p:nvPr/>
        </p:nvSpPr>
        <p:spPr>
          <a:xfrm>
            <a:off x="1066680" y="2997360"/>
            <a:ext cx="3098880" cy="888840"/>
          </a:xfrm>
          <a:prstGeom prst="cube">
            <a:avLst>
              <a:gd name="adj" fmla="val 4643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Уровень тактического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управлен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28"/>
          <p:cNvSpPr/>
          <p:nvPr/>
        </p:nvSpPr>
        <p:spPr>
          <a:xfrm>
            <a:off x="1422360" y="2324160"/>
            <a:ext cx="3098880" cy="888840"/>
          </a:xfrm>
          <a:prstGeom prst="cube">
            <a:avLst>
              <a:gd name="adj" fmla="val 46430"/>
            </a:avLst>
          </a:prstGeom>
          <a:solidFill>
            <a:srgbClr val="fdad9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ровень стратегического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правлен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" name="Group 29"/>
          <p:cNvGrpSpPr/>
          <p:nvPr/>
        </p:nvGrpSpPr>
        <p:grpSpPr>
          <a:xfrm>
            <a:off x="2043000" y="2324160"/>
            <a:ext cx="5406480" cy="3068640"/>
            <a:chOff x="2043000" y="2324160"/>
            <a:chExt cx="5406480" cy="3068640"/>
          </a:xfrm>
        </p:grpSpPr>
        <p:sp>
          <p:nvSpPr>
            <p:cNvPr id="139" name="WordArt 30"/>
            <p:cNvSpPr txBox="1"/>
            <p:nvPr/>
          </p:nvSpPr>
          <p:spPr>
            <a:xfrm>
              <a:off x="5141880" y="4373640"/>
              <a:ext cx="511200" cy="66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urveUp">
                <a:avLst>
                  <a:gd name="adj" fmla="val 4035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2600">
                    <a:solidFill>
                      <a:srgbClr val="000000"/>
                    </a:solidFill>
                    <a:miter/>
                  </a:ln>
                  <a:blipFill rotWithShape="0">
                    <a:blip r:embed="rId8"/>
                    <a:srcRect/>
                    <a:tile tx="0" ty="0" sx="100000" sy="100000" algn="ctr"/>
                  </a:blipFill>
                  <a:effectLst>
                    <a:outerShdw dist="40186" dir="1096358" blurRad="0" rotWithShape="0">
                      <a:srgbClr val="808080">
                        <a:alpha val="80000"/>
                      </a:srgbClr>
                    </a:outerShdw>
                  </a:effectLst>
                  <a:latin typeface="Arial"/>
                </a:rPr>
                <a:t>?</a:t>
              </a:r>
              <a:endPara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9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  <p:sp>
          <p:nvSpPr>
            <p:cNvPr id="140" name="WordArt 31"/>
            <p:cNvSpPr txBox="1"/>
            <p:nvPr/>
          </p:nvSpPr>
          <p:spPr>
            <a:xfrm>
              <a:off x="4595760" y="2354400"/>
              <a:ext cx="549360" cy="765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ascadeUp">
                <a:avLst>
                  <a:gd name="adj" fmla="val 44444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10"/>
                    <a:srcRect/>
                    <a:tile tx="0" ty="0" sx="100000" sy="100000" algn="ctr"/>
                  </a:blipFill>
                  <a:latin typeface="Arial"/>
                </a:rPr>
                <a:t>?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  <a:ea typeface="Arial"/>
              </a:endParaRPr>
            </a:p>
          </p:txBody>
        </p:sp>
        <p:sp>
          <p:nvSpPr>
            <p:cNvPr id="141" name="WordArt 32"/>
            <p:cNvSpPr txBox="1"/>
            <p:nvPr/>
          </p:nvSpPr>
          <p:spPr>
            <a:xfrm>
              <a:off x="5929200" y="2709720"/>
              <a:ext cx="257400" cy="524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cbcbcb"/>
                      </a:gs>
                      <a:gs pos="100000">
                        <a:srgbClr val="eaeaea"/>
                      </a:gs>
                    </a:gsLst>
                    <a:lin ang="5400000"/>
                  </a:gradFill>
                  <a:latin typeface="Times New Roman"/>
                </a:rPr>
                <a:t>?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  <a:ea typeface="Times New Roman"/>
              </a:endParaRPr>
            </a:p>
          </p:txBody>
        </p:sp>
        <p:sp>
          <p:nvSpPr>
            <p:cNvPr id="142" name="WordArt 33"/>
            <p:cNvSpPr txBox="1"/>
            <p:nvPr/>
          </p:nvSpPr>
          <p:spPr>
            <a:xfrm rot="21157200">
              <a:off x="3668760" y="3026880"/>
              <a:ext cx="396720" cy="816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oubleWave1">
                <a:avLst>
                  <a:gd name="adj1" fmla="val 6481"/>
                  <a:gd name="adj2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2600">
                    <a:solidFill>
                      <a:srgbClr val="000099"/>
                    </a:solidFill>
                    <a:miter/>
                  </a:ln>
                  <a:solidFill>
                    <a:srgbClr val="33ccff"/>
                  </a:solidFill>
                  <a:effectLst>
                    <a:outerShdw dist="125751" dir="18900000" blurRad="0" rotWithShape="0">
                      <a:srgbClr val="000099"/>
                    </a:outerShdw>
                  </a:effectLst>
                  <a:latin typeface="Impact"/>
                </a:rPr>
                <a:t>?</a:t>
              </a:r>
              <a:endPara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143" name="WordArt 34"/>
            <p:cNvSpPr txBox="1"/>
            <p:nvPr/>
          </p:nvSpPr>
          <p:spPr>
            <a:xfrm rot="21137400">
              <a:off x="7046640" y="2379240"/>
              <a:ext cx="371520" cy="486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3069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2600">
                    <a:solidFill>
                      <a:srgbClr val="eaeaea"/>
                    </a:solidFill>
                    <a:miter/>
                  </a:ln>
                  <a:gradFill rotWithShape="0">
                    <a:gsLst>
                      <a:gs pos="0">
                        <a:srgbClr val="a603ab"/>
                      </a:gs>
                      <a:gs pos="100000">
                        <a:srgbClr val="a603ab"/>
                      </a:gs>
                    </a:gsLst>
                    <a:lin ang="882000"/>
                  </a:gradFill>
                  <a:effectLst>
                    <a:outerShdw dist="153753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Arial"/>
                </a:rPr>
                <a:t>?</a:t>
              </a:r>
              <a:endPara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882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  <p:sp>
          <p:nvSpPr>
            <p:cNvPr id="144" name="WordArt 35"/>
            <p:cNvSpPr txBox="1"/>
            <p:nvPr/>
          </p:nvSpPr>
          <p:spPr>
            <a:xfrm>
              <a:off x="2639880" y="4183200"/>
              <a:ext cx="409680" cy="688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2600">
                    <a:solidFill>
                      <a:srgbClr val="eaeaea"/>
                    </a:solidFill>
                    <a:miter/>
                  </a:ln>
                  <a:gradFill rotWithShape="0">
                    <a:gsLst>
                      <a:gs pos="0">
                        <a:srgbClr val="a603ab"/>
                      </a:gs>
                      <a:gs pos="100000">
                        <a:srgbClr val="a603ab"/>
                      </a:gs>
                    </a:gsLst>
                    <a:lin ang="0"/>
                  </a:gradFill>
                  <a:effectLst>
                    <a:outerShdw dist="153753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Arial"/>
                </a:rPr>
                <a:t>?</a:t>
              </a:r>
              <a:endPara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  <p:sp>
          <p:nvSpPr>
            <p:cNvPr id="145" name="WordArt 36"/>
            <p:cNvSpPr txBox="1"/>
            <p:nvPr/>
          </p:nvSpPr>
          <p:spPr>
            <a:xfrm>
              <a:off x="2043000" y="2938320"/>
              <a:ext cx="257400" cy="524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12"/>
                    <a:srcRect/>
                    <a:tile tx="0" ty="0" sx="100000" sy="100000" algn="ctr"/>
                  </a:blipFill>
                  <a:latin typeface="Arial"/>
                </a:rPr>
                <a:t>?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3"/>
                  <a:srcRect/>
                  <a:tile tx="0" ty="0" sx="100000" sy="100000" algn="ctr"/>
                </a:blipFill>
                <a:latin typeface="Arial"/>
                <a:ea typeface="Arial"/>
              </a:endParaRPr>
            </a:p>
          </p:txBody>
        </p:sp>
        <p:sp>
          <p:nvSpPr>
            <p:cNvPr id="146" name="WordArt 37"/>
            <p:cNvSpPr txBox="1"/>
            <p:nvPr/>
          </p:nvSpPr>
          <p:spPr>
            <a:xfrm>
              <a:off x="4037040" y="4487760"/>
              <a:ext cx="25704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0">
                    <a:noFill/>
                  </a:ln>
                  <a:blipFill rotWithShape="0">
                    <a:blip r:embed="rId14"/>
                    <a:srcRect/>
                    <a:stretch/>
                  </a:blip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Impact"/>
                </a:rPr>
                <a:t>?</a:t>
              </a:r>
              <a:endParaRPr b="0" lang="en-US" sz="2400" spc="1" strike="noStrike">
                <a:ln w="0">
                  <a:noFill/>
                </a:ln>
                <a:blipFill rotWithShape="0">
                  <a:blip r:embed="rId1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147" name="WordArt 38"/>
            <p:cNvSpPr txBox="1"/>
            <p:nvPr/>
          </p:nvSpPr>
          <p:spPr>
            <a:xfrm>
              <a:off x="6246720" y="4869000"/>
              <a:ext cx="25740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Arial"/>
                </a:rPr>
                <a:t>?</a:t>
              </a:r>
              <a:endPara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  <p:sp>
          <p:nvSpPr>
            <p:cNvPr id="148" name="WordArt 39"/>
            <p:cNvSpPr txBox="1"/>
            <p:nvPr/>
          </p:nvSpPr>
          <p:spPr>
            <a:xfrm rot="20402400">
              <a:off x="2855520" y="2450880"/>
              <a:ext cx="901800" cy="89856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500931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149" name="WordArt 40"/>
            <p:cNvSpPr txBox="1"/>
            <p:nvPr/>
          </p:nvSpPr>
          <p:spPr>
            <a:xfrm>
              <a:off x="4976640" y="3510000"/>
              <a:ext cx="25740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Triangle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cc"/>
                      </a:gs>
                      <a:gs pos="100000">
                        <a:srgbClr val="ff9999"/>
                      </a:gs>
                    </a:gsLst>
                    <a:lin ang="5400000"/>
                  </a:gradFill>
                  <a:latin typeface="Times New Roman"/>
                </a:rPr>
                <a:t>?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  <a:ea typeface="Times New Roman"/>
              </a:endParaRPr>
            </a:p>
          </p:txBody>
        </p:sp>
      </p:grpSp>
      <p:sp>
        <p:nvSpPr>
          <p:cNvPr id="150" name="Text Box 41"/>
          <p:cNvSpPr/>
          <p:nvPr/>
        </p:nvSpPr>
        <p:spPr>
          <a:xfrm>
            <a:off x="3427920" y="355680"/>
            <a:ext cx="294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SimSun"/>
                <a:ea typeface="Arial"/>
              </a:rPr>
              <a:t>Базовые навыки менеджера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" dur="100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" dur="100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hammer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30" dur="1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cc"/>
                                      </p:to>
                                    </p:animClr>
                                    <p:animClr clrSpc="rgb">
                                      <p:cBhvr>
                                        <p:cTn id="31" dur="1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cc"/>
                                      </p:to>
                                    </p:animClr>
                                    <p:set>
                                      <p:cBhvr>
                                        <p:cTn id="32" dur="1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8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" dur="1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cc"/>
                                      </p:to>
                                    </p:animClr>
                                    <p:animClr clrSpc="rgb">
                                      <p:cBhvr>
                                        <p:cTn id="40" dur="1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cc"/>
                                      </p:to>
                                    </p:animClr>
                                    <p:set>
                                      <p:cBhvr>
                                        <p:cTn id="41" dur="1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4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7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" dur="1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cc"/>
                                      </p:to>
                                    </p:animClr>
                                    <p:animClr clrSpc="rgb">
                                      <p:cBhvr>
                                        <p:cTn id="49" dur="1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cc"/>
                                      </p:to>
                                    </p:animClr>
                                    <p:set>
                                      <p:cBhvr>
                                        <p:cTn id="50" dur="1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5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6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7" dur="1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cc"/>
                                      </p:to>
                                    </p:animClr>
                                    <p:animClr clrSpc="rgb">
                                      <p:cBhvr>
                                        <p:cTn id="58" dur="1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cc"/>
                                      </p:to>
                                    </p:animClr>
                                    <p:set>
                                      <p:cBhvr>
                                        <p:cTn id="59" dur="1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6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6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5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6" dur="1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cc"/>
                                      </p:to>
                                    </p:animClr>
                                    <p:animClr clrSpc="rgb">
                                      <p:cBhvr>
                                        <p:cTn id="67" dur="1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cc"/>
                                      </p:to>
                                    </p:animClr>
                                    <p:set>
                                      <p:cBhvr>
                                        <p:cTn id="68" dur="1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6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7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95640" y="333000"/>
            <a:ext cx="48765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Анали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то………………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обходим для……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209320" y="304560"/>
            <a:ext cx="48769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Анали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нализ – это одна из функций управлен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нализ необходим дл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становки целей  для достижения результата в условиях ограниченных ресурс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0T17:24:46Z</dcterms:created>
  <dc:creator>Елена</dc:creator>
  <dc:description/>
  <dc:language>en-US</dc:language>
  <cp:lastModifiedBy>Валентина Геннадьевна Константинова</cp:lastModifiedBy>
  <cp:lastPrinted>2016-02-08T08:41:19Z</cp:lastPrinted>
  <dcterms:modified xsi:type="dcterms:W3CDTF">2016-02-08T08:57:33Z</dcterms:modified>
  <cp:revision>123</cp:revision>
  <dc:subject/>
  <dc:title>Презентация PowerPoint</dc:title>
</cp:coreProperties>
</file>