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FD3B-C478-4861-A493-5A1A34C78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3D66-4A3F-4DA9-913C-00B29A3B5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EEA8-79E4-4A8C-81AE-75873BF95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6D3F-18FC-4FC3-8DF5-7509E1045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0DE-A317-4525-8811-A4EC0D3C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3AC-D4C5-4D14-AF9A-6BA5DF86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699-3BD0-4324-810B-46F64419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28F-DA8B-4344-A471-775D06FC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D42F-BA09-417F-8219-40E1D19B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8C34-5B9A-4E65-8C86-CC496304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A1EE-8128-4184-B4B3-3C482D8C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5877-73F4-49F7-A94E-CC9DA3A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0135-D11D-4AA3-BA7D-4B0190E7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0073-F2C9-41EC-833E-7EABC8CD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36A8-2A7F-4AA6-83C9-92C46B73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AA2-D657-4F8E-A843-1CBAEAD6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4266-8867-4AED-AABD-AB02962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56D0-63BD-4FD0-AC4C-F79413C5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83C4-35F0-4EFA-90AC-8E551208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6CE9-021C-488C-AC87-A8D4E2A2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FE91-BECB-4D91-A9B4-D2F7730D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793-9371-48E4-8734-5FE37CA7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B06-8584-4514-8493-73DB3762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AA5-09D2-4D09-9D59-97DE8F60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E3C-947B-46D8-9240-1250A514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B9A-91BA-4602-839F-D5025E11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25D-EFF8-4914-A41C-91FA7286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8F8-544C-4B3F-A369-C28C419B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3BF8-C562-4BE4-9A5D-22D5B7BBB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D578-25BB-4E19-8AA3-86D5AC43E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ld.acconcept.ru/strategy/space.html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О, ОД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О – это вариативная часть государственных институтов социализации ребенка, обеспечивающая развитие личности, преемственность и взаимосвязь поколений и ОО, причем делает это в самой тесной связи с семь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го ОУ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ДОО в обязательном порядке должен быть согласован с субъектами муницип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дошкольным образовательным организациям (Д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Д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Д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«товара»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воспитательно-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ечно, ДОО находятся на позиции монополиста услуг в сфере ДО в большинстве районов, однако, это не должно вас успокаивать: во-первых, это не навсегда; во-вторых, есть ещё «имя», которое формирует отношение к ДОО, ценность в глазах Клиента, и, соответственно, желание или нежелание сотрудничать, помогать; испытывать благодарность и рекомендовать или 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воспитанника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родителей и дет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, а можно за счет энергии, возникающей в условиях взаимного доверия и сотрудни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КК детоцентризма, взаимоуважения, вовлеченности и сотрудничества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/кли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 чаще всего в лице родителя, его запросов,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воспитательно-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воспитателей/специалистов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в сотрудничестве с семьей, чтобы не формировались, по образному выражению А.Г.Асмолова «невротические салочки» воспитатель-ро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 процесс – воспитательно-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первую очередь родителя, а также других О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Д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907920"/>
          <a:ext cx="8604360" cy="5492880"/>
        </p:xfrm>
        <a:graphic>
          <a:graphicData uri="http://schemas.openxmlformats.org/drawingml/2006/table">
            <a:tbl>
              <a:tblPr/>
              <a:tblGrid>
                <a:gridCol w="2470320"/>
                <a:gridCol w="2947680"/>
                <a:gridCol w="3186360"/>
              </a:tblGrid>
              <a:tr h="6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ДОО, например, в 2015 году (в соответствии с миссией ОО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Д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экономических субъектов в данном населенном пункте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выгодным местоположением, эффективным воспитательно-образовательным процессом, хорошей МТБ, готовностью педколлектива работать с детьми с ОВЗ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 с учетом требований нового ФГОС, осуществить модернизацию воспитательно-образовательного процесса в соответствии с требованиями учредителя, повысить имидж образовательного учреждения, освоить 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Д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в условиях рынк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услуг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и уж тем более детей,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 Д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Д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ыми качествами воспитателей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специалистов и медиков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педагогическими технологиями: компетентность в новы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ухода и присмотра, здоровьесохранения и развития дет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личности ребенка;  оптимальное сочетание воспитательной и обучающе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Д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руководителя ДОО и наличие управляющих ноу-хау (например, изменение оргструктуры; формирование групп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среди Д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-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учредителя, 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средней школы прежде вс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Д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онополизм ДОО вредит их развитию и отвлекает внимание от качества их работы, т.к. концентрирует на дефиците мест в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СОШ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ПО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школами-партнер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Д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Д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Д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 партнер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управления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ДОО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Д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ыпускников ДОО со стороны партнеров-шко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родителем, партнером, учителем из соседней школы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483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6:25Z</dcterms:modified>
  <cp:revision>71</cp:revision>
  <dc:subject/>
  <dc:title>Технологии повышения привлекательности  образовательной организации</dc:title>
</cp:coreProperties>
</file>