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4BC-259F-48F4-A92D-B9BE2493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B09-BD4D-433D-80F3-E40EEED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8FC-36F8-42E0-B151-78EEED03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FE8-932D-46D5-9368-7FB0DFF0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6B6A-286E-437C-8D62-AA5ED7CC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950-5D1B-4F9D-96C7-A0D1AC6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02C-2E73-4185-AC89-C960C10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4647-683B-4322-8E50-694F1D9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BE5E-B41E-46B2-B166-3D3779D7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2D1-AE8B-465A-801D-DCFB62E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AFD-D666-4D5F-8234-5EBBC430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8D3-1318-4BFD-8588-31422530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EE4-264A-4DF3-9763-B7B3223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B51-3491-436F-BA30-51FA600B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C58A-2D46-4C3B-8920-E652BAD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C347-BF0E-4330-A318-6DB696DE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7F2E-5A44-4D06-B1F4-C3FDABE1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D00-3D66-4B1F-8F5F-5EDB6D2E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283-629C-40E0-A736-7D418E7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F56-0A8D-48EB-B352-B38BF47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FA9-5EC8-4D8F-8848-DE6C8C6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169-F5C1-4EBD-A9C0-98F0823A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D5D-0BC1-434D-B3FC-3E27266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AE0-A8CF-4A1D-951C-76FB5079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B9B-8D73-4930-8DDC-00A952ECC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ACD9-D121-409A-BF2E-9B3FFD59A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</a:t>
            </a: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C(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К)ОО; Д/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обострившимся вниманием к внутренней жизни в учреждениях интернатного типа, кроме формирования открытости, необходимо особое внимание уделить развитию т.н. внутреннего маркетин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если мы хотим, чтобы сотрудники были сосредоточены на индивидуализации развития и поддержке детей, необходимо проявить вниманием к потребностям и развитию сотруд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-сирот, а также детей с ОВ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ается связ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: а) социумом, б) культурой как источником развития; в) родителя и ребенка, т.к. взрослый носитель культуры не знает, каким образом передать тот социальный опыт, который каждый нормально развивающийся ребенок приобретает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С(К)ОО имеют дело с большим разнообразием ОВЗ, а Д/д чаще всего с психологически травмированными детьми, значит это требует достаточно глубокой специализации и высокой квалификации кадров, а т.к. с кадрами в РСО вообще туго, то для С(К)ОО и Д/д это сверхсложная проблема, т.к. специалисты такого профиля и уровня зачастую «штучный» товар 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социализации детей с ОВ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необходимых базовых навыков в сфере жизнеобеспечения, самообслуживания, социализации, коммуникации и рекреации, для адаптации их к обществу и интеграции (реинтеграции) в обще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а маркетинга: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продвижение; партнерство; внутренний маркетинг; персо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браза открытой организации, в т.ч. через элементы ГОУ, информационной открытости и активности: взаимодействие со СМИ, ведение своего сайта, использование ресурсов соц. с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артнерских отношений: с учреждениями культуры; ОО всех типов: ОДО, ОПО; учреждениями спорта, досуга…; поддержка и инициирование интегративных процессов с социу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тнерстве с другим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го образования детей, нуждающихся в специальном (коррекционном)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озможностей учреждений дополнительного образования детей для оказания помощи детям с ограниченными возможностями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раннего выявления отклонений в развитии и ранней помощи детям с ОВЗ в рамках межведомственного партнер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деятельности общественных организаций, занимающихся оказанием помощи и защитой прав детей, нуждающихся в С(К)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ы поддержки выпускников С(К)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артнерства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тношений с семьей и помощь родителям в освоении приемов и методов работы с детьми с ОВЗ, может быть, в т.ч., через поддержку муниципальных клубов, объединений родителей, имеющих детей с ОВ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е включение родителей в коррекционный процесс на основе выявления положительных сторон семьи и активизации ее реабилитационн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енний маркетинг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ерсон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труда и отдыха, способствующих «ребенкоориентированности» сотрудников (внутренний маркетинг), напр. комнаты психологической разгрузки, помощь психологов по профилактике проф. выгорания, работа с супервизорами; организация региональной/муниципальной службы коучинга специалистов и руководителей С(К)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и обучение персонала: квалификация и готовность работать с ины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товность включает не только соответствующий уровень квалификации, но и мотивацию и ценности работы с детьми, имеющими ОВЗ: доброта, любовь к детям, терпение и терпимость, а не только и не столько стремление работать из-за наличия надб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эффективного вн. маркетинга гораздо легче выстроить внеш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связи с общественностью является формирование у широкой общественности позитивного имиджа организации. Работа с общественностью служит созданию доверия и понимания целей и мероприятий, реализуемых организаци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ий маркетинг направлен на формирование привлекательного образа С(К)ОО, Д\д в глазах социума, т.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ность С(К)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ОПО, субъектов рынка труда – работодателей и потенциальных сотрудников, как привлекательный работодател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персо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ынка труда: Рабочая сила рассматривается маркетингом с двух сторон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как товар, где главным являются потребительские свойства работник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как покупатель, который покупает рабочее место в обмен на свой т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: формирования имиджа ОО, как работод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ирования субъектов РТ о вакансиях: сегментирование РТ и источников информации, а также позиционирование свое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реклама привлекательности С(К)ОО-работодателя во время учебы/стажировки студентов СПО, В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специальным (коррекционным) образовательным организациям (С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С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, в т.ч. как работодател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СПО; ОДОД;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/д, С(К)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ссия д.б.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а организация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быть успешным  членом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 и роль ОО в социализации ли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(К)ОО, ОДО, ДОО, ОПО – все работают на решение указанной цели, но каждый из них 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а для детей с ОВЗ С(К)ОО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(ещё раз зададимся вопросом - кто у нас Клиент?)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ля С(К)ОО, Д/д в первую очередь, уровень социализации, включенности в социум ребенка (в т.ч. с ОВЗ) на основе формирования необходимых базовых навыков в сфере жизнеобеспечения, самообслуживания и коммуникации)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 точки зрения его Потребител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одителя, ребенка, учредителя, обще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рганизации, соучастия в ее делах, столь важное в наше время чувство социальной принадлежности, позволяет обнаружить то, что отличает сотрудников вашего С(К)ОУ, Д/д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твечая последовательно на эти Зачем? 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С(К)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думаю, что для С(К)ОО это особенно значимая пози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родной для меня ОДОД – центр «ЛАД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ость противоречий между миссией и действи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или внутренние процессы и отношения в организации вступают в противоречие с заявленным «знаменем», девиз вскоре может превратиться в пустую, бесполезную и даже раздражающую всех фра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основные средства, инструменты маркетинг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н. маркетинг-микс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оуш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70c0"/>
                </a:solidFill>
                <a:latin typeface="Calibri"/>
              </a:rPr>
              <a:t>общее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907920"/>
          <a:ext cx="8291520" cy="5739120"/>
        </p:xfrm>
        <a:graphic>
          <a:graphicData uri="http://schemas.openxmlformats.org/drawingml/2006/table">
            <a:tbl>
              <a:tblPr/>
              <a:tblGrid>
                <a:gridCol w="2316240"/>
                <a:gridCol w="2987640"/>
                <a:gridCol w="2987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 С(К)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У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ора на курс «Основы менеджмент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1280" y="1773000"/>
            <a:ext cx="80755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: степень их влияния и вероятность на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: вычленить приоритетные направления с помощью которых можно сформировать стратегию ОО на рынке 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С(К)ОО и потребителя (в лице родителя/учре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МР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эффективным образовательным процессом, хорошей МТБ, обеспечение повышенных разрядов выпускников СПО,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образовательного учреждения,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 (КП)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ендовые и имиджев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С(К)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бразовательных услуг в крупных городах (ДОО, СОО; С(К)ОО; ОДО; ОП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интегрированные маркетинговые коммуникации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С(К)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формирования образа открытого, экологичного в широком смысле слова учреждения, повышения репутации и привлекательности организации в глазах родителей (опекунов), учредителя, соци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они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, что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С(К)ОО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оя точка зрения – ГР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рганизации до последнего времени имели закрытый характер и ограниченный выход детей в социум, а сейчас речь идет об интеграции не только этих организаций, но и детей (включение, инклюзия), а значит стоит задача выстраивания отношений с другими («дорожная карта» партнерства и интегр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 достаточно остро стоит проблема формирования «бытовой» толерантности, принятия «иных» детей и взрослых в соци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С(К)ОО, поздравительных открыток, благодарственных писем родителям, спонсорам, партн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С(К)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ОО и соответствия разработанной стратегии её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органов государственно-общественного управлени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С(К)ОО может существенную роль играть его Попечительский совет, важнейшей функцией которого является лоббирование интересов 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лу ограниченности имеющихся ресурсов, а также отхода от патерналистской позиции со стороны государства, необходима активизация деятельности, направленной на вовлечение в процесс социализации детей с ОВЗ: меценатов, волонтеров; дополнительные усилия по «лоббированию» интересов СОО, Д\д в ОИ и ЗВ, в т.ч. законодательных изменений; поиск опоры среди работодателей, в бизнесе, системы ПО, …; расширения сфер стимулирования и реализации собственной социальной активности детей, включая детей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для ОПО -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позитивное отношение к С(К)ОО и её выпускни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Д/д, и С(К)ОО в настоящее время наблюдается пристальное внимание с точки зрения соблюдения общечеловеческих прав и достоинства детей, обеспечения ухода, обучения и воспитания детей-сирот, а также детей с ОВЗ - это ставит задачу формирования образа открытого, учреждения, готового к сотрудничеству и нацеленного на реализацию интересов детей с учетом их индивидуальных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00:13Z</dcterms:modified>
  <cp:revision>81</cp:revision>
  <dc:subject/>
  <dc:title>Технологии повышения привлекательности  образовательной организации</dc:title>
</cp:coreProperties>
</file>