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8A07-3CBA-4E7A-A502-9FE76FD6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75C6-B3A5-4330-AAD3-4EE9FAEF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E44-6115-47B3-8D0A-23B1AEE7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05B9-A359-4BC6-81C4-D97095F9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7E7E-ED60-47C8-9180-C2D7BDD1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4F3C-D8CD-45F9-8AF4-6EE29D8F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5CC1-298A-449C-8288-77954E06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9376-5F4E-4179-A1D4-2F6B8F9B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C654-FDE8-4E35-8106-ED633AEB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640C-8607-40ED-8D9B-2CD98253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697A-E95D-4E8D-AE55-A5EBABE4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FF8-E0CA-411F-AD0B-D1C90358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815D-AF13-41A8-9A57-4BB27F63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837A-8863-4834-AC8B-E38B2FC7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5CC0-3B6B-4400-AB2C-762EA434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AAA3-5DC6-4991-B14B-F4EC3465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9DFB-4F7F-4CDC-9643-9D2972AF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1E23-7924-47EF-A7EF-7E3082D4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0E8-6AEA-4342-BECC-F6A10F97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B7F-A700-467E-837E-439494D2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67A4-CC31-492E-AEDF-F4F99EFB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4F7-8BFC-451F-B467-11CC3097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020E-116D-4793-B50F-97EAE64B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21D-4AE0-40AA-A6BC-7D566541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B75E-B561-47CF-B2BD-8294136572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6C31-CFCB-4395-B9CE-A06A3D639A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6;&#1074;&#1099;&#1096;&#1077;&#1085;&#1080;&#1077;%20&#1087;&#1088;&#1080;&#1074;&#1083;&#1077;&#1082;&#1072;&#1090;&#1077;&#1083;&#1100;&#1085;&#1086;&#1089;&#1090;&#1080;%20&#1096;&#1082;&#1086;&#1083;&#1099;&amp;fp=0&amp;img_url=http%3A%2F%2Ftrud22.ru%2Ffiles%2Ffck%2FImage%2Fnews%2FVOL_8146_.jpg&amp;pos=22&amp;rpt=simage&amp;lr=1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fp=3&amp;img_url=http%3A%2F%2Fria.ru%2Fimages%2F4091%2F56%2F40915681.jpg&amp;uinfo=ww-1010-wh-564-fw-785-fh-448-pd-1&amp;p=3&amp;text=&#1087;&#1086;&#1074;&#1099;&#1096;&#1077;&#1085;&#1080;&#1077;%20&#1087;&#1088;&#1080;&#1074;&#1083;&#1077;&#1082;&#1072;&#1090;&#1077;&#1083;&#1100;&#1085;&#1086;&#1089;&#1090;&#1080;%20&#1096;&#1082;&#1086;&#1083;&#1099;&amp;pos=104&amp;lr=16&amp;rpt=simag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40000" y="765000"/>
            <a:ext cx="640872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сновы маркетинга  и маркетинговой стратегии организаций профессионального образования (ОПО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айнутдинов Рашид Минасхат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оцент кафедры менедж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ОАУ ЯО ИРО, к.пс. на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http://im2-tub-ru.yandex.net/i?id=13684312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2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http://im6-tub-ru.yandex.net/i?id=84236651-66-72&amp;n=21"/>
          <p:cNvPicPr/>
          <p:nvPr/>
        </p:nvPicPr>
        <p:blipFill>
          <a:blip r:embed="rId1"/>
          <a:stretch/>
        </p:blipFill>
        <p:spPr>
          <a:xfrm>
            <a:off x="5651640" y="1700280"/>
            <a:ext cx="2808000" cy="2305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и повышение привлекательности ОП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овокупность способов воздействия на клиента принято называть маркетинговыми коммуникациями или интегрированными маркетинговыми коммуникациями (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C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Чаще всего к ним относя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еклам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связи с общественностью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омоушн (продвижение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о я думаю, что все, что воздействует на потребителя (потенциального в т.ч.) можно отнести в широком смысле слова к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от улыбки вахтера и гардеробщицы до запахов в туалете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ежде всего вы должны научиться думать, как клиент и смотреть на свою организацию и её услуги глазами клиент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Есть такое правило-занятие в маркетинге: представьте себя посетителем (студентом, родителем, потенциальным сотрудником, работодателем) и посмотрите на свое заведение (от дорожки к зданию до разговора с сотрудниками) его глазами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интервью президента гр. компаний Cognitive Technologies Ольги Уск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ще мы всегда, даже в тяжелые времена, «держали» кафедры н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Физтехе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МИСиС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Вели научную работу и читали в университет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нас есть жесткая рекомендация для подразделений ― 15% штата комплектовать стажерами из числа студен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жер ― это напряжение. Но те, кто не тратит силы на стажеров, потом испытывают кадровые сложности. Лучшие кадры выращиваются у себ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2009-2010-х годах по нескольким проектам скорость экономического роста сильно выросла, потребовалось много людей, поэтому мы вложились системно ― я пошла в МИСиС уже завкафедрой. Теперь освежаем кадры систематиче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 Усково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деальных систем мотивации я ни разу не видела. Все, что ты можешь сделать для своих партнеров и сотрудников, ― это минимально их трогать, дать возможность шевелить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е тяжелое ― когда ты можешь, а тебе не дают. Когда тебе дают, а ты не можешь, ― это тоже тяжело, но такого человека не так жалко. А когда он может, а ему не дают ― вот это пробл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ться маркетингом означает все врем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03280" y="2060280"/>
            <a:ext cx="5483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мать о своем кли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ть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ть потребности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о радовать е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im4-tub-ru.yandex.net/i?id=126237263-5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07920"/>
            <a:ext cx="29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оориентированность ОП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ся организация «заражена» клиентоманией, то ее называют клиенто-ориентированной. Здесь буквально все рассматривают только с одной позиции — с позиции Клиент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 – это незримое присутствие Клиента буквально везде в орган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поративное маркетинговое мышление само собой не возникает, его нужно воспитывать и развив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подумаем как это следует делать в ваших конкретных условиях: в группах разработайте проекты формирования ММ сотрудников ОПО - 20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ссия – это «визитная карточка» в т.ч. ОП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должна быть привлекательна, понятна для всех, кто может воспользоваться образовательными услугами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ключевым вопросом для определения миссии является «Кому и зачем все это нужно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оптимально сформулировать миссию своей организации, желательно найти ответы на несколько вопросов «зачем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чем это учреждение учре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помогает понять ожидания учредителей и учесть их в выборе развития ОПО; с одной стороны, сохранить свое лицо, с другой – быть в курсе изменений, происходящих в системе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http://im2-tub-ru.yandex.net/i?id=5018066-70-72&amp;n=21"/>
          <p:cNvPicPr/>
          <p:nvPr/>
        </p:nvPicPr>
        <p:blipFill>
          <a:blip r:embed="rId1"/>
          <a:stretch/>
        </p:blipFill>
        <p:spPr>
          <a:xfrm>
            <a:off x="34920" y="0"/>
            <a:ext cx="1944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миссия ОПО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условий для успешной профессионализации и социализации выпускни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социализации представляет собой совокупность всех социальных процессов, благодаря которым индивид усваивает определенную систему норм и ценностей, осваивает необходимые профессиональные и социальные компетенции, позволяющие ему жить и функционировать в качестве члена общ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это образовательное учреждение обществу (социуму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едшие ответ на этот вопрос получают массу серьезных преимуществ. В первую очередь — точное понимание клиента, тех, на кого ориентирована их деятельность, а также определение того, что и как предлагается в ответ на его за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чем эта организация людям, которые в ней работаю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ный поиск ответа на этот вопрос помогает создать атмосферу сопричастности ко всему происходящему в ОСПО, соучастия в ее делах, столь важное в наше время чувство социальной принадлежности, позволяет обнаружить то, что отличает сотрудников вашей ОО от оста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овое 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Что такое маркетинг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Зачем он нужен профессиональным образовательным организациям (ОПО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акие у ОСПО существуют возможности и ограничения для осуществления данной деятельно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 на эти вопросы позволя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ссию ОО образно представить как «флаг», который нужен для ее презентации внешнему миру (в первую очередь клиентам), и, в то же время, «знамя», под которое собираются люди, чтобы сплоченной командой воплощать в жизнь дела, которых ждет от ОПО внешний ми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о отметить, что выбор миссии ОСПО в обязательном порядке должен быть согласован с субъектами региональной  системы образования, которые выражают интересы всего населения данной террит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979640" y="549000"/>
            <a:ext cx="66247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ссия всегда индивидуальна, уникальна, неординарна, в ней заключена основная «изюминка», образ «новизны», неповторимости коллектива, предназначение ОО в мире в целом, и в мире образования, в час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пытайтесь сформулировать миссию своей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http://im2-tub-ru.yandex.net/i?id=171394413-58-72&amp;n=21"/>
          <p:cNvPicPr/>
          <p:nvPr/>
        </p:nvPicPr>
        <p:blipFill>
          <a:blip r:embed="rId1"/>
          <a:stretch/>
        </p:blipFill>
        <p:spPr>
          <a:xfrm>
            <a:off x="155520" y="1916280"/>
            <a:ext cx="175248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ное выражение миссии центра «Л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05264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веренность в будущем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 в настоящем!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 стремится к тому, чтобы дети и взрослые получал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д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деятельности и общения с нами и друг с друг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год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благодаря усвоению полезных знаний и навыков, а также иным средствам и механизмам социализации увеличивали бы шансы н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вер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обственном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будущ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ЛАД» это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чность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птация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уг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ственное имя центра «ЛАД» указывает не только на приоритет социально-психологических отношений в коллективе сотрудников и детей, но является аббревиатурой основного предназначения данной О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вободного времени (радость в настоящем!) для развития личности с целью повышения ее адаптивных качеств (уверенность в будущем!) в атмосфере принятия друг друга и взаимоуважения (лада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шняя функция ми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определить статус ПОО, его имидж, так как различные виды и варианты ОО существенно отличаются друг от друга именно по принимаемой на себя ми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сно заявляя о своей миссии, ОО как бы предъявляет потенциальным заказчикам, клиентам, партнерам свою визитную карточку, что очень важно для установления будущих отношений социального партне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Попытайтесь сформулировать миссию своей организ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четании с ясно сформулированной миссией девиз можно поместить «снаружи», чтобы дать клиентам и работодателям первоначальное представление о том, чего можно ждать от эт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если ясно сформулированной миссии нет, девиз вскоре может превратиться в пустую, бесполезную фр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вы средства маркетин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пция 4 П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укт (особенности и конкурентные преимущества предлагаемых услуг или товар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ажная цена (затраты, которые несет обществ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вижение (реклам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ребители (особенности сегмен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П (к 4 П добавляются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изводство (образовательный процесс: содержание и технологи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рсонал (качество и приверж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ук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ш продукт (это качество образовательных услуг и «товара») есть нечто ценное, что есть у вас и что вы можете обменять на то, что нужно вам – содержание и развитие О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родвинуть ваш продукт (обр. услугу и выпускника) на рынок (рынок ОУ и рынок труда), вам нужно так описать его, чтобы люди, которым вы его предлагаете (абитуриенты и их родители, а также работодатели), могли ясно понять, что Это и как Это отвечает их потребностям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ответствует ли ваш продукт/услуга потребностям вашей целевой группы (какой?) по качеству и удовлетворяет ли он ее специфические потреб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а/зат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имость произведенной услуги на 1 обучающегося (сформулируйте 2-3 показателя, вычислите их и сравните с показателями своих коллег/конкурентов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траты здоровья персонала и обучающихся на то качество услуг («товара»), которое обеспечивается в процессе совместного «производ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http://im2-tub-ru.yandex.net/i?id=27149425-18-72&amp;n=21"/>
          <p:cNvPicPr/>
          <p:nvPr/>
        </p:nvPicPr>
        <p:blipFill>
          <a:blip r:embed="rId1"/>
          <a:stretch/>
        </p:blipFill>
        <p:spPr>
          <a:xfrm>
            <a:off x="0" y="28440"/>
            <a:ext cx="2627280" cy="145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68000" y="274680"/>
            <a:ext cx="64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виж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26560" y="1628280"/>
            <a:ext cx="79930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епень использования маркетинговых коммуникаций в О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:…Интернет: сайт, соц. сети; эвент (события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…Интернет: сайт, соц. сети; эвент (событи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ормирование:…Интернет: сайт, соц. се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утренний маркетинг: формирование ММ, профессионализма, взаимоуважения и вовлеченности; эвент (события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понятия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ид человеческой деятельности, направленной на удовлетворение нужд и потребностей посредством обмена» (Ф.Котлер). Существует более 2000 опреде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Любой контакт вашей организации с внешним миро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предлагаем 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в сфере проф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згляд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ПО и её персонал)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цес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базовый бизнес-процесс - образовательный)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ый, включающий общий уровень развития и уровень квалификации студентов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точки зрения его Потребител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Клиент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Кто у нас его Величество Клиен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http://im7-tub-ru.yandex.net/i?id=414655962-68-72&amp;n=21"/>
          <p:cNvPicPr/>
          <p:nvPr/>
        </p:nvPicPr>
        <p:blipFill>
          <a:blip r:embed="rId1"/>
          <a:stretch/>
        </p:blipFill>
        <p:spPr>
          <a:xfrm>
            <a:off x="155520" y="44280"/>
            <a:ext cx="14288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ребите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, знание особенностей и предпочтений потенциального и реального контингента, а также ЛПР (лица принимающего решен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успеха - знание потребителя, его возможностей и ограни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о – образовательный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и соответствие поставленным целям со сторо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а (ФГОС)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уд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/масте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Т, возможных и реальных работод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трудники должны обладать маркетинговым мышлением, быть профессионально готовыми к достижению поставленных целей, удовлетворению спроса на обеспечение качества образования (пример, стандарт учителя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http://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минобрнауки.рф/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0%B4%D0%BE%D0%BA%D1%83%D0%BC%D0%B5%D0%BD%D1%82%D1%8B/307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ПОО: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обще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собенное, уника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907920"/>
          <a:ext cx="8459640" cy="5492880"/>
        </p:xfrm>
        <a:graphic>
          <a:graphicData uri="http://schemas.openxmlformats.org/drawingml/2006/table">
            <a:tbl>
              <a:tblPr/>
              <a:tblGrid>
                <a:gridCol w="2428920"/>
                <a:gridCol w="2897280"/>
                <a:gridCol w="3133440"/>
              </a:tblGrid>
              <a:tr h="64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е для П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никальное для конкретной О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8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дук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3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Цена»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9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8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требите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9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изводство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ы маркетинговой стратег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6 шаго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ка образа организации и концепции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внешн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конкур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потребител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собственной ситуации, позиционирование организации на рынке образовательных услу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улирование целей и разработка стратегии и тактики комплекса маркетинга и маркетинговых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1. Образ ПОО – его куль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в в вашем представлении желаемый образ ПОО, например, в 2015 год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гда внешнее представление о вашей организации совпадает с представлением о нем сотрудников (внешний и внутренний маркетинг), меры по формированию индивидуальности ОО, а значит, и сама деятельность учреждения будут эффектив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ффективными становятся те ОО, которым удается создать долговременные конкурентные преимущества благодаря культуре управления (они в отличие от технических ноу-хау имеют большую защищенность от повторения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2. Диагностиче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нализ внешней среды и его основные инструмен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ключевых вопросов: кто? что? зачем? где? чем? как? когд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O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 -  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Е - матрица стратегического положения и оценки действий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old.acconcept.ru/strategy/space.htm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PEST-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составления профиля среды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bibliotekar.ru/upravlenie-4/42.htm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VRIO анализ  Дж. Барни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creativeconomy.ru/articles/12440/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ие методы анализа реальной позици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1280" y="1557000"/>
            <a:ext cx="807552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роведения стратегического анализа включает два основных этап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анализ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нализ внешней среды: возможности и угрозы внешних воздейств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Анализ внутренней среды: сильные и слабые стороны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4271"/>
                </a:solidFill>
                <a:latin typeface="Calibri"/>
              </a:rPr>
              <a:t>VRIO анализ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разработанны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ж. Барни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анализа ресурсов и  способностей, определения их ценности и эффективности исполь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П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Ценность (valu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озволяют ли ОО её ресурсы и способности использовать внешние возможности (например использование инноваций или участие в конкурсах и получение грантов) и нейтрализовать угрозы (например, угрозу резкого снижения контингента в силу потери ликвидации экономических субъектов в данном НП, или активности соседней ПОО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– это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ософия дела – идти от Клиен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деятельности с обязательным учетом внешних услов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тегия и тактика поведения на рынке образовательных услуг на основе его изучения и знания потребностей Клиента, перспектив изменений внешних условий, своей миссии и возможностей коллекти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организ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инструментов повышения эффективности управления чем(кем)-л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4271"/>
                </a:solidFill>
                <a:latin typeface="Calibri"/>
              </a:rPr>
              <a:t>Критерии анализа ресурсов П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Редкость (rareness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сколько конкурентов обладают аналогичными ресурсами и способностями (например, уникальностью местоположения, эффективным образовательным процессом, сотрудничеством с бизнес-структурами и наличием базы для полноценной практики, хорошей МТБ, обеспечивают повышенные разряды выпускников СПО и их трудоустройство, готовностью педколлектива работать со студентами с ОВЗ и п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спроизводимость (imitability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насколько сложно и дорого получить доступ к данным ресурсам и способностям, использовать  их в текущей образовательной деятельности (например, возможно ли быстро организовать учебный процесс на современном уровне, осуществить модернизацию учебного процесса в соответствии с требованиями работодателя, повысить имидж профессиональной образовательной организации, освоить технологии работы со студентами с ОВЗ и д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рганизованность (organization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в полной ли мере ОО задействует эти ресурсы и способности для реализации своего конкурентного потенци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сколько менеджмент ОО осознает сильные и слабые стороны своей организации, управляет ими для повышения результативности и снижения затратности образовательного процесс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блема может быть в том, что ресурсы образовательного учреждения могут быть никак не задействованы в образовательном процессе, либо не используются или неправильно используются, в т.ч. при  позиционировании и продвижении своей организац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3. Анализ конкурентов (бенчмаркин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сильные и слабые стороны существующих и потенциальных конкурент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ую сферу образовательной деятельности не стоит вторгаться в связи с сильными позициями там других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«ахиллесова пята» вашего основного конкурен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ет быть вам лучше наладить сотрудничество, чем конкурировать с конкретными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кторы успеха (Ф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утренние достижения ОО, не проявляющиеся на рынке непосредственным образом, например, владение новейшими педтехнологиями, активная методическая работа, инновационная активность коллектива, квалификация и дисциплина персонала, хорошо поставленный документооборот… - все это очень важно, но большинство родителей, да и студентов могут об этом даже не догадываться, более того – им это не интересн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дить об ОО они будут по тем достоинствам, которые доходят до них непосредственно и являются для них потребительской ценн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кторы успеха могут переходить в конкурентные преимущества, а могут оставаться лишь внутренним достоянием организации, зато очень важным и необходимым для порождения конкурентных преимуще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даже утверждать, что любое конкурентное преимущество ПОО коренится в определенных факторах успеха орган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кус конкуренции (Ф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кус конкуренции – это приоритеты, которыми пользуются клиенты (родители и абитуриенты) при выборе ПОО или принятии решения о его с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онкурентные преимущества ОО вырабатывают сами, то фокус конкуренции – это критерии, которые вырабатывает потребитель навстречу этим К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ы ФУ и их составляющие</a:t>
            </a:r>
            <a:r>
              <a:rPr b="0" lang="ru-RU" sz="4000" spc="-1" strike="noStrike">
                <a:solidFill>
                  <a:srgbClr val="ccc1da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основного персонала: мастеров, педагого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стойчивые, конструктивные связи с работодателями и наличие базы для практик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освоения передовых технологий для рынка труда: лаборатории, мастерские, с наличием соответствующего оборудов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быта и учебы: благоустроенное общежитие, столовая, спортивный и актовый залы, укомплектованные соответствующим оборудованием, для активного проведения занятий и досуга студенто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акторы, связанные с образовательным процессом:  реализация подходов, способствующих формированию профессиональных и личностных компетенций;  оптимальное сочетание общеобразовательной и профессиональной, урочной и производственной деятельности…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акторы, связанные с технологиями: способность коллектива к инновациям; признание в проф. сообществе…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миджевые факторы, в т.ч. связанные с  информированием и продвижением (сайт, СМИ, иные ИК технологии)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акторы, связанные с компетентностью в управлении и наличие управляющих ноу-хау (например, изменение оргструктуры; формирование проектных групп…;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широкий выбор дополнительных программ профессионального образов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добное месторасполож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одумайте и конкретизируйте, какие факторы вашей ПОО могут стать или уже являются факторами успеха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ые преимущества (К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те достижения ОО, факторы успеха, которые попадают в фокус конкуренции и обеспечивают конкурентные преимущест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П (или КФУ ключевые факторы успеха) не только напрямую воспринимаются и оцениваются клиентами, но являются дифференцирующими признаками их потребительского выб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кетологи ещё иногда называют их «продающими моментам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м больше у вас продающих моментов, тем луч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о вертикали впишите характеристику элементов ММ ОО и б) по графам произведите оценку своих ПО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981000"/>
          <a:ext cx="8964720" cy="5543640"/>
        </p:xfrm>
        <a:graphic>
          <a:graphicData uri="http://schemas.openxmlformats.org/drawingml/2006/table">
            <a:tbl>
              <a:tblPr/>
              <a:tblGrid>
                <a:gridCol w="1979640"/>
                <a:gridCol w="1606680"/>
                <a:gridCol w="1792080"/>
                <a:gridCol w="1792440"/>
                <a:gridCol w="1793880"/>
              </a:tblGrid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маркетинг-мик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кальное конкурентное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му уровню  по реги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/допустимый  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изменя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http://im1-tub-ru.yandex.net/i?id=441066139-02-72&amp;n=21"/>
          <p:cNvPicPr/>
          <p:nvPr/>
        </p:nvPicPr>
        <p:blipFill>
          <a:blip r:embed="rId1"/>
          <a:stretch/>
        </p:blipFill>
        <p:spPr>
          <a:xfrm>
            <a:off x="0" y="0"/>
            <a:ext cx="3059280" cy="3141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562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 конкурентному преимущест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692000" y="1700280"/>
            <a:ext cx="6994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относиться все перечисленные выше факторы, позволяющие успешно конкурировать на рынке и побеждать в конкурентной борьб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группах подготовьте свои сужден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в настоящий момент в фокусе конкуренции на рынке ОУ для ПО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что будет сдвигаться ФК ПОО в недалеком будуще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попадет в ФК ПОО в дальней перспектив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игрыш – выигрыш; выигрыш-потеря или потеря - поте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обеспечение для ОПО и потребителя (студента/родителя) ситуации «выигрыш-выигры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ям (и обучающимся) нужны не образовательные услуги как таковые, а удовлетворенные потребности и решенные пробл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акие потребности мы помогаем им удовлетворять в ОПО?  Наши возможно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акие проблемы помогаем реш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4. Анализ потреб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341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бы добиться успеха, думай не о себе, а о другом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гментирование рынка (какая группа потенциально является нашими потребителями, каков их соц.-дем. портрет и псих. особенности, особенности их потребительского поведения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учетом данных о состоянии рынка образовательных услуг необходимо анализировать сильные и слабые стороны своего учреждения, выявлять потребности, прогнозировать тенденции, искать сильные позиции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5. Анализ собственной ситуации и определение позиции на ры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есь надо ответить на вопрос: «Что нам мешает в данный момент удовлетворить образовательные потребности наших клиентов лучше, чем конкурент?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зиционирование ПОО: в чем мы сильны, каковы наши особенности и приоритеты, какие потребности с точки зрения клиентов мы можем удовлетворять, чем мы можем быть интересны выпускникам школ, их родителям, работодателям….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есь осуществляется переход от аналитического раздела к практической разработке стратег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ормируется ориентация на перспективные направления рынка ОУ, на основе 1-5 шаг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6. Формируется маркетинговая стратегия и тактика О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основе предыдущих шагов формулируются конкретные, мотивационные (т.е. достижимые, совпадающие с интересами потребителя и сильными сторонами ПОО, в тоже время содержащие вызов) цели организ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основе разработанных концепций (миссии, видения будущего своей ПОО) и определенных целей маркетинговой стратегии начинается оперативное маркетинговое планировани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мечаете комплекс маркетинговых мероприятий, в т.ч.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продв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blic Relation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вязи с обществен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ытия/мероприятия  (ивент/эв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http://im4-tub-ru.yandex.net/i?id=194040097-71-72&amp;n=21"/>
          <p:cNvPicPr/>
          <p:nvPr/>
        </p:nvPicPr>
        <p:blipFill>
          <a:blip r:embed="rId1"/>
          <a:stretch/>
        </p:blipFill>
        <p:spPr>
          <a:xfrm>
            <a:off x="155520" y="0"/>
            <a:ext cx="1428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ительно к ПОО – это попытка удовлетворить интерес к нему и его услугам путем передачи имеющейся информации через различные каналы, организация общественного мнения в целях повышения репутации и привлекательности организации в глазах потребителей, работодателя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привлекатель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10920" y="1341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ость ОО привлекать расположение и позитивное внимание со стороны учредителя и потенциальных/реальных пользователей образовательных услуг (обучения, воспитания, социализации): студентов, родителей, социальных партнеров, коллег; а также потребителей их «товара»: Вузов, субъектов рынка труда – работод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чем нужна привлекательность ОО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Там, где нет конкуренци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пится лучше, но живется хуже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оложение может выражаться в таких формах как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56000" y="1699920"/>
            <a:ext cx="613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бильно позитивный имидж организац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рост  контингент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олее высокие уровни инвестиций (внимания, финансов) со стороны учредителя, спонсоров, работодателя, род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верие и готовность к сотрудничеству со стороны социальных партнеров, в т.ч. ОВПО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http://im2-tub-ru.yandex.net/i?id=508414093-44-72&amp;n=21"/>
          <p:cNvPicPr/>
          <p:nvPr/>
        </p:nvPicPr>
        <p:blipFill>
          <a:blip r:embed="rId1"/>
          <a:stretch/>
        </p:blipFill>
        <p:spPr>
          <a:xfrm>
            <a:off x="0" y="2421000"/>
            <a:ext cx="22986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разместить информацию в С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ществуют мнение, что разместить информацию об ОО можно только за деньги. Это часто верно, но не всег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 ОО происходят социально значимые события, интересные за пределами ПОО – это может вызвать интерес журналистов газет и 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ить о событиях можно рассылая пресс-релизы в печатные, электронные и ТВ С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главии пресс-релиза необходимо обязательно указать: кто проводит мероприятие, для кого и с какой целью, место и сроки пр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е содержание д.б. посвящено краткому описанию структуры и содержания меропри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исании текста нужно использовать те слова и выражения, которые не требуют от читателя знания специальных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яду с рассылкой пресс-релизов необходимо лично приглашать журналистов (легче районных и городских, сложней региональных и федеральны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шение представителей ТВ потребует наибольшей предварительной подготовки со стороны 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работы с 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работы корреспондента уточните, в какой передаче и в какой рубрике будет представлен ваш материал, сколько времени в эфире займет рассказ. Важно узнать, сколько по времени и как планируют снимать сюжет, согласуйте свои предложения с планами журна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у бригады ограниченное, поэтому смогут уделить вашей школе ограниченное время. Заранее определите ответственного, кто будет сопровождать корреспондента, комментировать происходящее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жите корреспонденту и оператору наиболее яркие моменты праздника, события. ТВ это прежде всего динамичная карти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476000" y="981000"/>
            <a:ext cx="67532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йте в группах особенности работы  ОСПО, которые, с вашей точки зрения, важно учесть при использовании маркетингового подхода в управле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умайте о постановочных кад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се события можно запечатлеть в реальном времени и тем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полне уместно будет попросить участников специально для ТВ спеть песню, поиграть в игру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приезд журналистов и создание постановочного сюжета не мешали проведению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епортаж предполагает выступ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анее подготовь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текст был кратким, содержательным и понятным любому челов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тветах на вопросы интервью будьте краткими и отвечайте без длинных вводных фраз – это все равно выреж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завершение работы с корреспонд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ите ему пресс-релиз, в котором будет описано прошедшее событие, а также имена, отчества, фамилии и должности всех, кто был активным участником репортаж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попросить проверить Ф.и.о., должности участников, которые корреспондент мог записать на слух с ошибками, неточност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очните время выхода репортажа и договоритесь о возможности переписать итоговый репортаж и черновой материал для архива учреждения (его надо использовать для других мероприятий, выложить на сай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и странно, но это также вполне привыч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 жителями райо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фориентационная работа с ООШ, СО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понсорами, с шефами, с работодателями, депута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МИ, Интерне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08000" y="0"/>
          <a:ext cx="9036000" cy="6800760"/>
        </p:xfrm>
        <a:graphic>
          <a:graphicData uri="http://schemas.openxmlformats.org/drawingml/2006/table">
            <a:tbl>
              <a:tblPr/>
              <a:tblGrid>
                <a:gridCol w="1047600"/>
                <a:gridCol w="1141560"/>
                <a:gridCol w="1141200"/>
                <a:gridCol w="1140120"/>
                <a:gridCol w="1141200"/>
                <a:gridCol w="1141560"/>
                <a:gridCol w="1141200"/>
                <a:gridCol w="1141560"/>
              </a:tblGrid>
              <a:tr h="161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уп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т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ребов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сбоев в передаче инф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ност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ая встреч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ка объя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мят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р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и С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ямая (адресная) почтовая рассыл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жегодная рассылка бывшим выпускникам красочно оформленных календарей с символикой образовательной организации, поздравительных открыток, благодарственных писем родител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тавки и семина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остранение рекламной продукции, касающейся основной деятельности ОО во время проведения и участия в конференциях, выставках, днях трудоустройства и др. массовых мероприят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ежегодной презентации в различных районах города, на площадках других учреждений, приурочивание проведения презентаций к большим праздникам: день района/улицы/города, День профессии, Новый год, Последний звонок, День рождения ПОО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логи и букл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одителей, партнеров, попечителей, спонсоров необходима правильная расстановка акцентов, но при этом не стоит забывать об учете сложившегося имиджа ПОО и соответствия разработанной стратегии развития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ламные щиты и наружная рек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необходимого согласования (ГИБДД, администрация, собственник, отдел рекламы) можно использовать имеющийся автобус, штендеры или растяжки на территории ПОО, её фасаде, а также на оживленных перекрестках, пешеходных зонах в пар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обенности ОСП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ыявленные в групповой работе), которые влияют на маркетинговую стратегию 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http://im4-tub-ru.yandex.net/i?id=1916380-08-72&amp;n=21"/>
          <p:cNvPicPr/>
          <p:nvPr/>
        </p:nvPicPr>
        <p:blipFill>
          <a:blip r:embed="rId1"/>
          <a:stretch/>
        </p:blipFill>
        <p:spPr>
          <a:xfrm>
            <a:off x="3564000" y="2637000"/>
            <a:ext cx="2520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лефонный маркетинг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дение телефонного анкетирования среди родителей, работодателей, выпускников и т.п. накануне нового учебного года или его оконч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рменные сувениры: вручение студентам, родителям, выпускникам, гостям ПОО ручек, календариков, поделок воспитанников и т.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зитные карточки, методическая литература с рекламой ОО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 в собственных С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ль ГОУ П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формировании положительного образа ОУ может существенную роль играть его Попечительский совет, важнейшей функцией которого является лоббирование интересов ПО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и, правильно понимающие значение данного органа, активно привлекают к его работе родителей, депутатов, представителей общественных организаций, бизнесменов и т.п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в рамках его деятельности крайне важно проводить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акции, привлекающие внимание, а затем, возможно, и финансы, для О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ценка эффективности маркетинг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инамика изменения численности контингента на фоне демографических изменений района; обеспечение плана набора/конкурс на отдельные професси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прос на выпускников профессионального ОУ со стороны крупных, работодателей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инамика изменений характеристик имиджа ОО: узнаваемости и привлекательности организации, наличия и оценки имени, «торговой марки», «бренда» ОО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епротиворечивость, конгруэнтность внутреннего и внешнего маркетинга, содержания и формы, адекватность имиджа реальности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инамика реализации проекта, позволяющая фиксировать результаты выполненных работ, произошедшие изменения во внутренней культуре ПОО, элементах имиджа ОО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довлетворенность целевой аудитории теми формами работы, в которые они были вовлечены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инамика удовлетворенности работой ОО со стороны: учредителя, родителей, обучающихся, персонал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нализ обратной связи в т.ч. неорганизованной (соц. сети, форумы, чаты, блоги…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ль маркетинга для ОСП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ствами маркетинг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ть условия способствующие оптимизации процесса освоения профессии и социализаци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удентов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формирования ключевых профессиональных и социальных компетенций для адаптации их к производству и успешной интеграции в общест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что нацелен маркетинг ОСП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ести исследования, направленные на понимание потребностей и особенностей клиента, выявление и сравнение с конкурентам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ределить целевой рынок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довлетворить потреб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стичь конкурентного преимуще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дача маркетинга быть там, где есть аудитор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если наш сегмент все больше времени проводит в Интернете и социальных сетях, значит и думающим руководителям ОПО следует воспользоваться возможностями этих ресурсов, и одновременно понимать какие угрозы порождает это явление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1:21:02Z</dcterms:created>
  <dc:creator>gainutdinova</dc:creator>
  <dc:description/>
  <dc:language>en-US</dc:language>
  <cp:lastModifiedBy>Рашид Минасхатович Гайнутдинов</cp:lastModifiedBy>
  <dcterms:modified xsi:type="dcterms:W3CDTF">2014-02-24T14:34:48Z</dcterms:modified>
  <cp:revision>85</cp:revision>
  <dc:subject/>
  <dc:title>Технологии повышения привлекательности  образовательной организации</dc:title>
</cp:coreProperties>
</file>