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E00A-89F7-4834-946D-159B47CE2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BA1F-5004-4256-8602-2E7113B0CB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D6A-16C8-40DF-8798-C5309459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E3D-3A53-49D9-B1E9-7712B049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57C-041E-456B-83FC-6E38B0B6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327-4DF2-4101-BA54-4AA1A33A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B276-C304-4EDB-B2BA-BF5EBCD3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85A4-2C13-43DE-B2E0-FC0799D7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20A8-3C2B-4065-B9CC-0F439053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AAC9-31BF-4132-B44C-2DECBEC5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48BC-F6E9-43D7-9643-48274191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B03B-668F-44F1-8A9F-CD87F44E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184E-0A84-4176-AFFE-3AE8D9A0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306-7EC5-4CED-B27E-9F61DAEA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5812-6035-44F2-86DF-D0C294CF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7928-F205-4FE3-A655-CF4151E8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0C1E-B839-40E1-BE6B-02222557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DE53-20BB-4C62-8428-C600DA29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42BD-AEE6-4582-AB40-16E17BCB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5FA3-0EAE-4B02-AADA-A45C7D67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EF4-6E4B-4C8F-9F98-F77140FD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781-425B-41F6-87E7-D6A05FCC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FDA-C327-4359-9745-EAF379CF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FCB-B238-442E-A2CA-74062C62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98F-D09F-4559-919C-3DCB5356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404-38F6-4953-ABB8-F12D292E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B034-855F-4290-9655-30D4C3D75D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6882-0F30-40E3-8074-71DCCDBF7B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1&amp;img_url=http%3A%2F%2Fozvest.ru%2Fwp-content%2Fuploads%2F2013%2F02%2Fgagarina_4-300x200.jpg&amp;uinfo=ww-1010-wh-564-fw-785-fh-448-pd-1&amp;p=1&amp;text=&#1087;&#1086;&#1074;&#1099;&#1096;&#1077;&#1085;&#1080;&#1077;%20&#1087;&#1088;&#1080;&#1074;&#1083;&#1077;&#1082;&#1072;&#1090;&#1077;&#1083;&#1100;&#1085;&#1086;&#1089;&#1090;&#1080;%20&#1096;&#1082;&#1086;&#1083;&#1099;&amp;pos=41&amp;lr=16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ивлекатель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детей, родителей, социальных партнеров, коллег; а также потребителей их «товара»: УПО, субъектов рынка труда – работод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рост  континген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аботодателя, родителе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УПО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im2-tub-ru.yandex.net/i?id=508414093-4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03280" y="2060280"/>
            <a:ext cx="5483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im4-tub-ru.yandex.net/i?id=126237263-58-72&amp;n=21"/>
          <p:cNvPicPr/>
          <p:nvPr/>
        </p:nvPicPr>
        <p:blipFill>
          <a:blip r:embed="rId1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 группах разработайте мини-проекты средств формирования ММ сотрудников О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о учреждение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О; с одной стороны, сохранить свое лицо, с другой – быть в русл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(в широком смысле слова) ребенка (челове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компетенции, позволяющие ему жить и функционировать в качестве члена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семья, ДОУ, УДО, УПО – все работают на решение указанной цели, но каждый из этих институтов делает это с помощью только ему присущи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 – это инвариантная часть государственных институтов социализации ребенка, обеспечивающая временную и пространственную преемственность и взаимосвязь поколений и регион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нешкольные образовательные учреждения (ДОО; ОДО; ОПО)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вариативная часть государственно-общественных институтов социализации ребен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ни призваны создавать условия для обеспечения современного для данного общества и актуального для данной личности целостного ее развития (от раннего дошкольного, до профессиональной подготовки в зрелом возрасте); «достраивания» путем предоставления ей выбора и создания «территории успеха»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необходимости оказывают социально-психологическую поддержку и осуществляют психолого-педагогическую коррекцию и реабилитацию ребен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образовательным организациям (О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О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, 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школе, соучастия в ее делах, столь важное в наше время чувство социальной принадлежности, позволяет обнаружить то, что отличает сотрудников вашей ОО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О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ОО в обязательном порядке должен быть согласован с субъектами муниципальной/регион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ссия всегда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задач ОО – снизить «прессинг инкультураци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отором говорит А.Маслоу, приводящий к фрустрации и ограничениям естественного права ребенка на развитие в процессе социал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синг инкультурации, т.е. воспитания, дисциплины, формирования социальных навыков, подготовки к будущей взрослой жизни, осознания потребностей и желаний других людей в какой-то степени, разумеется, необходим, но процесс воспитания перестанет раздражать нас и ребенка только тогда, когда его будет окружать атмосфера приязни, любви и уважения друг к дру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ОУ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У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девиз вскоре может превратиться в пустую, бесполезную ф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вы средства маркетин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укт (особенности и конкурентные преимущества предлагаемых услуг или товар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о (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ую организацию и её персонал)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 процесс - образовательный)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ый, включающий обученность и воспитанность ребенка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точки зрения его Потребите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Клиен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родвинуть ваш продукт на рынок, вам нужно так описать его, чтобы люди, которым вы его предлагаете (в первую очередь ЛПР о выборе или смене ОО - родители), могли ясно понять, что Это и как Это отвечает их потребностям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ветствует ли ваш продукт потребностям вашей целевой группы по качеству и удовлетворяет ли он ее специфические потреб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обучающегося (сформулируйте 2-3 показателя, вычислите их и сравните с показателями своих коллег/конкурен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раты здоровья персонала, детей и родителей на то качество услуг («товара»), которое обеспечивается в процессе совместного «производств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данные практически не учитываются, однако мы все понимаем, что можно одного и того же результата добиваться за счет сверхусилий персонала и напряженных отношений с родителями и детьми, а можно за счет энергии вовлеченности и сотрудничества, возникающей в условиях сильной ОК субъектного ти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:..; Интернет: сайт, соц. сети; эвент (со-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…Интернет: сайт, соц. сети; эвент (со-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ирование:…Интернет: сайт, соц. се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й маркетинг: формирование ОК субъектного типа;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, а также ЛПР (лица принимающего решения): родителя и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, его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ода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(пример, стандарт учител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обрнауки.рф/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0%B4%D0%BE%D0%BA%D1%83%D0%BC%D0%B5%D0%BD%D1%82%D1%8B/307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ОО: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общее, особенное, уникально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907920"/>
          <a:ext cx="8229600" cy="5739120"/>
        </p:xfrm>
        <a:graphic>
          <a:graphicData uri="http://schemas.openxmlformats.org/drawingml/2006/table">
            <a:tbl>
              <a:tblPr/>
              <a:tblGrid>
                <a:gridCol w="1917720"/>
                <a:gridCol w="1361880"/>
                <a:gridCol w="2475000"/>
                <a:gridCol w="2475000"/>
              </a:tblGrid>
              <a:tr h="72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ее для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е для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никальное для конкретной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6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ОО, например, в 2015 г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 (внешний и внутренний маркетинг)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бизнес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рыночной деятельности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маркетинг ни в коем случае не представляет собой манипулирования клиентам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1557000"/>
            <a:ext cx="80755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фирме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ликвидации экономических субъектов в данном НП, или активности соседнего ОУ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природной уникальностью и местоположением; наличием редких специалистов и опытом; эффективным образовательным процессом; хорошей МТБ; готовностью педколлектива работать с детьми с ОВЗ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и пр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, осуществить модернизацию учебного процесса в соответствии с требованиями ФГОС; повысить имидж образовательного учреждения; освоить педтехнологии работы с деть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олной ли мере ОУ задействует эти ресурсы и способности для реализации своего конкурентного потенци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 при  позиционировании и продвижении своей организ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да и детей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б 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ОУ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прежде всего) при выборе ОУ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и личностными особенностями педагогического персонал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технологиями: компетентность в новых проектных, исследовательских технологиях; способность к инновациям; роль экспертов в данной технологии; признание в проф. сообществе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освоения ФГОС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системно-деятельностного подхода при формировании УУД, метапредметных, личностных компетенций;  оптимальное сочетание урочной и внеурочной деятельности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(сайт, СМИ, иные ИК технологии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в управлении и наличие управляющих ноу-хау (например, изменение оргструктуры; формирование классов переменного состава…;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услуг и имиджа ОО (свой сайт, СМИ, информационные листки, встречи с родителями…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одумайте и конкретизируйте, какие факторы вашего ДОО могут стать или уже являются факторами успех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ОО и потребителя (родителя/школы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детям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отребности мы помогаем им удовлетворя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/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У в крупных городах (НШ, СШ; УДО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гментирование рынка (какая группа потенциально является нашими потребителями, каков их соц.-дем. портрет и псих. особенности, особенности их потребительского поведени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зиционирование ОО: в чем мы сильны, каковы наши особенности и приоритеты, какие потребности с точки зрения клиентов мы можем удовлетворять, чем мы можем быть интересны родителям, детям, партерам...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, на основе 1-5 шаг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цел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и определенных целей маркетинговой стратегии начинается оперативное маркетинговое план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ОУ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повышения репутации и привлекательности организации в глазах потребителей, работодателя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е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школы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пед.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476000" y="981000"/>
            <a:ext cx="6753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йте в группах особенности работы  ваших ОО, которые, с вашей точки зрения, важно учесть при использовании маркетингового подхода в управл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микро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скими садами по работе с будущими первокласс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ямая (адресная) почтовая рассы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ая рассылка бывшим выпускникам красочно оформленных календарей с символикой школы, поздравительных открыток, благодарственных писем родител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и и семин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ие рекламной продукции, касающейся основной деятельности ОО во время проведения и участия в конференциях, выставках и др. массовых мероприя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учителя, Новый год, Последний звонок, День рождения школы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школы и соответствия разработанной стратегии развития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школы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обенности О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ыявленные в групповой работе), которые могут влиять на маркетинговую стратегию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попечителей, спонсор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детям, родителям, выпускникам, гостям школы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школы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школьных С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ого управления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ОУ может существенную роль играть его Попечительский совет, важнейшей функцией которого является лоббирование интересов О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О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обеспечение плана набора/конкурс на отдельные професс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«торговой марки», «бренда»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школы, элементах имиджа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обучающихся,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нужна привлекательность О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ам, где нет конкуренци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пится лучше, но живется хуже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что нацелен маркети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сти исследова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целевой рыно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довлетворить потреб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стичь конкурентного преимуще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ча маркетинга быть там, где есть аудитор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если наш сегмент все больше времени проводит в Интернете и социальных сетях, значит и думающим руководителям ОУ следует воспользоваться возможностями этих ресурсов, и одновременно понимать какие угрозы порождает это явле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0:14:54Z</dcterms:modified>
  <cp:revision>61</cp:revision>
  <dc:subject/>
  <dc:title>Технологии повышения привлекательности  образовательной организации</dc:title>
</cp:coreProperties>
</file>