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29E-C525-451A-966C-8EC9774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C43-0CB0-4851-9D3D-0F73BA7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E6F-0391-4D1A-95EB-D6DB6B7A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6BB-9BA7-4236-9364-C16ED922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F7E-6B38-46DF-B219-FAE0E454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1F2C-5E1B-49B9-A876-F17E3502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783F-80A2-43C7-8DFE-427BFC3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6985-F944-4812-A451-CE38F59C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A68-9437-4AB3-A8C3-9887E0D8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C657-1D1D-4ECA-856F-38F1C9F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2C02-0A26-44BF-8CD2-B476C15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09D-B844-4DE9-9A85-33448E0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E82C-8B7F-43DF-A694-BF4C82E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526-E052-451B-8691-798EE79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EA0-DB7A-4FE0-971D-6512284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DF5-10B4-4861-B381-96CDBDCD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95C4-2587-474D-8F95-24BA6F76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C2E-5DC8-48F5-95B9-BC9C710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098-42E3-4A13-85FA-2AC959C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0C6-0C3D-48B1-94D1-3F8CE6B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B17-2868-4484-9878-9CE3CF1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4DC-0B99-48B0-BD42-1DEC361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2E4-5481-4B9C-9B6F-4413A88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E3A-F022-4BE6-9A8C-B2DD786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8B07-2F7F-4F10-AD44-66499AFCA2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2CD3-0C01-489D-AD63-2D33BA2E0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Тема </a:t>
            </a: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. Популярные модели принятия управленческих реш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86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ный подход обеспечивается целостностью сис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ь системы и ее "отделенность" от окружающего мира обусловлены тем, что взаимосвязи внутри системы существенно сильнее, чем связь какого-либо ее элемента с любым элементом, лежащим все систе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нователи – Генри Минцберг и его коллеги (Университет МакГилла в Монреале, Кана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курса теория организац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Формирование жизнеспособной структуры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«Структура -5», Генри Минцберг, Канада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книге «Структура в кулаке: создание эффективной организации», которая была издана в 1983 год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организационного дизайна в среде теоретиков и практиков, занимающихся проектированием организаций, получила краткое название «структура – 5». 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ая организованная человеческая деятельность выдвигает два фундаментальных, но противоположных требовани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труда на отдельные задач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координация действий по выполнению этих задач в единую деятельнос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организации, по Г.Минцбергу, определяется как простая совокупность способов, посредством которых процесс труда сначала разделяется на отдельные рабочие задачи, а затем достигается координация действий по решению задач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ь координационных механизмов раскрывают способы, посредством которых организации координируют свою деятельност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взаимное согласова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ямой контрол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стандартизация рабочих процес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тандартизация выпуска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тандартизация навыков и зн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заимном согласовании контроль над процессом труда осуществляется самими работни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рямом контроле ответственность за работу других людей, определение заданий для них и наблюдение за их действиями возлагается на одного челов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ущность метод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нимание акцентируется не на политических и социальных факторах, а на структурной последовательности действий па протяжении всего процесса: с момента обнаружения проблемы –и до момента её ре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ый выбор складывается из серии мелких выбор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ПР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может натолкнуться на барьеры, и тогда возможно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временное прерывание решени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(пауза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рмин Г. Минцбер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эта пауза необходи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щность метод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– динамический процесс, с паузами и остановками, но идущий впере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может идти по нарастающ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проходит множество циклов, пока проблема не будет реш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достатки методов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ого опрос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, модели Карнеги и метода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инкрементального принятия решений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кусируются на конкретной одной проблеме (или дву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могут одновременно просчитывать десятки решений для многих проб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удоем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зультат часто отдален во временном промежут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одель мусорного ящ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йкл Коэн, Джон Олсен,  Джеймс Марч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спомним: «Теория административного поведения» Д. Марч, Г. Саймон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лавные иде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еории административного повед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точнее обозначена цель, тем рациональнее поведение в организа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ли определяются ценностными предпосылками орган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труирование цепочек «СРЕДСТВА – ЦЕЛИ», гд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редст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ыбираются руководством посредством принятия ре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 термин «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рганизацион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642600"/>
            <a:ext cx="7313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Модель мусорного ящика опирается на четыре понятия, которые являются своеобразными "атомами" процесса. 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Проблемы — это моменты неудовлетворенности текущей деятельностью и выполнением работы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агаемые ре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Решение — чья-либо идея, предложение. Такие идеи составляют составляют своеобразные поток альтернативных решений, текущий через организацию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50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 такж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частники принятия решения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принятия решения — это служащие, которые пришли в организацию и проходят сквозь нее. Люди нанимаются на работу, меняют должности и увольняются. Участники значительно расходятся в своих идеях, восприятии проблему опыте, оценках и образовании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    Благоприятные возможности для выбор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связываются с соответствующими проблемами и участниками — таким образом, делается удачный выбор. Разумеется, не все проблемы решаются, когда делается выбор, но организация движется по направлению снижения числа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тели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– Г. Саймон, Джеймс Мар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граниченно-рацион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щнос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будут эффективны, если они будут приниматься не одним менеджером, а группой (альянсом) менедже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ы необходимы, т.к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из руководителей подразделений хочет быть рациональным, но имеет ограниченную информацию. Больше  информации – больше вари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шения будут поддержаны всеми сторонами, а значит, приняты во всех подразде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 метод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имеет дело с системой и потоком проблем внутри орган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рассматривает все внутренние процессы одновременно и решает все проблемы взаимосвязано с изменениями внешней сре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 для реализации мет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Коммуникационные связи должны быть налажены на оптимальный режим функционир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Ответственность  участников на всех этап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1280" y="1916280"/>
            <a:ext cx="2736720" cy="18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79640" y="4076640"/>
            <a:ext cx="273672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80000" y="4149720"/>
            <a:ext cx="280836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51280" y="263700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292720" y="263700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4643280" y="2060640"/>
            <a:ext cx="1440000" cy="718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4"/>
          <p:cNvSpPr/>
          <p:nvPr/>
        </p:nvSpPr>
        <p:spPr>
          <a:xfrm rot="10503000">
            <a:off x="4716000" y="285228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832080" y="2060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х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55600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9"/>
          <p:cNvSpPr/>
          <p:nvPr/>
        </p:nvSpPr>
        <p:spPr>
          <a:xfrm flipH="1">
            <a:off x="2916000" y="3284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716360" y="49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1600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588000" y="299736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H="1" flipV="1">
            <a:off x="6587640" y="2708280"/>
            <a:ext cx="158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2700360" y="407664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5"/>
          <p:cNvSpPr/>
          <p:nvPr/>
        </p:nvSpPr>
        <p:spPr>
          <a:xfrm>
            <a:off x="6227640" y="414972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6"/>
          <p:cNvSpPr/>
          <p:nvPr/>
        </p:nvSpPr>
        <p:spPr>
          <a:xfrm rot="10503000">
            <a:off x="2771280" y="4869000"/>
            <a:ext cx="1224000" cy="7207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7"/>
          <p:cNvSpPr/>
          <p:nvPr/>
        </p:nvSpPr>
        <p:spPr>
          <a:xfrm rot="10503000">
            <a:off x="6443280" y="501300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508720" y="479736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08000" y="4724280"/>
            <a:ext cx="13687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419640" y="472428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93080" y="479736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 (продолжение)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ожительные последствия группового (коалиционного) метода П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довлетворение всех сторо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ыстрое реш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блемно-ориентированный поиск решения конкретен и локале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меется возможность компромиссных решений, а значит – избегание конфли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экспертного опрос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86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ущность – решение проблемы через привлеч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нешних экспертов  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рабочей группы (РГ) внутри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стадии экспертного опро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формулировка ЛПР цели экспертного опрос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одбор ЛПР основного состава Рабочей группы (обычно - руководителя и секретаря рабочей групп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разработка РГ и утверждение у ЛПР технического задания на проведение экспертного опрос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разработка РГ подробного сценария проведения сбора и анализа экспертных мнений (оценок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 подбор экспертов в соответствии с их компетентность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) формирование экспертной комиссии (целесообразно заключение договоров с экспертами об условиях их работы и ее оплаты, утверждение ЛПР состава экспертной комисси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проведение сбора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анализ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интерпретация полученных результатов и подготовка заключения для ЛП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) официальное окончание деятельности РГ   (в том числе подготовка и утверждение научного и финансового отчетов о проведении экспертного исследования, оплата труда экспертов и сотрудников 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истемный подход при принятии решен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 метод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рассматривать проблему в целом, а не "выдергивать" для обсуждения какую-нибудь одну черту, хотя и важну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"Системный анализ - это дисциплина, занимающаяся проблемами принятия решений в условиях, когда выбор альтернативы требует анализа сложной информации различной физической природы."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.Н.Моисе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Arial"/>
              </a:rPr>
              <a:t>Системный подход - методология исследования объектов как систем </a:t>
            </a: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н дает возможность при принятии любого решения определить все взаимосвязи и с учетом их установить влияние этого решения на поведение как всей системы, так и отдельных ее ча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Система состоит из двух ча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 внешнее окружение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щее вход и выход, связь с внешней средой, обратную связ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 внутренняя структура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компонентов, обеспечивающих процесс воздействия субъекта управления на объект, переработку входа в выход и достижение целей системы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44:42Z</dcterms:modified>
  <cp:revision>52</cp:revision>
  <dc:subject/>
  <dc:title>Слайд 1</dc:title>
</cp:coreProperties>
</file>