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953-6DC9-4356-870C-6FAA4810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40F-46B0-48E9-B23C-A13A694E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A35-42BA-40BD-BEBB-D450E542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718-C745-4DC9-81BD-52F3EA73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4BB-3E06-4608-9B60-48D0E371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094-D17F-4CDD-9FFF-421F9A48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EC4-9854-47BC-9DB6-58B511E8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770-FC84-48DD-9159-70092AD4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E06-ACEB-426E-86C7-379D8C76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43D-A4A8-4531-AD3C-A6714CE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AD4-F392-4BEB-B076-5A7E76CF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335-AFFB-4A0A-B653-BA4B737E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90ED-1EA9-418E-9257-A7B44C8B9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141720"/>
            <a:ext cx="777744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ДЕЛЬ СЛУЖБЫ МЕДИА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55640" y="4941720"/>
            <a:ext cx="83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8.12.2015, заведующая кафедрой общей педагогик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сихологии ГО АУ ЯО ИРО Назарова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generousmatters.com/wp-content/uploads/2013/04/group_opposite_directions_11350.png"/>
          <p:cNvPicPr/>
          <p:nvPr/>
        </p:nvPicPr>
        <p:blipFill>
          <a:blip r:embed="rId1"/>
          <a:stretch/>
        </p:blipFill>
        <p:spPr>
          <a:xfrm>
            <a:off x="-181080" y="1159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мы моделиру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строим модели для того, чтобы лучше понимать систему, которую созд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c.zadocs.ru/stati/gbuk-samarskaya-oblastnaya-univercalenaya-nauchnaya-biblioteka/6.gif"/>
          <p:cNvPicPr/>
          <p:nvPr/>
        </p:nvPicPr>
        <p:blipFill>
          <a:blip r:embed="rId1"/>
          <a:stretch/>
        </p:blipFill>
        <p:spPr>
          <a:xfrm>
            <a:off x="2843280" y="3213000"/>
            <a:ext cx="3333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ирование позволяет достичь следующих ц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уализировать систему в том виде как она есть либо как мы ее себе представ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фицировать структуру или поведение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овать шаблон, по которому мы создаем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ировать принятые нами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и сложнее система, тем важнее модел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разрабатываем модель сложной системы потому, что мы не способны понять и охватить систему цел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ополагающие принципы модел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модели оказывает решающее влияние на то, как будет осмысливаться проблема и какие решения будут приним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модель должна быть построена на различных уровнях адекватности и соответствия реаль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е модели тесно связаны с действительностью. Все модели упрощают действ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ственная модель не является приемлемой. Каждая нетривиальная система лучше всего представляется небольшим множеством практически независимых мод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m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cifi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конкретная и понят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urabl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есть измеритель, т. е. оценивающий процент ее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evabl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достижимая — реалистич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van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— в зоне ответственности и влияния сотрудника/организации на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e bounde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ограничена во времен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мо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ование актуальности и реалистичност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птуально-целево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тель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уаль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ко – результатив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 развития   службы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ворческого моделирования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23760"/>
            <a:ext cx="167328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39640" y="1452600"/>
            <a:ext cx="82090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1:31:40Z</dcterms:created>
  <dc:creator>Marina</dc:creator>
  <dc:description/>
  <dc:language>en-US</dc:language>
  <cp:lastModifiedBy>Инна Назарова</cp:lastModifiedBy>
  <dcterms:modified xsi:type="dcterms:W3CDTF">2015-12-07T18:33:30Z</dcterms:modified>
  <cp:revision>13</cp:revision>
  <dc:subject/>
  <dc:title>Слайд 1</dc:title>
</cp:coreProperties>
</file>