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FC53-4DAC-4455-8296-FB4481F8B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9623-173E-418D-B8E5-5C754E3D1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A2AD-1427-4FC2-92D4-37A57C9D0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0B47-3791-416E-A921-4ABE2A266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04E8-8DD2-4556-965E-61AB55E8B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C233-B13F-4E83-A875-BD04B3469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F03A-E791-40D3-9AC6-B45E2DA3C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54C7-345A-4DA6-99EE-E29E2360E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8A7B-9408-4E5D-8CC4-6B37BC222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FD85-2DA3-4EAA-BFAA-CE8CEB55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570A-788E-415D-A878-E6D85625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EFF5-3F32-4161-8A28-80D445E6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5A9BB-7F12-457E-9F29-40FF10A315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&#1058;&#1088;&#1077;&#1073;&#1086;&#1074;&#1072;&#1085;&#1080;&#1103;%20&#1082;%20&#1086;&#1092;&#1086;&#1088;&#1084;&#1083;&#1077;&#1085;&#1080;&#1102;%20&#1087;&#1088;&#1086;&#1077;&#1082;&#1090;&#1085;&#1099;x%20&#1088;&#1072;&#1073;&#1086;&#1090;/&#1055;&#1086;&#1083;&#1086;&#1078;&#1077;&#1085;&#1080;&#1077;%20&#1086;%20&#1055;&#1048;&#1044;.doc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&#1050;&#1083;&#1072;&#1089;&#1089;&#1080;&#1092;&#1080;&#1082;&#1072;&#1094;&#1080;&#1103;%20&#1087;&#1088;&#1086;&#1077;&#1082;&#1090;&#1086;&#1074;.doc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1051;&#1080;&#1089;&#1090;%20&#1087;&#1088;&#1086;&#1076;&#1074;&#1080;&#1078;&#1077;&#1085;&#1080;&#1103;.doc" TargetMode="External"/><Relationship Id="rId2" Type="http://schemas.openxmlformats.org/officeDocument/2006/relationships/hyperlink" Target="file:///&#1048;&#1085;&#1089;&#1090;&#1088;&#1091;&#1082;&#1094;&#1080;&#1103;%20&#1076;&#1083;&#1103;%20&#1091;&#1095;&#1072;&#1097;&#1080;&#1093;&#1089;&#1103;.doc" TargetMode="External"/><Relationship Id="rId3" Type="http://schemas.openxmlformats.org/officeDocument/2006/relationships/hyperlink" Target="file:///&#1055;&#1083;&#1072;&#1085;&#1080;&#1088;&#1086;&#1074;&#1072;&#1085;&#1080;&#1077;%20%20&#1055;&#1048;&#1044;%20c%20&#1059;&#1059;&#1044;_&#1088;&#1072;&#1079;&#1076;&#1072;&#1090;&#1082;&#1072;.doc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539640" y="404640"/>
            <a:ext cx="824544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ru-RU" sz="3600" spc="-1" strike="noStrike">
                <a:solidFill>
                  <a:srgbClr val="0033cc"/>
                </a:solidFill>
                <a:latin typeface="Arial"/>
              </a:rPr>
              <a:t>Требования к результатам проектной деятельности учащихся</a:t>
            </a:r>
            <a:br>
              <a:rPr sz="4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р: Немцева Т.В.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. преподаватель ГОАУ ЯО И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OurNewSchool"/>
          <p:cNvPicPr/>
          <p:nvPr/>
        </p:nvPicPr>
        <p:blipFill>
          <a:blip r:embed="rId1"/>
          <a:stretch/>
        </p:blipFill>
        <p:spPr>
          <a:xfrm>
            <a:off x="0" y="0"/>
            <a:ext cx="399564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Требования к содержанию и оформлению  и оценке проек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оложение о ПИ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е требования к оформлению информационной проектной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е требования к оформлению исследовательской проектной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итерии оценки презентации информационного и исследовательского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ебования к оформлению списка литера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Типы образовательных программ внеурочной деятельност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cc"/>
                </a:solidFill>
                <a:latin typeface="Arial"/>
              </a:rPr>
              <a:t>Комплексные образовательные программы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полагают последовательный переход от воспитательных результатов 1 уровня к 3-тьему в различных видах внеурочной деяте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cc"/>
                </a:solidFill>
                <a:latin typeface="Arial"/>
              </a:rPr>
              <a:t>Тематические образовательные програм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правлены на получение воспитательных результат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пределенном проблемном поле (например, программа экологического воспита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cc"/>
                </a:solidFill>
                <a:latin typeface="Arial"/>
              </a:rPr>
              <a:t>Образовательные программы, ориентированные на достижение результатов определенного уровня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еют возрастную привязку (например, формирование социальных общественных умений по класса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cc"/>
                </a:solidFill>
                <a:latin typeface="Arial"/>
              </a:rPr>
              <a:t>Образовательные программы по конкретным видам внеурочной деятельности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например, проектная, познавательная деятельност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cc"/>
                </a:solidFill>
                <a:latin typeface="Arial"/>
              </a:rPr>
              <a:t>Возрастные образовательные программы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бразовательная программа внеурочной деятельности младших школьников, подростков, старшеклассник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Виды проек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роекты классифицируют последующим признакам</a:t>
            </a: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вень твор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арактер контактов участников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енный состав исполн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растной состав исполн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олжительность выпол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за выполн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Типология проек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cc"/>
                </a:solidFill>
                <a:latin typeface="Arial"/>
              </a:rPr>
              <a:t>Учебные проек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самостоятельная учебная деятельность по освоению и применению на практике новой информации в рамках одной или нескольких дисципл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cc"/>
                </a:solidFill>
                <a:latin typeface="Arial"/>
              </a:rPr>
              <a:t>Социальные проекты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сят комплексный характер, связан с разными сферами деятельности, выходящими за рамки учебных дисципл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Общие требования к проекту и проектной деятель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04960"/>
            <a:ext cx="843588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cc"/>
                </a:solidFill>
                <a:latin typeface="Arial"/>
              </a:rPr>
              <a:t>основной результат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 получение «отчужденного продукта»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cc"/>
                </a:solidFill>
                <a:latin typeface="Arial"/>
              </a:rPr>
              <a:t>структура, последовательность выполнения отдельных действий, содержание этапов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пределяются решаемой в проекте задачей, замыслом проекта, ожидаемым результатом его выполн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cc"/>
                </a:solidFill>
                <a:latin typeface="Arial"/>
              </a:rPr>
              <a:t>проблема реализации проектной деятельност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приводящей к  достижению большинством личностных и метапредметных уме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cc"/>
                </a:solidFill>
                <a:latin typeface="Arial"/>
              </a:rPr>
              <a:t>Основа проектной деятельност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оектный метод (способ достижения конкретной цели через детальную разработку проблемы))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азирующийся на самостоятельности, деятельности, результатив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99"/>
                </a:solidFill>
                <a:latin typeface="Arial"/>
              </a:rPr>
              <a:t>Планирование проектной деятельности школьников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бор тем проектов и их конкретизац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ение целей и формулирование задач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иск источников информации и определение списка литератур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аботка рекомендаций по выполнению проекта (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ланирование этапов реализаци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екта ,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требования к оформлени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сроки, график выполнения, консультаци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Планирование метапредметных результатов проект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Требования к результатам  проектной деятель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Планировать и выполнять учебный проек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спользуя оборудование, модели, методы и приемы, адекватные исследуемой пробле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Выбирать и использовать метод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соответствующие рассматриваемой пробле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Использовать естественно-научные методы и прие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ак наблюдение, постановка проблемы, выдвижение гипотезы, эксперимент, моделирование, теоретическое обосн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Распознавать и ставить вопрос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ответы на которые могут быть получены путем научного исследования, формулировать на основе исследования вы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Ясно, логично, и точно излагать свою точку зр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спользовать языковые средства, адекватные проблем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Отличать факты о суждений, мнений, и оцено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ритически относиться к суждениям, мнениям, оценк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Видеть и комментировать связь научного знания и ценностных установо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моральных суждений при получении, распространении и применении научного зн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Результаты проектно-исследовательской деятельности (ФГО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cc"/>
                </a:solidFill>
                <a:latin typeface="Arial"/>
              </a:rPr>
              <a:t>Выпускник научи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анировать  исследование в соответствии с поставленными задач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исывать и выявлять отличительные признаки живого, обнаруживать причинно-следственные связ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нимать решения об использовании соответствующих методов (наблюдение, эксперимент, моделирование, выдвижение гипотезы) для проведения биологических исследов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атывать и защищать исследовательские  проекты, моделирующие реальные биологические процес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ть коммуникативные умения, навыки сотрудничества, работу в парах ил группах с распределением ролей, разделением ответственности за конечный результа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Результаты проектно-исследовательской деятельности (ФГО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cc"/>
                </a:solidFill>
                <a:latin typeface="Arial"/>
              </a:rPr>
              <a:t>Выпускник получит возможность научи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остоятельно задумывать, планировать и выполнять учебное исследование, учебный и социальный про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овать догадку, озарение , интуиц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овать естественно-научные методы и приемы, как наблюдение, постановка проблемы, выдвижение гипотезы, эксперимент, моделирование, теоретическое обосн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енаправлено и осознанно развивать свои коммуникативные способности, осваивать новые языковые 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ознавать свою ответственность за достоверность полученных знаний, за качество выполненного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12:23:48Z</dcterms:created>
  <dc:creator>Kondrashova</dc:creator>
  <dc:description/>
  <dc:language>en-US</dc:language>
  <cp:lastModifiedBy>Татьяна Васильевна Немцева</cp:lastModifiedBy>
  <dcterms:modified xsi:type="dcterms:W3CDTF">2015-04-02T12:19:06Z</dcterms:modified>
  <cp:revision>61</cp:revision>
  <dc:subject/>
  <dc:title>Слайд 1</dc:title>
</cp:coreProperties>
</file>