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83E7-30A9-45AB-86CA-DBF2BD31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4DBB-1A62-422D-A392-9725E33A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20C4B-1DD7-41D7-9754-8B5138C4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C9C43-9F4B-4A04-BB88-F8FCAE5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14BC-E3B8-4EF6-B090-F512C0C0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DA34-2F60-4A1C-A750-449AFB21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6C66-38C0-48AA-B5FC-601D9CA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793F-EF92-463B-B197-A68C5550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24F3-F6C4-4CB7-B39B-1E91F110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F8D8-1F70-4092-AD22-F9A0A028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B10E-F97C-4D35-A8CB-228C5DAD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2245-0E03-45AB-B9FC-2522FA0B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91B9-3C44-41C8-893A-53450C61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A58D9-CACF-42A3-AA94-F760A08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6B74-50C4-42C9-9CF3-33B74434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E1AE-DCB1-4570-BF18-FA01005B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1AE3-F768-49CE-B89E-D5460708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F3FA-E716-4384-A846-AB21836F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98B5B-AA9D-46B4-9F8B-09AECF38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1F26F-E301-4689-AE51-8E057E78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C6F1-96A4-46EA-841B-30E1B1FF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CC41-4758-449A-9398-60D93EDF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AB18-5464-4CE7-AB9B-A835453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91EA9-283A-432B-9B37-5EAEADCB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178A-0DDE-4390-A77B-65F664CB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B5352-6290-4935-ACE1-50CB4F02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3996-ACDB-4492-9D93-9376260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B984-43AF-48F4-8A79-5D47CF0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BC69-9A9A-4AF0-8519-317ECAD3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E8FEA-6944-441A-9E57-F05F6585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62CA9-489A-4A1A-B7A2-B1EB543F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10928-8077-457D-83B9-0A1626D6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4DAA-6636-479A-A812-ED19D0B6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9B83-CEDE-4C84-BF88-9EB78B32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5EC73-C381-41EE-BDD5-7D46FF87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DD11B-624B-4E18-B683-17C63AE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A4301-9424-40C7-A11A-2CAFFF2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D5A4E-C31B-4584-AFF4-0124F8C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E4CB-5F1F-471B-B1BD-9638D4D4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B37A6-69AC-443F-BDD2-3018C44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A2273-CCF5-4045-B7A5-579052F4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CF185-750B-4607-B04C-BF301A29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566D3-60B3-4589-AF0E-CB8615C8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5F423-3A5A-41F0-A23F-950C096F2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46450-ADB4-4B96-9289-890A745C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A62E1-FAC2-4B48-AE66-0F0835FF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75097-9997-4E98-AEE4-67F53260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1C65A-C81A-48DF-BEE7-FEACEDB5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5C62-7FEC-4EC5-91B7-B3EBC2D7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54B2D-1AEB-44C6-A09E-FF21F4C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69820-213C-4700-B273-ED23C408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F3195-2E1F-4507-B29F-9E3C719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BDCDD-AC19-4505-BF29-4ABB5D0F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098FE-813E-4B69-B94A-A023256D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77E22-9EEF-4ACE-9417-41482E63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2F3C-5724-48CB-B242-D00BF431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164F1-95E1-415D-BA2B-BEF0BCBD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51F9E-34BE-4080-9AA9-8C47D9E1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F554-4074-474F-A44B-21348D82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3E31-9473-4BEA-9F70-E2EAB68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27F4-B298-4D85-9250-FD01E35E06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A275-A086-420A-B167-EAE2DBC53BD5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BC92-BF3F-4051-BBAF-D2351F7134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7919-C8DF-4902-BC61-8C867A1D1AB5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14B3-76A5-41CE-9953-C199D04D99E9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68000" y="1700280"/>
            <a:ext cx="6875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стижение образовательных результатов в рамках подготовки обучающихся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124080" y="530064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цева Т.В., ст. преподав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ы ЕМД ГОАУ ЯО И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6" name=""/>
          <p:cNvGraphicFramePr/>
          <p:nvPr/>
        </p:nvGraphicFramePr>
        <p:xfrm>
          <a:off x="179280" y="620640"/>
          <a:ext cx="8785440" cy="4962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выявля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ительные признаки отдельных организм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способления у организмов к среде обитания, ароморфозы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иоадаптации у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иотические и биотические компоненты экосистем, взаимосвязи организм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экосистеме, антропогенные изменения в экосистема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чники мутагенов в окружающей среде (косвенн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равнивать (и делать выводы на основе сравнения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(клетки, ткани, органы и системы органов, организ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, животных, грибов и бактерий, экосистемы и агроэкосисте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 и явления (обмен веществ у растений, животных, человек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ий и энергетический обмен; фотосинтез и хемосинт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 и мейоз, бесполое и половое размножение, оплодотворение у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животных, внешнее и внутреннее оплодотворени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179280" y="5589720"/>
          <a:ext cx="8785440" cy="56016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естественного отбора, искусственный и естественный отбор, спос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ообразования, макро- и микроэволюцию, пути и направления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179280" y="476280"/>
          <a:ext cx="8785440" cy="525132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пределя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адлежность биологических объектов к определенной систематической группе (классификация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Анализиров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ные гипотезы сущности жизни, происхождения жизни, раз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мов и человека, человеческих рас, эволюцию организм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окружающей среды, влияние факторов риска на здоровье человек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ствия деятельности человека в экосистемах, глобаль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тропогенные изменения в биосфер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биологических экспериментов, наблюдений по их описан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ТЬ ПРИОБРЕТЕННЫЕ ЗНАНИЯ И УМЕНИЯ В ПРАКТИЧЕСКОЙ ДЕЯТЕЛЬНОСТИ И ПОВСЕДНЕВНОЙ ЖИЗН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для обоснования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 поведения в окружающей среде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 профилактики распространения заболеваний, вызываемых растениями, животными, бактериями, грибами и вирусами; травматизма, стрессов, ВИЧ- инфекции, вредных привычек (курение, алкоголизм, наркомания); нарушения осанки, зрения, слуха; инфекционных и простудных заболеваний; стрессов, вредных привычек (курение, алкоголизм, наркомания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79280" y="5734080"/>
          <a:ext cx="8785440" cy="115560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азания первой помощи при травмах, простудных и других заболеваниях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влении пищевыми продуктам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ов выращивания и размножения культурных растений и домаш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ых, ухода за ни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251ba5"/>
                </a:solidFill>
                <a:latin typeface="Arial"/>
              </a:rPr>
              <a:t>книками на ГИА в части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ьшие затруднения у удовлетворительно подготовленных выпускников вызвали задания А4, А5, А10, А13, А17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дания А4 и А5 проверяли знание морфологии растений и способов ухода и выращивания культурных растени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0 – строения нервной и эндокринной систем, а также знание нейрогуморальной регуляци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3 – строения органов кровообращения, а также знание механизмов движения крови по сосудам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17 – психологии и поведения человека.                                          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1ba5"/>
                </a:solidFill>
                <a:latin typeface="Arial"/>
              </a:rPr>
              <a:t>Столь низкие результаты выполнения заданий части 1 выпускниками объясняются не столько слабыми знаниями курса биологии за VI–VIII класс, сколько отсутствием налаженной системы повторения учащимися IX классов, готовящимися к сдаче экзамена, ключевых разделов школьной биологии за предыдущие годы обу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2 проверяли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общать и применять знания о строении и функционировании организма человека в практической деятельности и повседневной жизни и многообразии органического ми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оставлять особенности строения и функционирования организмов разных царств; устанавливать структурно-функциональные связи объектов, процессов, явлений; классифицировать биологические объекты и процесс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 биологические термины и понятия в понимании биологических тек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трудными для всех групп выпускников, как и в прошлом году, оказались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особенно </a:t>
            </a: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В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установление правильной последовательности элемент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ьшинстве вариантов эти задания предполагали теоретическую проверку выполнения обязательных практических и лабораторных работ, представленных в примерной программе по биологии, а также знание вопросов, касающихся эволюции животного и растительного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ые результаты (38,2% выполнения всеми группами выпускников) убеждают, что практические работы на уроках биологии в основной в школе нередко имеют формальный характер, а знания особенностей исторического развития организмов формируются только у учащихся с отличной подготов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1ba5"/>
                </a:solidFill>
                <a:latin typeface="Arial"/>
              </a:rPr>
              <a:t>задание  В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еряет умение читать и понимать прочитанн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 как включение пропущенных в текст терминов и поняти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полагает именно такой алгоритм действ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51ba5"/>
                </a:solidFill>
                <a:latin typeface="Arial"/>
              </a:rPr>
              <a:t>Задания части 3</a:t>
            </a: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заменационной работы проверяли умения применять биологические знания в практических ситуациях (все 26 вариантов были подготовлены по разделу «Человек и его здоровье»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анализировать текст биологического содержания и на его основе обосновывать научные факты, процессы и явления, строить умозаключения, проверять гипотезы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ения работать со статистическими данными, представленными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Анализ ошибок, допущенных выпу</a:t>
            </a:r>
            <a:r>
              <a:rPr b="1" lang="en-US" sz="3200" spc="-1" strike="noStrike">
                <a:solidFill>
                  <a:srgbClr val="251ba5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книками на ГИА  в части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иболее трудным остается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1</a:t>
            </a:r>
            <a:r>
              <a:rPr b="0" lang="ru-RU" sz="2200" spc="-1" strike="noStrike">
                <a:solidFill>
                  <a:srgbClr val="ad3c25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отором предусматривалась проверка умения применять биологические знания в повседневной жизни Только одна из групп выпускников (с отличной подготовкой) преодолела 50%-ное выполнение («2» – 11%, «3» – 24%, «4» – 39%, «5» – 62%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ительно лучше обстоят дела с выполнением </a:t>
            </a: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я С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ожно предположить, что это связано с тем, что задание С2 проверяет освоенное значительной частью учащихся умение работать с текстом, находить в нем нужную информацию, представленную как в явном, так и неявном вид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251ba5"/>
                </a:solidFill>
                <a:latin typeface="Arial"/>
              </a:rPr>
              <a:t>Задание С3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на работу со статистическими данными, представленными в табличной форме) с заданием справились уже две группы аттестуемых. Учащиеся с отличной подготовкой показали 73% выполнения, а учащиеся с хорошей подготовкой–58%. У остальных групп % выполнения ниже 40 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Рекомендации по подготовке к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рекомендуем начинать с методов познания человеком живой природы и собственного организма, а также с роли биологии в жизни современ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оение и жизнедеятельность организмов разных царств следует рассматривать комплексно, связывая повторение особенностей внешнего и внутреннего строения организмов с историческим развитием растительного и животного мира и вопросами экологии и охраны природы, которые широко рассмотрены в обобщенном виде изучаются в IX 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й материал за основную школу необходимо проверять на разных уровнях   сложности: базовом, повышенном и выс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ую роль дает введение разнообразных заданий по работе с текстом; оправдало себя введение значительного количества заданий с рисунками, графиками, таблиц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успешность освоения курса и подготовки к экзамену существенное влияние оказывает правильно подобранная учебная литература и тренировоч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ям биологии задолго до экзамена (возможно, в начале VI класса) следует продумать отбор содержания таким образом, чтобы максимально заложить в учебный процесс отработку требований к знаниям и умениям, сформулированных во ФГ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тическую подготовку к итоговой аттестации целесообразно начинать в первой четверти/триместре IX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1ba5"/>
                </a:solidFill>
                <a:latin typeface="Arial"/>
              </a:rPr>
              <a:t>Изменения КИМ основного государственного экзамена (ОГЭ) в 2015 году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держательных изменений не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структура варианта КИ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вариант состоит из двух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в варианте представлены в режиме сквозной нумерации без буквенных обозначений А, В, 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менена форма записи ответа на каждое из заданий 1–2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 КИМ 2015 г. требуется записывать цифру, соответствующую номеру правильного ответ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4963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1ba5"/>
                </a:solidFill>
                <a:latin typeface="Arial"/>
              </a:rPr>
              <a:t>ОСОБЕННОСТИ ОЦЕНКИ ПРЕДМЕТ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1936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м объектом содержательной и критериальной базой итоговой оценки выпускников выступают планируемые результаты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«Выпускник научится»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Выпускник имеет возможность научитьс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С элементами содержания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и умениями, проверяемыми на итоговой аттестации (ГИА) можно ознакомиться в </a:t>
            </a:r>
            <a:r>
              <a:rPr b="0" lang="ru-RU" sz="2400" spc="-1" strike="noStrike">
                <a:solidFill>
                  <a:srgbClr val="251ba5"/>
                </a:solidFill>
                <a:latin typeface="Arial"/>
              </a:rPr>
              <a:t>кодифика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1ba5"/>
                </a:solidFill>
                <a:latin typeface="Arial"/>
              </a:rPr>
              <a:t>Уровни сложности экзаменационной работы Г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1 (А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22 задания с выбором одного верного ответа из четырех предложенных, все задания базов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2 (В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6 заданий повышенного уровня сложност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м ответо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 выбором трех верных ответов из ше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соответств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определение последовательности биологических процессов, явлений, объект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включение пропущенных в тексте терминов и понят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соотнесение морфологических признаков организма или его отдельных органов с предложенными моделями по заданному алгорит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Часть 3 (С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держит 4 задания с развернутым ответом, и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 работу с текстом, требующую извлекать необходимую информацию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ной, отвечая на поставленные вопрос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работу со статистическими данными, представленными в табличной форм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51ba5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 применение биологических знаний на практи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е задание повышенного, а остальные высокого уровня слож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-171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51ba5"/>
                </a:solidFill>
                <a:latin typeface="Arial"/>
              </a:rPr>
              <a:t>Содержательные блоки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836640"/>
            <a:ext cx="864216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ервый блок «Биология как наук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ключает в себя задания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ирующ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о роли биологии в формировании современной естественнонаучной картины мира, в практической деятельности людей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тоды изучения живых объектов (наблюдение, описание, измерение, эксперимен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Второй блок «Признаки живых организмов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тавлен заданиями, проверяющими материа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троении, функциях и многообразии клеток, тканей, органов и систем орган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ах живых организмов, наследственности и изменчив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ах размножения, приемах выращивания растений и разведения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Третий блок «Система, многообразие и эволюция живой приро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контролиру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важнейших отличительных признаках основных царств живой природы: Животные, Растения, Гриб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актерии, Виру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лассификации растений и животных: отдел (тип), класс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усложнении растений и животных в процессе эволю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биоразнообразии как основе устойчивости биосферы и результате эволю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Четвертый блок «Человек и его здоровье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выявл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оисхождении человека и его биосоциальной природе, высшей нервной деятельности и об особенностях поведения челове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оении и жизнедеятельности органов и систем органов (нервной, эндокринной, кровеносной, лимфатической, дыхания, выделения, пищеварения, половой, опоры и движения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ей среде, об иммунитете, органах чувств, о нейрогуморальной регуляции процессов жизне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нитарно-гигиенических нормах и правилах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51ba5"/>
                </a:solidFill>
                <a:latin typeface="Arial"/>
              </a:rPr>
              <a:t>Пятый блок «Взаимосвязи организмов и окружающей среды»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ит задания, проверяющие зн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системной организации живой природы, об экологических факторах, о взаимодействии разных видов в природ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ых и искусственных экосистемах и входящих в них компонентах, пищевых связ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 экологических проблемах, их влиянии на собственную жизнь и жизнь других люд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 правилах поведения в окружающей среде и способах сохранения равновесия в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79280" y="1268280"/>
          <a:ext cx="8713800" cy="5681880"/>
        </p:xfrm>
        <a:graphic>
          <a:graphicData uri="http://schemas.openxmlformats.org/drawingml/2006/table">
            <a:tbl>
              <a:tblPr/>
              <a:tblGrid>
                <a:gridCol w="4788000"/>
                <a:gridCol w="1387440"/>
                <a:gridCol w="2538360"/>
              </a:tblGrid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бъяснять роль биологии в формировании современной естественнонаучной картины ми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Распознавать: основные части клетки; грибы; органы цветковых растений, раст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х отделов; органы и системы органов животных, а также животных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писывать биологические объе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Объяснять взаимосвязи организмов и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Сравнивать биологические объекты: клетки, ткани, органы и системы органов и организмы разных таксон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Знать особенности организма человека, 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Распознавать на рисунках (фотографиях) органы и системы органов челове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Использовать 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 деятельности и д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людения мер профил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Распределение заданий по проверяемым</a:t>
            </a:r>
            <a:br>
              <a:rPr sz="2400"/>
            </a:br>
            <a:r>
              <a:rPr b="1" lang="ru-RU" sz="2400" spc="-1" strike="noStrike">
                <a:solidFill>
                  <a:srgbClr val="251ba5"/>
                </a:solidFill>
                <a:latin typeface="Arial"/>
              </a:rPr>
              <a:t>умениям и вида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68360" y="1628640"/>
          <a:ext cx="8229600" cy="4535640"/>
        </p:xfrm>
        <a:graphic>
          <a:graphicData uri="http://schemas.openxmlformats.org/drawingml/2006/table">
            <a:tbl>
              <a:tblPr/>
              <a:tblGrid>
                <a:gridCol w="4521240"/>
                <a:gridCol w="1311120"/>
                <a:gridCol w="2397240"/>
              </a:tblGrid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веряемые умения и виды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Коли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зад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роцент максим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первичного бал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Использовать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обретенные знания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я в практической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ности для оказания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Описывать и объяснять результаты эксперимента и данные табл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 Анализировать и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енивать воздейств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кторов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Проводить самостоятельный поис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0" y="44280"/>
          <a:ext cx="9144000" cy="5023080"/>
        </p:xfrm>
        <a:graphic>
          <a:graphicData uri="http://schemas.openxmlformats.org/drawingml/2006/table">
            <a:tbl>
              <a:tblPr/>
              <a:tblGrid>
                <a:gridCol w="1512720"/>
                <a:gridCol w="7631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                                    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новные положения биологических законов, теорий, закономерностей, правил, гипотез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биологических теорий (клеточная; хромосомна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тетическая теория эволюции, антропогенез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ые положения учений (о путях и направлениях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.И. Вавилова о центрах многообразия и происхождения культур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ений; В.И. Вернадского о биосфере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в (Г. Менделя; сцепленного наследования Т. Морга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мологических рядов в наследственной изменчивости; зародышев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ходства; биогенетического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закономерностей (изменчивости; сцепленного наследов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ования, сцепленного с полом; взаимодействия генов и 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тологических основ); правил (доминирования Г. Менделя; экологической пирамиды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ность гипотез (чистоты гамет, происхождения жизни, происхождения человека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0" y="4986360"/>
          <a:ext cx="9144000" cy="1876320"/>
        </p:xfrm>
        <a:graphic>
          <a:graphicData uri="http://schemas.openxmlformats.org/drawingml/2006/table">
            <a:tbl>
              <a:tblPr/>
              <a:tblGrid>
                <a:gridCol w="1476360"/>
                <a:gridCol w="76676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троение и признаки биологических объектов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ок прокариот и эукариот: химический состав и строение органоид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ов, хромосом, гаме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русов, одноклеточных и многоклеточных организмов царств жи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роды (растений, животных, грибов и бактерий),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а, популяций; экосистем и агроэкосистем; биосфер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08000" y="549360"/>
          <a:ext cx="8928000" cy="101592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ТЬ И ПОНИМ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ущность биологических процессов и явлений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08000" y="1484280"/>
          <a:ext cx="8928000" cy="2165400"/>
        </p:xfrm>
        <a:graphic>
          <a:graphicData uri="http://schemas.openxmlformats.org/drawingml/2006/table">
            <a:tbl>
              <a:tblPr/>
              <a:tblGrid>
                <a:gridCol w="1457280"/>
                <a:gridCol w="74707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ен веществ и превращения энергии в клетке и организме, пластический иэнергетический обмен, питание, фотосинтез, хемосинтез, дыхание, брожение, выделение, транспорт веществ, раздражимость, рос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тоз, мейоз, развитие гамет у цветковых растений и позвоночных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лодотворение у цветковых растений и позвоночных животных; развитие и размножение, индивидуальное развитие организма (онтогенез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генов, получение гетерозиса, полиплоидов, отдал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бридов, действие искусственного отбо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08000" y="3645000"/>
          <a:ext cx="8928000" cy="1245960"/>
        </p:xfrm>
        <a:graphic>
          <a:graphicData uri="http://schemas.openxmlformats.org/drawingml/2006/table">
            <a:tbl>
              <a:tblPr/>
              <a:tblGrid>
                <a:gridCol w="1463760"/>
                <a:gridCol w="746424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ствие движущего и стабилизирующего отбора, географическое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логическое видообразование, влияние элементарных факторов эволю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генофонд популяции, формирование приспособленности к среде обита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уговорот веществ и превращения энергии в экосистемах и биосфере, эволюция биосфер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108000" y="4869000"/>
          <a:ext cx="8928000" cy="1288800"/>
        </p:xfrm>
        <a:graphic>
          <a:graphicData uri="http://schemas.openxmlformats.org/drawingml/2006/table">
            <a:tbl>
              <a:tblPr/>
              <a:tblGrid>
                <a:gridCol w="1439640"/>
                <a:gridCol w="74883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временную биологическую терминологию и символику по цитологии,генетике, селекции, биотехнологии, онтогенезу, систематике, экологии,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собенности организма человека, его строения, жизнедеятельности, высшей нервной деятельности и пове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79280" y="549360"/>
          <a:ext cx="8785440" cy="60436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объясня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биологических теорий, законов, принципов, гипотез в формир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ременной естественнонаучной картины мир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ство живой и неживой природы, родство, общность происх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ых организмов, эволюцию растений и животных, использу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теории, законы и прав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тельное влияние алкоголя, никотина, наркотических веществ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ие зародыша человека; влияние мутагенов на организм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наследственных и ненаследственных изменений, наследствен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болеваний, генных и хромосомных мутаци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связи организмов, человека и окружающей среды; причины устойчивости, саморегуляции, саморазвития и смены экосистем; необходимость сохранения многообразия видов, защиты окружающей ср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ины эволюции видов, человека, биосферы, единства человеческих рас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о и роль человека в природе, родство человека с млекопитающими животными, роль различных организмов в жизни человек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исимость здоровья человека от состояния окружающей среды; прояв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ых заболеваний, иммунитета у человека; роль гормонов 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ов в организм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79280" y="549360"/>
          <a:ext cx="8785440" cy="467028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Код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13b11"/>
                          </a:solidFill>
                          <a:latin typeface="Arial"/>
                        </a:rPr>
                        <a:t>Требования к уровню подготовки выпускников, освоение которых проверяется на ОГ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устанавливать взаимосвяз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оения и функций молекул, органоидов клетки; органов и систем орган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стического и энергетического обмена; световых и темновых реак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синтез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ущих сил эволюции; путей и направлений эволюц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ешать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чи разной сложности по цитологии, генетике (составлять схемы скрещивания), экологии, эволюции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Составлять схемы</a:t>
                      </a:r>
                      <a:r>
                        <a:rPr b="0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а веществ и энергии в экосистемах (цепи питания, пищевые сети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51ba5"/>
                          </a:solidFill>
                          <a:latin typeface="Arial"/>
                        </a:rPr>
                        <a:t>распознавать и описыват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тки растений и животны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обей вида по морфологическому критер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ческие объекты по их изображению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179280" y="5229360"/>
          <a:ext cx="8785440" cy="591840"/>
        </p:xfrm>
        <a:graphic>
          <a:graphicData uri="http://schemas.openxmlformats.org/drawingml/2006/table">
            <a:tbl>
              <a:tblPr/>
              <a:tblGrid>
                <a:gridCol w="1440000"/>
                <a:gridCol w="734544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системы и агроэкосистем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5T11:51:42Z</dcterms:created>
  <dc:creator>nemceva</dc:creator>
  <dc:description/>
  <dc:language>en-US</dc:language>
  <cp:lastModifiedBy>Татьяна Васильевна Немцева</cp:lastModifiedBy>
  <dcterms:modified xsi:type="dcterms:W3CDTF">2015-04-28T10:32:06Z</dcterms:modified>
  <cp:revision>42</cp:revision>
  <dc:subject/>
  <dc:title>Структура системы оценки достижения планируемых результатов ООП ООО по биологии</dc:title>
</cp:coreProperties>
</file>