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F90F-BED0-415B-8874-E4244DE3F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5060-1443-4994-A97C-90AF1DD9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5442-4560-4F4E-A4B0-ECA86EF2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3042-57DF-478A-95CD-EA62C807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E92D-4592-41D5-9F92-D8296F91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5BDD-621C-4816-AA8B-55D94EE0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89F3-8701-4DF4-AC2F-70B82A88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9699-FE98-44C7-A36B-973D193E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7BF0-E8A8-48F7-B78E-363F8CB5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5BDB-CA3F-4564-B268-C2024926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F536-AA94-40D7-B26C-64E5585B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82F2-2910-4124-A87E-0FF78E45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130C-823D-4461-9D30-2EB5A707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6C9B-5739-4B83-8477-6C732F33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D474-88DB-4AC0-9015-0A0A7E6C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659B-9B0F-4D3A-AC66-8D5AA1BF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B03D-8ADC-4933-BB40-1B7FD575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176E-AFA6-45B8-A268-4C132BC6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56F9-5644-443E-9626-F8AE1103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087E-4246-403E-90C1-85802015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7CC-5D6C-477C-9BEB-5E7C8965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46FA-26B4-40EA-AFE0-14C0557D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7402-5A0E-4BF3-81C9-84E6CE76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284F-543E-4031-B7B7-4498A06F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9FE5-37F3-411E-8C6D-A08696BDBB6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B1C3-5A6F-4818-9EA7-E011FDF4526B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ичные ошибки при выполнении заданий ЕГЭ по би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6836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Автор: Немцева Т.В.,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ст.преподаватель кафедры ЕМД ГОУ ЯО ИРО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часть 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790640"/>
            <a:ext cx="844704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2. Белки, в отличие от нуклеиновых кислот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участвуют в образовании плазматической мембраны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входят в состав хромосо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ыполняют гуморальную регуляц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осуществляют транспортную функц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5) выполняют защитную функц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6) переносят наследственную информацию из ядра к рибосом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,3,5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Два отличия белков от нуклеиновых кислот определяют 40%, а три отличия – только 20% участников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Типичной ошибкой, которую допускают выпускники, являет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отнесение транспортной функции только к белкам, тогда как т - РНК также выполняют эту функцию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часть 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3. Установите соответствие между характеристикой энергетического обмена и его этапом</a:t>
            </a: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ХАРАКТЕРИСТИКА                                                                             ЭТАП ЭНЕРГЕТИЧЕСКОГО ОБМЕНА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А) происходит в анаэробных условиях                                               1) гликолиз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Б) происходит в митохондриях                                                            2) кислородное окисление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В) образуется молочная кислота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Г) образуется пировиноградная кислота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Д) синтезируется 36 молекул АТФ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Ответ: 1 2 1 1 2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На это задание правильно ответили и получили 2 балла только 13% экзаменуемых. Допустили одну ошибку и получили 1 балл 21%. Остальные получили 0 баллов. При подготовке к ЕГЭ на вопросы, связанные с обменом веществе в клетке, следует обращать особое внимание. Ошибки при выполнении таких заданий повторяются из года в год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4. Установите последовательность процессов, происходящих при фагоцитозе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1) поступление мономеров в цитоплазму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2) захват клеточной мембраной питательных веществ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3) гидролиз полимеров до мономеров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4) образование фагоцитозного пузырька внутри клетки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5) слияние фагоцитозного пузырька с лизосомой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Ответ: 2 4 5 3 1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При выполнении данного задания правильно определили последовательность и получили 2 балла только 30% экзаменуемых. Низкие результаты свидетельствуют о неумении представить в целом процесс фагоцитоза и определить последовательность его этапов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часть 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713800" cy="52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В6. Установите соответствие между особенностью процесса и фазой мейоза, для которой она характерна</a:t>
            </a: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. (18%)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6600"/>
                </a:solidFill>
                <a:latin typeface="Arial"/>
              </a:rPr>
              <a:t>ОСОБЕННОСТЬ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    </a:t>
            </a:r>
            <a:r>
              <a:rPr b="0" i="1" lang="ru-RU" sz="1400" spc="-1" strike="noStrike">
                <a:solidFill>
                  <a:srgbClr val="ff6600"/>
                </a:solidFill>
                <a:latin typeface="Arial"/>
              </a:rPr>
              <a:t>ФАЗА МЕЙОЗА</a:t>
            </a:r>
            <a:r>
              <a:rPr b="0" i="1" lang="ru-RU" sz="1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292929"/>
                </a:solidFill>
                <a:latin typeface="Arial"/>
              </a:rPr>
              <a:t>А)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расхождение сестринских хромосом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1)  анафаза I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к разным полюсам клетки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Б) образование четырёх гаплоидных   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2)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анафаза II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ядер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В) расхождение двухроматидных хромосом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3) телофаза II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увеличение вдвое числа хромосом в клетке при расхождении сестринских хроматид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Д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независимое расхождение хромосом из каждой гомологичной пары</a:t>
            </a:r>
            <a:r>
              <a:rPr b="0" i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В6. Установите соответствие между признаком и видом гаметогенеза, для которого этот признак характерен.</a:t>
            </a: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 (27%)</a:t>
            </a:r>
            <a:r>
              <a:rPr b="0" i="1" lang="ru-RU" sz="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ПРИЗНАК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                                                          </a:t>
            </a:r>
            <a:r>
              <a:rPr b="0" lang="ru-RU" sz="1400" spc="-1" strike="noStrike">
                <a:solidFill>
                  <a:srgbClr val="ff6600"/>
                </a:solidFill>
                <a:latin typeface="Arial"/>
              </a:rPr>
              <a:t>ВИД ГАМЕТОГЕНЕЗА</a:t>
            </a:r>
            <a:r>
              <a:rPr b="0" i="1" lang="ru-RU" sz="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А) образуются яйцеклетки                   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1)  овогенез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Б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созревают четыре гаметы                                                       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2)  сперматогенез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В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образуются направительные тельца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аметы содержат небольшое количество цитоплазмы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Д) </a:t>
            </a:r>
            <a:r>
              <a:rPr b="1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292929"/>
                </a:solidFill>
                <a:latin typeface="Arial"/>
              </a:rPr>
              <a:t>гаметы содержат большое количество питательных веществ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просы, наиболее часто вызывающие затруд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8092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 какой период жизненного цикла клетки синтезируется наибольшее количество АТФ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Сколько хромосом содержит ядро исходной клетки, если при мейозе образуется ядро с 12 хромосомами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ие связи обеспечивают образование третичной структуры белк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ая связь обеспечивает соединение кодона и - РНК с антикодоном т - РНК при биосинтезе белк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ую функцию в клетке выполняет белок ДНК-полимераза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Как преобразуется энергия на подготовительном этапе энергетического обмен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На образование АТФ при фотосинтезе используется энергия электронов молекулы (хлорофилла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Наибольшее количество энергии запасается в АТФ в процессе (биологического окисления)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Чем второе деление мейоза отличается от первого деления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 результате какого деления происходит уменьшение числа хромосом в 2 раза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Трудными оказались задания линии С1 или С2, связанные с анализом рисунка или текста, на которых были изображены различные органоиды клетки, фазы деления митоза и мейоза, в среднем справились 25–33% участников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Сложными оказались  вопросы, требующие объяснения причин изменения содержания тех или иных органоидов в клетках разных тканей. Для ответа на такие задания необходимо было установить причинно-следственные связи: вспомнить функции конкретных органоидов и объяснить причину их значительного содержания в клетках. Правильно ответили на такие задания только 8–20% участников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644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В 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линии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С5</a:t>
            </a:r>
            <a:r>
              <a:rPr b="1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едлагаются два типа задач по цитологии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1) на применение знаний о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генетическом коде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2) на определение числа хромосом и ДНК в разных фазах митоза и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мейоза, в половых и соматических клетках организма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Наибольшие затруднения вызывают задания второго типа, проверяющие знания о хромосомном наборе клеток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спорофита и гаметофита водорослей, мхов, папоротников, голосеменных и цветковых растений; об образовании у растений спор в процессе мейоза, а половых клеток – в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оцессе митоза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Трудными оказываются и задания на определение числа хромосом и ДНК в разных фазах деления при образовании половых клеток у животных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964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Примеры заданий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1. Какой хромосомный набор характерен для гамет и спор растения мха кукушкина льна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Объясните, из каких клеток и в результате какого деления они образуются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2. Для соматической клетки животного характерен диплоидный набор хромосом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Определите хромосомный набор (n) и число молекул ДНК (с) в клетке в конце телофазы мейоза I и анафазе мейоза II. Объясните результаты в каждом случа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3. Хромосомный набор соматических клеток пшеницы равен 28. Определите хромосомный набор и число молекул ДНК в ядре (клетке) семязачатка перед началом мейоза I и мейоза II. Объясните результаты в каждом случае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ледует обратить внимание на то, что для решения задач данного типа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еобходимо актуализировать знания о сущности митоза и мейоза, процессах,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протекающих в разных фазах, циклах развития растений разных отделов. К числу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недостатков в ответах экзаменуемых следует отнести отсутствие объяснений полученных в каждом случае результатов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4. Для соматической клетки животного характерен диплоидный набор хромосом. Определите хромосомный набор (n) и число молекул ДНК (с) в клетке в конце телофазы мейоза I и анафазе мейоза II. Объясните результаты в каждом случае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Схема решения задачи: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) в конце телофазы мейоза I набор хромосом – n; число ДНК – 2с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в анафазе мейоза II набор хромосом – 2n; число ДНК – 2с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 конце телофазы I произошло редукционное деление, число хромосом и ДНК уменьшилось в 2 раза;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в анафазе мейоза II к полюсам расходятся сестринские хроматиды (хромосомы), поэтому число хромосом и число ДНК равное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                                     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К числу типичных ошибок следует также отнести наличие в ответе вместо объяснения результатов, как это требуется в условии задачи, описания процессов, происходящих в эти фазы мейоза.       Такие ответы не учитываются, даже если в описании отсутствуют ошибк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Трудными оказались задачи на определение числа хромосом и ДНК в разных фазах митоза или мейоза, в половых и соматических клетках растений разных отделов, животных разных типов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5. У хламидомонады преобладающим поколением является гаметофит. Определите хромосомный набор споры и гамет хламидомонады. Объясните, из каких исходных клеток и в результате какого деления образуются эти клетки при половом размножении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1) хромосомный набор споры – n (гаплоидный)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2) споры образуются из диплоидной зиготы путём мейоза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3) хромосомный набор гамет – n (гаплоидный)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4) гаметы образуются из клетки взрослого организма (гаметофита) путём митоза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5. Какой хромосомный набор характерен для вегетативной, генеративной клеток и спермиев пыльцевого зерна цветкового растения? Объясните, из каких исходных клеток и в результате какого деления образуются эти клетки.</a:t>
            </a:r>
            <a:r>
              <a:rPr b="0" i="1" lang="en-US" sz="1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92929"/>
                </a:solidFill>
                <a:latin typeface="Arial"/>
              </a:rPr>
              <a:t>Элементы ответа: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) набор хромосом вегетативной и генеративной клеток – n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2) вегетативная и генеративная клетки пыльцы образуются путём митоза при прорастании гаплоидной споры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3) хромосомный набор спермиев – n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4) спермии образуются из генеративной клетки путём митоза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C5. Укажите число хромосом и количество молекул ДНК в профазе первого и второго мейотического деления клетки. Какое событие происходит с хромосомами в профазе первого деления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. В профазе первого деления количество хромосом и ДНК отвечает формуле 2n4c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. В профазе второго деления формула – n2с, так как клетка гаплоидна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. В профазе первого деления происходят конъюгация и кроссинговер гомологичных хромосом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В целом по данному блоку к числу слабо сформированных у выпускников знаний и умений можно отнести следующие: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1) знание циклов развития растений разных отделов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2) определение числа хромосом и ДНК в разных фазах деления клетки, объяснение и аргументация причины;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3) сравнение гаметофита и спорофита у разных групп растений, спор и половых клеток, спор и клеток спорофита.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Arial"/>
              </a:rPr>
              <a:t>Блок 1. Биология – наука о живой природ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 числу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наиболее сложных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следует отнести задания, в которых требовалось указать минимальный уровень организации живого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Назвали уровень, на котором происходит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: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- фотосинтез (клеточный), только 54% участников,                                   - матричный синтез белка (клеточный) – 37%;                                 - метод биологии, изучающий строение и функции белка (биохимический), – 45%;                                                               - метод исследования степени распространения наследственных заболеваний человека (популяционно-статистический) – 27%;                                                                    - уровень организации колонии тлей на листьях смородины (популяционно-видовой) – 46%;                                                 - метод генетики для определения генотипа родительских форм (гибридологический) – 39%,                                                             - метод создания сортов растений с кратным увеличением набора хромосом в клетках (полиплоидизация) – 38%, гибридизация – 55%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икл развития спорового рас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игот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ародыш (2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Молодое растение (2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Взрослое растение со спорангиями (спорофит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МЕЙОЗ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Споры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(высыпаются наружу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аросток(гаметофит)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Архегоний                                               Антеридий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Яйцеклетка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                Сперматозоиды (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Оплодотворение яйцеклетки в архегонии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          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Зигота (2</a:t>
            </a:r>
            <a:r>
              <a:rPr b="1" lang="en-US" sz="1600" spc="-1" strike="noStrike">
                <a:solidFill>
                  <a:srgbClr val="292929"/>
                </a:solidFill>
                <a:latin typeface="Arial"/>
              </a:rPr>
              <a:t>n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                            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1844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844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349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924280"/>
            <a:ext cx="0" cy="288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3860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581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5300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20000" y="530064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48000" y="5805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948360" y="5805360"/>
            <a:ext cx="0" cy="28908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6237360"/>
            <a:ext cx="0" cy="288720"/>
          </a:xfrm>
          <a:prstGeom prst="line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лок 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низм как биологическая система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 ошибок, допущенных выпук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0920" y="1790640"/>
            <a:ext cx="866448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Трудности вызвали лишь отдельные задания: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         - способ питания молочнокислых бактерий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- где требуется определить, что образуется в результате оплодотворения у растений (вместо зиготы выбирается зародышевый мешок);                        - слабо сформированы такие понятия, как генотип, геном, фенотип, альтернативные гены, аутосомы, геномные и генные мутации. 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Традиционно плохо участники отвечают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на вопросы, связанные с методами изучения генетики человека, о сцепленном наследовании генов.                                                 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Вызвали затруднения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и отдельные задания по эмбриогенезу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лок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м как биологическая система (часть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48960" y="1981080"/>
            <a:ext cx="7661160" cy="4114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893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1. Согласно закону Т. Моргана гены наследуются преимущественно вместе, если они расположены 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аутосома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разных гомологичных хромосома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одной хромосоме (53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половых хромосома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2. Генетическая информация зиготы реализуется в процесс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филогенеза 2) гаметогенеза 3) эволюции 4) онтогенеза (50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3. Если при моногибридном скрещивании четверть особей несет рецессивный признак, а три четверти – доминантный, значит, проявляет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правило единообрази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закон расщепления (48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промежуточное наследовани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закон неполного доминировани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лок 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рганизм как биологическая система (часть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. В результате двойного оплодотворения у цветковых растений образуются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генеративные почки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емядоли (одна или две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зигота и триплоидная клетка (44%)                                                                                         4) плод и семя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5. Совокупность всех признаков и свойств организма, проявляющихся в индивидуальном развитии, называют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              1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генотипом                                 3) генофондом                                                                        2)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модификацией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                     4) фенотипом (40%)</a:t>
            </a:r>
            <a:r>
              <a:rPr b="0" i="1" lang="ru-RU" sz="3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6. Фенотипические различия между однояйцевыми близнецами обусловлены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заимодействием аллельных генов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разными генотипами организмов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сцеплением генов                                                                                                    4)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влиянием условий среды (49%)</a:t>
            </a:r>
            <a:r>
              <a:rPr b="0" i="1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3640" y="1905120"/>
            <a:ext cx="8521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На повышенном уровне в частях 1 и 2 наиболее сложными оказались задания по эмбриогенезу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Задания разного типа (выбор одного ответа из четырех, выбор нескольких верных ответов из шести, установление соответствия), проверяющие знание стадий развития зародыша, образования тканей животных из зародышевых листков, сравнение сперматогенеза и овогенеза, выполнены значительно хуже, чем все остальные задания этого блока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сть (А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79280" y="1905120"/>
            <a:ext cx="8785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На стадии бластулы зародыш животного имеет полость и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два слоя клеток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эпителиальную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соединительную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один слой клеток (35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2. Какие ткани и органы позвоночного животного образуются из клеток, обозначенных на рисунке цифрой 1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потовые железы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костн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ногтевые пластин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соединительн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5) кожный эпидермис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6) гладкая мышечн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35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940360" y="4221000"/>
            <a:ext cx="21938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666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В6. Установите соответствие между характеристикой метода изучения наследственности человека и его названием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 (33%)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ХАРАКТЕРИСТИКА 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                                            </a:t>
            </a: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МЕТОД</a:t>
            </a:r>
            <a:r>
              <a:rPr b="0" i="1" lang="ru-RU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А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исследуется родословная      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1) цитогенетический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семьи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Б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выявляется сцепленность     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2) генеалогический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признака с полом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В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изучается число хромосом                                                                            на стадии метафазы митоза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устанавливается доминантный признак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Д)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определяется наличие геномных мутаций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ХАРАКТЕРИСТИКА                                 ВИД ГАМЕТОГЕНЕЗ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А) образуется одна крупная                    1) овогенез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оловая клетк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Б) образуются направительные              2) сперматогенез клетк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) формируется много мелких                                                                                                гамет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Г) питательные вещества                                                                                                     запасаются в одной из четырех                                                                                      клеток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Д) образуются подвижные гаметы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Ответ: 11212</a:t>
            </a:r>
            <a:r>
              <a:rPr b="0" lang="en-US" sz="3200" spc="-1" strike="noStrike">
                <a:solidFill>
                  <a:srgbClr val="cccc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770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ые низкие результаты (1 балл – 27%; 2 балла – 15%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лучены на следующе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6662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4. 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Установите соответствие между органом, тканью позвоночного животного и зародышевым листком, из которого они образуют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ОРГАН, ТКАНЬ                             ЗАРОДЫШЕВЫЙ ЛИСТОК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А) кишечник                                  1) энтодерм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Б) кровь                                        2) мезодерм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) поч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Г) легки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Д) хрящевая ткан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Е) сердечная мышц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2212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ри подготовке к ЕГЭ следует особое внимание уделит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овторению характерных признаков разных стадий развития зародыша, установлению соответствия между тканями и органами животных и конкретными зародышевыми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листками, которые их формируют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зкие результаты получены и на задание, в котором требовалось установи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и геномных мут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215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6600"/>
                </a:solidFill>
                <a:latin typeface="Arial"/>
              </a:rPr>
              <a:t>5. Чем характеризуется геномная мутация?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1) изменением нуклеотидной последовательности ДНК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2) утратой одной хромосомы в диплоидном наборе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3) кратным увеличением числа хромосом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4) изменением структуры синтезируемых белков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5) удвоением участка хромосомы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92929"/>
                </a:solidFill>
                <a:latin typeface="Arial"/>
              </a:rPr>
              <a:t>6) изменением числа хромосом в кариотипе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8080"/>
                </a:solidFill>
                <a:latin typeface="Arial"/>
              </a:rPr>
              <a:t>Ответ: 236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Из года в год сложными оказываются задания, требующие установить различия между генотипом, геномом и кариотипом, неаллельными и аллельными генами на конкретных примерах; указать причины хромосомных и геномных мутаций, постоянств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хромосомного набора организмов при половом размножении, признаки модификационной и наследственной изменчивости, методы, применяемые в селекции и биотехнологи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6600"/>
                </a:solidFill>
                <a:latin typeface="Arial"/>
              </a:rPr>
              <a:t>Блок 1. Биология – наука о живой природе.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нализ ошибок, допущенных выпукниками (часть 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790640"/>
            <a:ext cx="85914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Экзаменуемые в целом освоили материал об уровнях организации живого и методах его изучения, роли различных биологических наук в познании природы, признаках и свойствах живых организмов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Однако отдельные задания вызвали затруднения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1. В основе разделения органоидов методом центрифугирования лежат их различия по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строению и составу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2) выполняемым функциям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3) размеру и массе (49%)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4) расположению в цитоплазме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6600"/>
                </a:solidFill>
                <a:latin typeface="Arial"/>
              </a:rPr>
              <a:t>2. Какие органоиды были обнаружены в клетке впервые с помощью электронного микроскопа?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1) ядра 2) хлоропласты 3) рибосомы (51%) 4) вакуоли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К числу </a:t>
            </a:r>
            <a:r>
              <a:rPr b="1" i="1" lang="ru-RU" sz="1800" spc="-1" strike="noStrike">
                <a:solidFill>
                  <a:srgbClr val="292929"/>
                </a:solidFill>
                <a:latin typeface="Arial"/>
              </a:rPr>
              <a:t>сложных следует отнести задания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, в которых требовалось определить область биологии, изучающую межвидовые отношения (экология), метод генетики человека, с помощью которого устанавливается характер наследования признаков (генеалогический); метод, используемый в генетике для определения геномных мутаций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69080" cy="47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В заданиях линии С6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предлагались генетические задачи:                                                                - на дигибридное скрещивание,                                                                                          - наследование признаков, сцепленных с полом,                                                - сцепленное наследование признаков.                                                                                         С этими заданиями в среднем справились 25% участников.                                                                         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Кроме составления схем скрещивания и определения генотипов родителей и потомства, по условию задачи необходимо было объяснить причины представленных в условии результатов. Экзаменуемые должны были обосновать полученный результат и объяснить, какой закон имел место в конкретном случае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Так, например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, необходимо было объяснить полученные результаты при полном сцеплении генов, появление четырех фенотипических групп в анализирующем скрещивании при сцепленном наследовании генов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Невысокий результат выполнения этого задания можно объяснить тем, что многие выпускники сосредоточились только на решении задачи и составлении схемы скрещивания, не обращая внимания на то, что в условии требовалось объяснить закон и полученный результат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Наибольшие трудности в этом году вызвали генетические задачи на анализ</a:t>
            </a:r>
            <a:br>
              <a:rPr sz="1800"/>
            </a:b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родословных и наследование групп крови и резус-фактора, а также задача, в которой один</a:t>
            </a:r>
            <a:br>
              <a:rPr sz="1800"/>
            </a:br>
            <a:r>
              <a:rPr b="1" lang="ru-RU" sz="1800" spc="-1" strike="noStrike">
                <a:solidFill>
                  <a:srgbClr val="292929"/>
                </a:solidFill>
                <a:latin typeface="Arial"/>
              </a:rPr>
              <a:t>признак был аутосомным, а другой сцеплен с Х-хромосомой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. Группа крови и резус-фактор – аутосомные несцепленные признаки. Группа крови контролируется тремя аллелями одного гена: i0, IA, IB. Аллели IA и IB доминантны по отношению к аллелю i0. Первую группу (0) определяют рецессивные аллели i0, вторую группу (А) определяет доминантный аллель IA, третью группу (В) определяет доминантный аллель IB, а четвертую (АВ) – два доминантных аллеля – IAIB. Положительный резус-фактор (R) доминирует над отрицательным (r). У отца третья группа крови и положительный резус (дигетерозигота), у матери вторая группа и положительный резус (дигомозигота). Определите генотипы родителей. Какую группу крови и резус-фактор могут иметь дети в этой семье, каковы их возможные генотипы и соотношение фенотипов? Составьте схему решения задачи. Какой закон наследственности проявляется в данном случае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71280" y="-243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28948" t="42826" r="12111" b="19532"/>
          <a:stretch/>
        </p:blipFill>
        <p:spPr>
          <a:xfrm>
            <a:off x="395280" y="1916280"/>
            <a:ext cx="83534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3. Организм как биологическая система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8893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и решении генетических задач следует внимательно читать условие задачи, анализировать его и правильно определять признаки, генотипы родителей (см. задачу 1)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и наличии в условии буквенных обозначений признаков нужно использовать указанные в задаче  символы, а не упрощать их или приводить свои, так как это может привести к неверному решению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Если в условии задачи указано, что признак сцеплен с Х-хромосомой, то его нужно обозначать Хh, а не просто h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налогично нужно использовать символы,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обозначающие группы крови (см. задачу 2)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Небрежность при решении задачи может привести к потере балло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7158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а 4 «Система и многообразие органического мира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42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 работу включены вопросы общебиологического характера о систематике организмов, особенностях строения и жизнедеятельности бактерий, грибов, растений и животных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ри их выполнении учащиеся должны были продемонстрировать умения определять организмы и особенности их строения по рисункам или описанию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Слабо усвоенным оказался материал о признаках, лежащих в основе классификации цветковых растений, отличительных признаках основных групп растений и животных, особенностях жизнедеятельности организмов разных царств. В частности, вызвали затруднения вопросы об органах дыхания у насекомых, моллюсков разных классов, определение по рисунку зон корня, хотя этот материал относится к базовым знаниям и представлен во всех учебниках.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о разделу «Растения» экзаменуемые часто затрудняются ответить на вопросы о строении корня, росте дерева в толщину за счет деления клеток камбия, о причинах     передвижения воды в растениях, об особенностях образования плодов и семян у покрытосеменных растений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1. Из завязи пестика после оплодотворения образуется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семя 2) зигота 3) плод (49%) 4) зародыш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2. Найдите верное описание корневого волоска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часть корня, защищенная корневым чехликом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молодой кончик корня, состоящий из одинаковых клеток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молодая сильно вытянутая клетка с тонкой оболочкой (32%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часть корня, в которой находятся сосуды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Слабо усвоены знания о грибах и бактериях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Так, на вопрос об отличии грибов от бактерий вместо ответа «наличие ядра» экзаменуемые выбрали ответ «являются гетеротрофами», не учитывая, что многие бактерии также гетеротрофные организмы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Выпускники часто не знают организмов, способных к хемосинтезу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3. Для каких организмов характерен хемосинтез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цианобактери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бактериофаг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эукариот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серобактерий (48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4. Микориза – это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паразит, живущий за счет других организм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симбиоз мицелия с корнями растений (51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болезнь растения, вызванная грибам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гифы гриба, на которых развивается плодовое тело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о разделу «Животные» основные трудности вызвал материал о беспозвоночных животных. Экзаменуемые затруднились ответить на вопросы о функции ресничек у инфузории, стрекательных клеток у гидры, о развитой нервной системы у свободноживущих организмов по сравнению с паразитическими формам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5. Какую функцию выполняет клетка, обозначенная вопросительным знаком на схеме строения тела гидры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вызывает паралич или гибель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рикоснувшихся мелки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животных (47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при делении образует клетки                                                                                            других вид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оспринимает действия химических                                                         раздражителе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принимает возбуждение и передает                                                                         его другим клетка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64000" y="3573360"/>
            <a:ext cx="29530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6. Что происходит в пищеварительных вакуолях простейших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неорганические вещества растворяются и выводятся наружу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органические вещества превращаются в воду и углекислый газ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синтезируются органические веществ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сложные органические вещества расщепляются до мономеров (39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Слабые знания о функциях органоидов клетки приводят к низки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результатам. 25% учащихся выбрали ответ 1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7. У свободноживущего плоского червя белой планарии, в отличие от печеночного сосальщика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тело имеет двустороннюю симметрию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жизненный цикл происходит со сменой хозяе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имеется выделительная систем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нервная система и органы чувств лучше развиты (43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органического мира»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845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8. Обыкновенный дельфин, погружаясь в морские глубины, расходует кислород, который содержится в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легких (54%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полостях тел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воздушных мешках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жабрах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9. У млекопитающих, по сравнению с пресмыкающимися, в процессе эволюции в дыхательной системе появилис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легочные пузырьки в легких (42%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трахеи и бронх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правое и левое легкие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ноздри и носовые полост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690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Наибольшие трудности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у участников вызвали вопросы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о различии состава ДНК и РНК, о кроссинговере и конъюгации, процессах, протекающих в митозе и мейозе, свойствах генетического код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по метаболизму в клетках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различным типам деления клетки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- соответствия триплета на ДНК и антикодона на т-РНК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Выпускники не знают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, что триплет на ДНК соответствует кодону на и-РНК, который, в свою очередь, соответствует антикодону на т-РНК. Следовательно, чтобы правильно найти соответствие триплета на ДНК и антикодона на т-РНК, следует дважды по принципу комплементарности найти соответствующие нуклеотиды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а 4 «Система и многообразие органического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6421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10. Промежуточными хозяевами паразитических червей называют те организмы, в которых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взрослые особи живут, но не размножаются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живут и развиваются личинки паразита (46%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паразиты откладывают яйца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живут и размножаются взрослые особи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11. Все многоклеточные животные имеют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кровеносную систему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дифференцированные клетки (44%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двуслойное тело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двустороннюю симметрию тела</a:t>
            </a:r>
            <a:r>
              <a:rPr b="0" i="1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12. Какой буквой на рисунке обозначена зона корня,                                          состоящая из образовательной ткани?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А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Б (24%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В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Г</a:t>
            </a:r>
            <a:r>
              <a:rPr b="0" i="1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843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3599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Наибольшие затруднения у экзаменуемых вызвали задания на сопоставление биологических объектов (В4).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Сопоставить: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- строение и размножение мхов и папоротников,                              - особенностей органов дыхания у представителей моллюсков,                                                                                  - развитие насекомых с полным и неполным превращением на конкретных примерах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Определить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принадлежность представителей позвоночных к определенным классам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Соотносить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признаки птиц и пресмыкающихся у археоптерикса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80" y="1980720"/>
            <a:ext cx="864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</a:rPr>
              <a:t>В4. Установите соответствие между особенностью размножения и отделом растений, для которого она характерна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. (25%)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ОСОБЕННОСТЬ РАЗМНОЖЕНИЯ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                      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ОТДЕЛ РАСТЕНИЙ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А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В цикле развития преобладает гаметофит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1)  Моховидные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Б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В цикле развития доминирует бесполое              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2)  Папоротниковидные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поколение растений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В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Образование спор происходит в коробочке (спорогоне)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Г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Спорофит не способен к образованию органических веществ из неорганических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Д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Гаметофит представлен заростком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Е) </a:t>
            </a:r>
            <a:r>
              <a:rPr b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292929"/>
                </a:solidFill>
                <a:latin typeface="Arial"/>
              </a:rPr>
              <a:t>Спора прорастает в предросток</a:t>
            </a:r>
            <a:r>
              <a:rPr b="0" i="1" lang="ru-RU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98080" y="1341360"/>
            <a:ext cx="88455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1. Установите соответствие между признаком животного и классом, для которого он характерен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ПРИЗНАК ЖИВОТНОГО                                       КЛАСС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А) наличие головогруди и брюшка                       1) Паукообразные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Б) одна пара усиков                                               2) Насекомы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) четыре пары ходильных ног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Г) глаза простые или отсутствуют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Д) дыхание только трахейно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Ответ: 1211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Выпускники не смогли найти отличительные признаки насекомых и паукообразных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71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Самые низкие показатели выполнения заданий данного блока связаны с практико-ориентированными заданиями (С1).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                               Участники ЕГЭ затруднились объяснить, как происходит заражение таежным энцефалитом, причины отсутствия семян в метелках кукурузы, роль грибницы в жизни грибов, суть опыта по выделению кислорода растениями при фотосинтезе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С1. Растение кукуруза имеет два типа соцветий: початок и метёлку. Почему плоды образуются только в початке?</a:t>
            </a:r>
            <a:r>
              <a:rPr b="0" i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(20%)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1) початок состоит из женских цветков, в которых образуются плоды – зерновки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2) метёлка состоит из мужских цветков, которые образуют пыльцу, участвующую в оплодотворении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С1. Почему люди, работающие в тайге в весенне-летнее время, нередко заболевают тяжёлой болезнью – таёжным энцефалитом? Объясните, как происходит заражение.</a:t>
            </a:r>
            <a:r>
              <a:rPr b="0" i="1" lang="en-US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(29%)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) в это время в тайге активизируются таёжные клещи, которые, питаясь кровью зверей и птиц, становятся переносчиками возбудителей энцефалита;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2) клещи, попавшие на кожу человека, присасываются к ней и со слюной вносят в неё возбудителей энцефалита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органического мира»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Примеры заданий </a:t>
            </a:r>
            <a:r>
              <a:rPr b="1" lang="ru-RU" sz="2000" spc="-1" strike="noStrike">
                <a:solidFill>
                  <a:srgbClr val="ff6600"/>
                </a:solidFill>
                <a:latin typeface="Arial"/>
              </a:rPr>
              <a:t>С1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, вызвавших затруднения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1. Ветроопыляемые деревья и кустарники чаще зацветают до распускания листьев, и в их тычинках, как правило, образуется гораздо больше пыльцы, чем у насекомоопыляемых. Объясните, с чем это связано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2. Почему малярия распространена в заболоченных районах? Кто является возбудителем этого заболевания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Многие ответы оказались правильными, но неполными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Так,  при ответе на задание 1 экзаменуемые указали, что большое количество пыльцы обеспечивает вероятность опыления и оплодотворения. Однако объяснения причины зацветания ветроопыляемых растений до распускания листьев дали только 12% участников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ри ответе на задание 2 экзаменуемые правильно указали, что переносчиком малярии являются малярийные комары, однако не указали, что личинки комара развиваются в воде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ок 4 «Система и многообразие                               органического мира» (часть 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Выпускники плохо справляются с заданиями линии </a:t>
            </a:r>
            <a:r>
              <a:rPr b="1" lang="en-US" sz="2000" spc="-1" strike="noStrike">
                <a:solidFill>
                  <a:srgbClr val="292929"/>
                </a:solidFill>
                <a:latin typeface="Arial"/>
              </a:rPr>
              <a:t>С3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– высокого уровн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сложност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С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 3. В чем состоит связь дыхания и фотосинтеза у растений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За это задание 1 балл получили 31%; 2 балла – 6%; 3 балла – только 1%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экзаменуемых.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 ответе требовалось раскрыть следующие позиции: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какие вещества выделяются и поглощаются;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как происходит преобразование солнечной энергии 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энергии АТФ;                                                                                                                             3) что происходит с органическими веществами в этих процессах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Чаще всего в ответе участники указывали только на поглощение углекислого газа и выделение кислорода при фотосинтезе, и на поглощение кислорода и выделение углекислого газа при дыхании. Остальные позиции в ответах не были раскрыты, что привело к таким низким результатам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-316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0000" y="1483920"/>
            <a:ext cx="87836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Примеры заданий разных уровней сложности, вызвавших наибольшие затруднения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2. Какой буквой обозначен на рисунке двигательный нейрон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А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Б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В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Г (48%)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. В организме человека облегчает расщепление жиров, усиливает перистальтику кишечник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поджелудочный сок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соляная кислот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инсулин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желчь (37%)                                                  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33075" t="22153" r="39769" b="59116"/>
          <a:stretch/>
        </p:blipFill>
        <p:spPr>
          <a:xfrm>
            <a:off x="4211640" y="2708280"/>
            <a:ext cx="36720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920" y="-17136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А17. В клетки тела человека питательные вещества поступают из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лимфы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клеток крови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тканевой жидкости (19%)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венозной крови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А33. Крупные лимфатические сосуды впадают в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крупные артерии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сердце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лёгочные вены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полые вены ( 26%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А33. Пассивный искусственный иммунитет у человека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формируется после перенесённого заболевания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имеет кратковременное действие (24%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образуется после введения антибиотиков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сохраняется в течение всей жизни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А34. При выработке условного рефлекса условный раздражитель должен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следовать сразу после безусловного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предшествовать безусловному (26%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постепенно ослабляться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292929"/>
                </a:solidFill>
                <a:latin typeface="Arial"/>
              </a:rPr>
              <a:t>быть сильнее безусловного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785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В5. Установите соответствие между процессом пищеварения у человека и органом пищеварительной системы, в котором он происходит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(19,4%)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ОЦЕСС ПИЩЕВАРЕНИЯ</a:t>
            </a:r>
            <a:r>
              <a:rPr b="0" i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       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РГА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А) Происходит окончательное                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 желудок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расщепление жиров                                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 тонкая кишка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Б) Начинается переваривание белков            </a:t>
            </a: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 толстая кишка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В) Происходит расщепление клетчат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Г) Пищевая масса обрабатывается                                                        желчью и поджелудочным соком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92929"/>
                </a:solidFill>
                <a:latin typeface="Arial"/>
              </a:rPr>
              <a:t>Д) Происходит интенсивное всасывание                                              питательных веществ</a:t>
            </a: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790640"/>
            <a:ext cx="844704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В этом блоке затруднения у выпускников вызвали вопросы о строении и функциях органических компонентов и органоидов клетки, об энергетическом обмене веществ, о фотосинтезе, биосинтезе белка, репликации ДНК, различных типах деления клетки.</a:t>
            </a:r>
            <a:r>
              <a:rPr b="0" i="1" lang="en-US" sz="16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. </a:t>
            </a:r>
            <a:r>
              <a:rPr b="0" i="1" lang="en-US" sz="17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Одна из функций клеточного центра</a:t>
            </a:r>
            <a:r>
              <a:rPr b="0" i="1" lang="ru-RU" sz="1700" spc="-1" strike="noStrike">
                <a:solidFill>
                  <a:srgbClr val="292929"/>
                </a:solidFill>
                <a:latin typeface="Arial"/>
              </a:rPr>
              <a:t> –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1) управление биосинтезом белка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2) формирование ядерной оболочки 3) образование веретена деления (53%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4) перемещение веществ в клетке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2. Вторичная структура белка поддерживается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1) ковалентными связями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2) электростатическими взаимодействиями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3) водородными связями (54%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4) гидрофобными взаимодействиями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6600"/>
                </a:solidFill>
                <a:latin typeface="Arial"/>
              </a:rPr>
              <a:t>3. Сигнальную, двигательную, транспортную и защитную функции в клетке выполняю</a:t>
            </a:r>
            <a:r>
              <a:rPr b="0" lang="ru-RU" sz="1700" spc="-1" strike="noStrike">
                <a:solidFill>
                  <a:srgbClr val="ff6600"/>
                </a:solidFill>
                <a:latin typeface="Arial"/>
              </a:rPr>
              <a:t>т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1) белки (52%)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2) углеводы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3) липиды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92929"/>
                </a:solidFill>
                <a:latin typeface="Arial"/>
              </a:rPr>
              <a:t>4) ДНК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7280" y="-171360"/>
            <a:ext cx="715824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 (часть С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85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2. На рисунке представлены слои кожи человека, обозначенные буквами А и В. Назовите их. Какие функции они выполняют?</a:t>
            </a:r>
            <a:r>
              <a:rPr b="1" i="1" lang="en-US" sz="12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1)       А – эпидермис;                                                                                                                                                                                                       В – подкожная жировая клетчатка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2) эпидермис выполняет защитную                                                                                                                                                 функцию, обеспечивает образование                                                                                                                                                         пигмента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3) подкожная жировая клетчатка                                                                                                                                                   препятствует  охлаждению тела,                                                                                                                                         является энергетическим                                                                                                                                                              резервом, играет роль амортизатора                                                                                                                                                           при ушибах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С3. Что лежит в основе изменения кровяного давления человека в спокойном состоянии и во время работы? Какие отделы нервной системы это обеспечивают?</a:t>
            </a:r>
            <a:r>
              <a:rPr b="0" i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Элементы ответа: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1) в спокойном состоянии расслабляются гладкие мышцы сосудов и увеличивается их просвет, давление понижается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2) во время работы сокращаются гладкие мышцы сосудов, сужается их просвет, давление повышается;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</a:rPr>
              <a:t>3) в изменении кровяного давления участвуют симпатический (повышает) и парасимпатический (понижает) отделы вегетативной нервной системы</a:t>
            </a: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266364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87280" y="-31644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Блок 5 «Человек и его здоровье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Наиболее низкие результаты (18–24%) получены на отдельные задания базового уровня: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                                         - распознавание по рисунку нервной и эпителиальной ткани,                                                                                                            - тип соединения костей конечностей,                                            - условия формирования и сохранения пассивного иммунитета,                                                                           - определение места впадения крупных лимфатических сосудов,                                                                                - особенности выработки условного рефлекса, поступления веществ в клетки из тканевой жидкости,                                                                                 - процессы регуляции теплоотдачи у человека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71280" y="-31644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6. Эволюция живой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ыявлены отдельные понятия, закономерности, слабо освоенные выпускниками и требующие серьезной подготовки: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- установление признака, на основании которого особей относят к одному виду, изменчивости, приводящей к сохранению особей с полезными свойствами;                                                            - определение атавизмов на конкретных примерах, экологического видообразования при разделении популяции по срокам размножения, экологических критериев вида;                                                                                           - признаки морфофизиологического прогресса на примерах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Значительные затруднения вызвали задания в разных вариантах, где требовалось установить первично- и вторично водных животных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6. Эволюция живой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42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22. Приспособленность организмов к среде обитания формируется в результате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модификационной изменчивости (49%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стремления особей к совершенствованию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применения методов селекции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сохранения особей с полезными изменениями (21%)</a:t>
            </a: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В8. Установите последовательность формирования популяции тёмноокрашенной бабочки берёзовой пяденицы в загрязнённых промышленных районах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31%).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появление в потомстве разноокрашенных бабочек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увеличение численности бабочек с более тёмной окраской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сохранение в результате естественного отбора бабочек с тёмной окраской и гибель со светлой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возникновение популяции тёмноокрашенных бабочек </a:t>
            </a:r>
            <a:r>
              <a:rPr b="1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Слабо сформированы у выпускников учебные умения сравнивать и сопоставлять эволюционные процессы, признаки организмов: дивергенцию и конвергенцию; ароморфозы и идиоадаптации на примерах у пресмыкающихся, растений; науки, изучающие различные доказательства эволюции;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92929"/>
                </a:solidFill>
                <a:latin typeface="Arial"/>
              </a:rPr>
              <a:t>К типичным ошибкам, повторяющимся из года в год, следует отнести неумение экзаменуемых устанавливать правильную последовательность процессов видообразования и формирования приспособленности как результата эволюции.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3164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7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Экосистемы и присущие им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Задания по экологии, как правило, выполняются хорошо и не вызывают особых затруднений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и ответе на задания экологического характера </a:t>
            </a: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выпускники должны продемонстрировать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знание основных экологических закономерностей, сформированность учебных умений выявлять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существенные признаки экосистемы, процессов круговорота веществ и превращения энергии, устанавливать взаимосвязи организмов в экосистеме и типы их взаимодействия, антропогенные изменения в биосфере, составлять цепи питания, сравнивать природные экосистемы и агроэкосистемы.                                                                         </a:t>
            </a:r>
            <a:r>
              <a:rPr b="0" i="1" lang="ru-RU" sz="2400" spc="-1" strike="noStrike">
                <a:solidFill>
                  <a:srgbClr val="ff6600"/>
                </a:solidFill>
                <a:latin typeface="Arial"/>
              </a:rPr>
              <a:t>Отдельные трудности возникли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у экзаменуемых при выполнении заданий на определение устойчивости различных экосистем, сравнение агроэкосистем и природных сообщест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15788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7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Экосистемы и присущие им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При ответе на задания экологического характера учащиеся продемонстрировали знание основного содержания и сформированность ряда учебных умений: выявлять существенные признаки экосистемы, процессов круговорота веществ и превращения энергии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Однако в этом году, в отличие от предыдущих лет, вызвали затруднения задания на установление абиотических факторов среды, определение консументов и продуцентов в экосистемах и цепях питания, выбор правильного суждения об агроценозах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1582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Блок 7</a:t>
            </a:r>
            <a:r>
              <a:rPr b="1" lang="en-US" sz="2800" spc="-1" strike="noStrike">
                <a:solidFill>
                  <a:srgbClr val="292929"/>
                </a:solidFill>
                <a:latin typeface="Arial"/>
              </a:rPr>
              <a:t>. </a:t>
            </a: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Экосистемы и присущие им закономер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25. Какой организм отсутствует в приведённой цепи питания: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листовой опад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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…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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ёж </a:t>
            </a:r>
            <a:r>
              <a:rPr b="1" lang="ru-RU" sz="1400" spc="-1" strike="noStrike">
                <a:solidFill>
                  <a:srgbClr val="ff6600"/>
                </a:solidFill>
                <a:latin typeface="Arial"/>
              </a:rPr>
              <a:t> </a:t>
            </a: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лисица?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кузнечик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майский жук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гриб-трутовик (38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дождевой червь (46%)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24. Минеральные вещества, используемые растениями в процессе почвенного питания, относят к группе факторов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сезонных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антропогенных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биотических (36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абиотических (39%)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Arial"/>
              </a:rPr>
              <a:t>А35. Разделение популяций одного вида по срокам размножения может привести к</a:t>
            </a:r>
            <a:r>
              <a:rPr b="0" i="1" lang="ru-RU" sz="1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опуляционным волнам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экологическому видообразованию (28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усилению межвидовой борьбы (36%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конвергенции</a:t>
            </a:r>
            <a:r>
              <a:rPr b="0" lang="ru-RU" sz="1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292929"/>
                </a:solidFill>
                <a:latin typeface="Arial"/>
              </a:rPr>
              <a:t>признаков</a:t>
            </a:r>
            <a:r>
              <a:rPr b="0" i="1" lang="ru-RU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ff6600"/>
                </a:solidFill>
                <a:latin typeface="Arial"/>
              </a:rPr>
              <a:t>В заданиях части С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 участники не смогли обосновать:                                                                                      -  последствия обработки деревьев ядохимикатами,                                                                                                   - приспособленность растений к жизни в тундре.                                                                                   - объяснить, почему каменный уголь относят к веществам биогенного происхождения и невосполнимым ресурсам.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-24336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90640"/>
            <a:ext cx="844704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На повышенном уровне в части 1 на низком уровне выполнены следующие задания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4. В процессе обмена веществ в клетке энергия АТФ может использоваться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для выделения углекислого газа из клетк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на поступление веществ в клетку через плазматическую мембрану (17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при расщеплении биополимеро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для образования воды на кислородном этапе энергетического обмен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6600"/>
                </a:solidFill>
                <a:latin typeface="Arial"/>
              </a:rPr>
              <a:t>5. Четвертичная структура молекулы гемоглобина представляет собой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1) глобулу из одной полипептидной цеп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2) двойную полипептидную спираль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3) несколько соединенных полипептидных цепей (40%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4) последовательность аминокислот в полипептидной цепи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 (часть 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6. Какой способ питания характерен для молочнокислых бактерий?</a:t>
            </a:r>
            <a:r>
              <a:rPr b="0" i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гетеротрофный (30%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хемотрофный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автотрофный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фототрофный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6600"/>
                </a:solidFill>
                <a:latin typeface="Arial"/>
              </a:rPr>
              <a:t>7. Синтез ДНК в клетке, кроме ядра, происходит в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рибосомах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шероховатой эндоплазматической сети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митохондриях (30%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аппарате Гольджи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1582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В части 2 (В)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слабо сформированными оказались умения сравнивать и соотносить:                                                 - клетки прокариот и эукариот;                                                        - соматические и половые клетки;                                                                   - процессы, протекающие в интерфазе, митозе и мейозе, при фотосинтезе и энергетическом обмене.                                                       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Вызвали существенные затруднения и задания на установление последовательности процессов, протекающих при фотосинтезе, гаметогенеза (сперматогенеза) у животных, хотя этот материал представлен во всех учебниках по общей биологии как базового, так и профильного уровня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1280" y="-171360"/>
            <a:ext cx="715788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лок 2. Клетка как биологическая сис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790640"/>
            <a:ext cx="852012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части 2 (В)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к числу трудных следует отнести следующие задания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6600"/>
                </a:solidFill>
                <a:latin typeface="Arial"/>
              </a:rPr>
              <a:t>1. Какие особенности строения и свойств воды определяют ее функции в клетке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1) способность образовывать водородные связ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) наличие в молекулах макроэргических связей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3) полярность молекулы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4) высокая теплоемкост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5) способность образовывать ионные связ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6) способность выделять энергию при расщеплени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Ответ: 1,3,4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Две функции воды в клетке учащиеся определяют легко (48%), а три функции отмечают только 30% участнико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0:22:35Z</dcterms:created>
  <dc:creator>nemceva</dc:creator>
  <dc:description/>
  <dc:language>en-US</dc:language>
  <cp:lastModifiedBy>nemceva</cp:lastModifiedBy>
  <dcterms:modified xsi:type="dcterms:W3CDTF">2014-09-18T12:46:28Z</dcterms:modified>
  <cp:revision>16</cp:revision>
  <dc:subject/>
  <dc:title>Уровни организации живых систем</dc:title>
</cp:coreProperties>
</file>