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C2B-5B69-4A8B-87E6-0689FC36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DB0-0155-45E3-8E82-AAC25ECE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16E-2420-4ADF-ADE4-F6580A0E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316-6381-4A1D-87BB-E4CBD317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1BBC-8348-4CC0-BCB6-E1D76478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2420-201F-4399-808D-E1AD7C7F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CD32-7257-40F7-8297-0C132469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C519-23D5-4CF7-B3EB-324CFEE3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38B3-2E3B-4D4F-8044-FF334E62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201D-D9AA-4A2B-A020-80BEB142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1BF0-4663-4A5B-AF20-E087EF7A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AF5-A620-4446-AF37-B9560274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12DE-EE3F-428F-B1A5-54CCF66E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A32B-B33E-426A-8D76-C3864164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0590-999F-45D6-B268-937501B7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460E-5D90-41A1-AE37-9553A440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F842-DD22-4CA6-9627-B72FB197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68EA-22A6-4F1D-AC75-A6A49ABF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9732-08A2-4E01-8D4F-6491F174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D99A-497F-4C04-99FE-AB37F75D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8BD0-B11F-430D-B789-B399496A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83B6-C4AA-4FE9-A03C-8C38B74E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7F0-73FD-4B9A-9A58-4A68CC1A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D9E2-EBE1-45E5-9F7A-B70AD4FC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543F3-66D5-4891-8B69-3136AA07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E435-8493-427D-A5A6-85678B2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4180-DF86-4249-B910-6242DC2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96E8-9BC0-4F90-98DF-C602B456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9C59-9EDE-466C-8347-6A8E4EB5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9FBD-4F16-48DD-983E-A4354861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82538-C993-4A1D-A905-EBBAD84F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7F39-F049-4335-812A-B1C98408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5C785-8702-44C2-B348-ABF5A424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B8B-F0C8-4D33-8DA4-6864E9C0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ECBB6-65B8-4201-92A3-B2969B59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BDAAB-EF14-4CA6-8E7D-C609253C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8B92-C076-4B72-9638-4D737A0B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3F247-2A68-46D0-B811-4A08EB0B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B2A1B-2EF9-4DB8-BB72-C460657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1200-E333-4442-83C9-DF26E802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9EF2-0B37-4237-931B-31F53C35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BE64-5517-4561-948F-BB301E0D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C1CF-A3C6-4432-9BBC-16287E22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9886E-BA69-424E-9DE8-88643F7F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FBF-C790-4A74-AA0A-05D5DC9B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D01A1-F2B3-432C-886D-3D554F37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459EA-7C49-4B72-854E-1D26B5D2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99BC0-1C68-4FA9-B905-249A5469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87328-A23D-4A5F-A1B1-BC19CA26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79C6E-4143-4DE1-A318-1A395D99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C869B-AF34-4354-80F7-39C6A8A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02B7E-3DEE-44DB-B3E8-CFA2CBFF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BCF2-FC1E-4D18-9702-D3291E8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D8BA9-69DC-4C09-B9FC-D98CBB77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8E72B-0285-4DD3-9A20-5AAEEE5A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4C9-2628-4D52-967B-035C1918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A228-1916-4D15-A9CC-DDA6C7F6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0B40-DF7F-431D-BCE6-EBEDE7EF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CA869-9DA2-4AF9-93AE-085D2F33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D1449-8B65-4774-BFCE-9F0243D8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C2A4E-8E85-4A7F-88DC-0E46C6E3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A1108-3B27-41B5-8563-3FD7B8B0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260B7-D70A-41F0-9D41-BAB72FB4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3380-E304-4821-A910-E3F9C7F3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E435-2FCF-4958-92B8-1AA791A3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10823-CAA2-4CE0-AB60-859B6FA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36F-AC90-41B8-97C2-CE790EF1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9FD3B-6546-4B44-85FB-10854B10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899CD-0294-4A77-8B28-204C3DFF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62CD6-C01B-44B9-9B9C-C97EF3BB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01B-12BC-4A06-B197-5F123593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FB2-A62F-4EEB-9A2F-C24E587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FFF5-6311-4A7D-84B8-6B7C82043FF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039C-B19D-4885-B84E-8E91E42119F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DF8C-8708-49C2-B0DD-44887241F1E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0E47-5BF7-4879-A62D-8BC7438EE29B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9F06-EDAE-4BB5-86E1-DE5B8C4A7D2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7298280" y="6353640"/>
            <a:ext cx="1347480" cy="323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B532-216E-4EC7-885C-A0CDE918AC9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1096920"/>
            <a:ext cx="8364600" cy="1432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ПОДГОТОВКА ДОУ К УЧАСТИЮ В КОНКУРСЕ НА «ЛУЧШЕЕ ОУ»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4920" y="515736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17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.09.2012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КУПРИЯНОВА Г.В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6400800" y="31240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НСТРУМЕН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Самооценка</a:t>
            </a: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Swot-analiz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документов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результатов и достижений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сильных и слабых сторон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Методы изучения общественного мнения, удовлетворенности участников образовательного процесса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……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4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6"/>
          <p:cNvSpPr/>
          <p:nvPr/>
        </p:nvSpPr>
        <p:spPr>
          <a:xfrm>
            <a:off x="5940360" y="24004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8229600" y="335268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3794"/>
                </a:moveTo>
                <a:lnTo>
                  <a:pt x="35773" y="10800"/>
                </a:lnTo>
                <a:lnTo>
                  <a:pt x="21760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7772400" y="38862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8435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ЦЕЛЬ ПРОВЕДЕНИЯ САМООЦЕНК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230120" y="1700280"/>
            <a:ext cx="77929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олучить представление о результатах и процессах в образовательном учреждении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Определить точки приложения усилий коллектива (меры по улучшению ситуации)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АМООЦЕНКА В Д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Адаптированная школьная модель самооценки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амооценка по Европейской модели качества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лидерство, персонал, политика и стратегия, партнерство и ресурсы, процессы, результаты, результаты потребителей,  результаты общества и результаты  основной деятельности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амооценка на основе анализа сильных и слабых сторон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прощенная методика самооценк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ШКОЛЬНАЯ МОДЕЛЬ САМООЦЕНК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1 вопросов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нутри каждого вопроса – 4 части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Оценка в баллах от 1 до 4 (система показателей)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Почему Вы так считаете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Что наиболее улучшилось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Что необходимо улучшать и какие действия для этого надо предпринять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AutoShape 4"/>
          <p:cNvSpPr/>
          <p:nvPr/>
        </p:nvSpPr>
        <p:spPr>
          <a:xfrm>
            <a:off x="7380360" y="22050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СНОВНЫЕ ТРЕБОВА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30120" y="1052280"/>
            <a:ext cx="77929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Franklin Gothic Book"/>
              </a:rPr>
              <a:t>Выводы необходимо доказательно обоснова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Franklin Gothic Book"/>
              </a:rPr>
              <a:t>Фокус описания и оценивания – как это влияет на результаты ученик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раткость (объем 10 стр.; не включать очевидно доступные данные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кала самооценки от 1 (очень мало) до 4 (превосходно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СПРАВКА-ИНФОРМ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981000"/>
            <a:ext cx="80773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звание ОУ, адрес и особенност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иссия, цели, приоритеты и механизмы их реализаци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Характеристика образовательной среды ОУ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енеджмент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фессионализм педколлектива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заимодействие ОУ с соцпартнерами, родителями, органами власти, СМ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езультаты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нкурентные преимущества (2-3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онациональный соста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ложный социальный контекст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радици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контингент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состава семей, окруж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Фотоматериалы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тчет по самооценк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НАЗВАНИЕ ОУ, АДРЕС, ОСОБЕННОС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3780000" y="328464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4360" y="1752120"/>
            <a:ext cx="3200400" cy="371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Мисс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Цель деятельности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оритетные направления в деятельн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чень программ, проектов, планов, обеспечивающих их реализацию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148360" y="1700280"/>
            <a:ext cx="3200400" cy="37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Выписка из Устава, Программа развити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роекты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рограммы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ланы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Фотоматериалы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Описание реализации программы развити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МИССИЯ, ЦЕЛИ, ПРИОРИТЕТЫ И МЕХАНИЗМЫ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890880" y="2492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разовательная модел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нципы деятельности и цен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еспечение образовательног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43240" y="1904760"/>
            <a:ext cx="3871800" cy="464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писание ОМ, схема, рисунок; фрагмент ООП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окументы, фиксирующие (фрагмент Устава, ООП …, рабочая программа, программа воспитания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спользуемые технологии, характеристика условий обучения, данные о психологическом климате в ОУ, фотоматериалы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БРАЗОВАТЕЛЬНАЯ СРЕДА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4343400" y="1752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истема управле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оритеты в управлени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елегирование полномочий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Эффективность управления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723920" y="1052280"/>
            <a:ext cx="4100760" cy="3816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хема, регламент, «Положение об УС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вленческие проект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окументы наделяющие полномочиями в принятии управленческих решений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тчет о самооценке, данные опроса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МЕНЕДЖМЕН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3809880" y="400536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ЭКСПЕРТИЗА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2" name="Object 7" descr=""/>
          <p:cNvPicPr/>
          <p:nvPr/>
        </p:nvPicPr>
        <p:blipFill>
          <a:blip r:embed="rId1"/>
          <a:stretch/>
        </p:blipFill>
        <p:spPr>
          <a:xfrm>
            <a:off x="249120" y="0"/>
            <a:ext cx="3462480" cy="2895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37644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8" descr="C:\Program Files\Common Files\Microsoft Shared\Clipart\cagcat50\PE03254_.wmf"/>
          <p:cNvPicPr/>
          <p:nvPr/>
        </p:nvPicPr>
        <p:blipFill>
          <a:blip r:embed="rId2"/>
          <a:stretch/>
        </p:blipFill>
        <p:spPr>
          <a:xfrm>
            <a:off x="5486400" y="2133720"/>
            <a:ext cx="3429000" cy="39621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304920" y="3048120"/>
            <a:ext cx="4495680" cy="350496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ивность и эффекти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 О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крытость 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ффективность управления 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ияние на развитие МС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374a"/>
                </a:solidFill>
                <a:latin typeface="Verdana"/>
              </a:rPr>
              <a:t>Практическая значим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374a"/>
                </a:solidFill>
                <a:latin typeface="Verdana"/>
              </a:rPr>
              <a:t>/Качество презент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дровый потенциа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истема работы с кадрам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езультативность и эффективност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кадров (таблицы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дровая политика, программа (план) развития кадро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чет о самооценке, динамика роста профессионализм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ОФЕССИОНАЛИЗМ КОЛЛЕКТИВ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56400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собенности взаимодейств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истема работы (приоритеты, формы …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езультативность и эффективно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труктур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оговора, планы. Программы, проект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анные изучения отношения к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ейтинг ОУ в МСО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убликации в СМИ, отзыв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70836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чебные достижения в разных сферах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Психическое, физическое состояние, здоровь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ровень толерантности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Данные мониторинга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Таблицы, графики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Фотоматериалы, грамоты, дипломы и т.п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ЕЗУЛЬТА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343400" y="25146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ПРИЛОЖЕНИЯ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1. ПРОГРАММА РАЗВИТИЯ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Механизм целостного развития ОУ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правленческий инструментарий, направленный на разработку и реализации стратегических целей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Нормативная модель деятельности субъектов по переводу ОУ в новое качественное состояни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Документ, направленный на решение стратегических задач, социального заказа на образовани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БЩИЕ ТРЕБОВА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итерии оценки стратегических документов (А.М. Моисеев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исьмо ДО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етодические рекомендаци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564000" y="155736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5003640" y="2921040"/>
            <a:ext cx="792360" cy="288720"/>
          </a:xfrm>
          <a:custGeom>
            <a:avLst/>
            <a:gdLst>
              <a:gd name="textAreaLeft" fmla="*/ 18720 w 792360"/>
              <a:gd name="textAreaRight" fmla="*/ 773640 w 792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32" h="21600">
                <a:moveTo>
                  <a:pt x="0" y="0"/>
                </a:moveTo>
                <a:lnTo>
                  <a:pt x="59232" y="0"/>
                </a:lnTo>
                <a:lnTo>
                  <a:pt x="59232" y="21600"/>
                </a:lnTo>
                <a:lnTo>
                  <a:pt x="0" y="21600"/>
                </a:lnTo>
                <a:close/>
              </a:path>
              <a:path fill="lightenLess" w="59232" h="21600">
                <a:moveTo>
                  <a:pt x="0" y="0"/>
                </a:moveTo>
                <a:lnTo>
                  <a:pt x="59232" y="0"/>
                </a:lnTo>
                <a:lnTo>
                  <a:pt x="57832" y="1400"/>
                </a:lnTo>
                <a:lnTo>
                  <a:pt x="1400" y="1400"/>
                </a:lnTo>
                <a:close/>
              </a:path>
              <a:path fill="darken" w="59232" h="21600">
                <a:moveTo>
                  <a:pt x="59232" y="0"/>
                </a:moveTo>
                <a:lnTo>
                  <a:pt x="59232" y="21600"/>
                </a:lnTo>
                <a:lnTo>
                  <a:pt x="57832" y="20200"/>
                </a:lnTo>
                <a:lnTo>
                  <a:pt x="57832" y="1400"/>
                </a:lnTo>
                <a:close/>
              </a:path>
              <a:path fill="darkenLess" w="59232" h="21600">
                <a:moveTo>
                  <a:pt x="59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32" y="20200"/>
                </a:lnTo>
                <a:close/>
              </a:path>
              <a:path fill="lighten" w="59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32" h="21600">
                <a:moveTo>
                  <a:pt x="22609" y="3794"/>
                </a:moveTo>
                <a:lnTo>
                  <a:pt x="36622" y="10800"/>
                </a:lnTo>
                <a:lnTo>
                  <a:pt x="22609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5724360" y="386064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3794"/>
                </a:moveTo>
                <a:lnTo>
                  <a:pt x="33859" y="10800"/>
                </a:lnTo>
                <a:lnTo>
                  <a:pt x="19846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ТРЕБОВАНИЯ К ПРОГРАММА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ктуаль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етодическая разработан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гностичность, реалистич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ациональность, направленность на достижение максимального результата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нтролируемость, чувствительность к сбоям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Целост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езультатив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ПР ОТВЕЧАЕТ НА ТРИ ГЛАВНЫХ ВОПРОСА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3640" y="1981080"/>
            <a:ext cx="859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его достигла наше ОУ сегодня, каковы его сильные и слабые стороны, достижения и проблемы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акой мы хотим видеть наше ОУ и его выпускников через два-три года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то и как мы сделаем, чтобы ОУ успешно перешло от своего сегодняшнего состояния к желаемому будущему?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ОГРАММА РАЗВИТИЯ – ПРОГРАММА ИЗМЕНЕН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мысл изменений: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остижение нового, востребованного временем качества образова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здание условий для достижения нового качества образова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прочение позиции ОУ в образовательном пространстве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р.  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2. ОПИСАНИЕ РЕАЛИЗАЦИИ ПРОГРАММЫ РАЗВИТ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2240" y="1267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Целевая направленность программы и критерии успеха (планируемые целевые показатели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Результаты (промежуточные, итоговые) и свидетельства их достиже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Выводы и перспективы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22240" y="1600200"/>
            <a:ext cx="3200400" cy="32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Эксперт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00520" y="1628280"/>
            <a:ext cx="3200400" cy="3181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ллектив ДО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0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3492360" y="40464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C:\Program Files\Common Files\Microsoft Shared\Clipart\cagcat50\PE01460_.wmf"/>
          <p:cNvPicPr/>
          <p:nvPr/>
        </p:nvPicPr>
        <p:blipFill>
          <a:blip r:embed="rId2"/>
          <a:stretch/>
        </p:blipFill>
        <p:spPr>
          <a:xfrm>
            <a:off x="533520" y="2514600"/>
            <a:ext cx="2790720" cy="3087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C:\Program Files\Common Files\Microsoft Shared\Clipart\cagcat50\PE01561_.wmf"/>
          <p:cNvPicPr/>
          <p:nvPr/>
        </p:nvPicPr>
        <p:blipFill>
          <a:blip r:embed="rId3"/>
          <a:stretch/>
        </p:blipFill>
        <p:spPr>
          <a:xfrm>
            <a:off x="5334120" y="2895480"/>
            <a:ext cx="3809880" cy="24386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1066680" y="5943600"/>
            <a:ext cx="3581640" cy="5335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ожидает увиде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257800" y="5943600"/>
            <a:ext cx="3581280" cy="5335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хотят показа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Стратегическая цель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Выводы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0" y="2362320"/>
          <a:ext cx="8610480" cy="3581280"/>
        </p:xfrm>
        <a:graphic>
          <a:graphicData uri="http://schemas.openxmlformats.org/drawingml/2006/table">
            <a:tbl>
              <a:tblPr/>
              <a:tblGrid>
                <a:gridCol w="1371600"/>
                <a:gridCol w="1752480"/>
                <a:gridCol w="1524240"/>
                <a:gridCol w="1828800"/>
                <a:gridCol w="213336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 /Ц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иде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80640" y="304920"/>
            <a:ext cx="8163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59" name="Object 5"/>
          <p:cNvGraphicFramePr/>
          <p:nvPr/>
        </p:nvGraphicFramePr>
        <p:xfrm>
          <a:off x="357120" y="990720"/>
          <a:ext cx="271296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990720"/>
                    <a:ext cx="271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4191120" y="762120"/>
            <a:ext cx="495288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"/>
          <p:cNvPicPr/>
          <p:nvPr/>
        </p:nvPicPr>
        <p:blipFill>
          <a:blip r:embed="rId4"/>
          <a:srcRect l="0" t="17204" r="0" b="0"/>
          <a:stretch/>
        </p:blipFill>
        <p:spPr>
          <a:xfrm>
            <a:off x="304920" y="3886200"/>
            <a:ext cx="7921440" cy="27320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8"/>
          <p:cNvSpPr/>
          <p:nvPr/>
        </p:nvSpPr>
        <p:spPr>
          <a:xfrm>
            <a:off x="533520" y="3429000"/>
            <a:ext cx="8229600" cy="3049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Verdana"/>
              </a:rPr>
              <a:t>Количество обучающихся (%),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не подтвердивших освоение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716000" y="1052280"/>
            <a:ext cx="397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Команда ОУ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15 минут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7720" y="2492280"/>
            <a:ext cx="8001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дставление деятельности образовательного учрежде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информирование о реализации программы развит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 CYR"/>
              </a:rPr>
              <a:t>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дставлен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деятельности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 образовательных программ и достижений детей и педагогического коллектив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ЕЗЕНТ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ЦЕНАР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едставление ОУ и команды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ши достижения 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к мы их достигли   (образовательные программы, технологии 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ерспективы (стратегия. Ее реализация и планы на будущее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АЧЕСТВО ПРЕЗЕНТАЦ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андный дух образовательного учрежд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публичной презентаци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льность выступл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ский потенциа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презентации представленным материалам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ПАСИБО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72" name="Picture 3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2971800" y="2743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ак можно больше материал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пользуем старые заготовк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кцент на 1 вопросе (успех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збыточность материалов, дублирование («корзина»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гнорирование правил, отсутствие согласован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ое остается за кадром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У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564000" y="62064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ЭКСПЕР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22240" y="1099800"/>
            <a:ext cx="75218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Четкость, конкрет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Структурированность (удобно работать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Конструктивная целостность описания опыта (согласованность частей, обоснованность включения)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Представленность материалов по всем позициям (критериям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Достаточность материал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1" name="Picture 4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168880" y="0"/>
            <a:ext cx="3975120" cy="1447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755640" y="5516640"/>
            <a:ext cx="8001000" cy="60948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ждение о том, что ОУ лучш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Что значит лучшее образовательное учреждение?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7543800" y="2286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ЛУЧШЕЕ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12500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Лучше других справляется с заданием (имеет высокие результаты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Созданы условия для самореализации субъектов (насыщенная среда для жизнедеятельности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Комфортная обстановка, сотрудничество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Руководитель – лидер, высокий профуровень педколлектива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Высокий рейтинг ОУ в МСО (имидж «лучшее ОУ»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Открытость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 …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ОНКУРСНАЯ ДОКУМЕНТ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981000"/>
            <a:ext cx="8337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заявк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на участие в конкурсе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чёт о самооцен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правк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информаци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о результатах и опыте работы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 приложения и дополнительные материалы к справке-информации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*программ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развит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 ОУ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писание реализации программы развит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*материалы, раскрывающие инновационный опыт рабо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*п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ор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убликаций о де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, ф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ограф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иаграммы, графики, сх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4303800" y="365040"/>
            <a:ext cx="558720" cy="549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821880" y="1100160"/>
            <a:ext cx="77821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аги: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зучение положения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тбор материалов и их оценка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пределение дефицитов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одготовка конкурсной документаци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77724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6:43:21Z</dcterms:created>
  <dc:creator>Аноним</dc:creator>
  <dc:description/>
  <dc:language>en-US</dc:language>
  <cp:lastModifiedBy>Галина Валентиновна Куприянова</cp:lastModifiedBy>
  <dcterms:modified xsi:type="dcterms:W3CDTF">2014-09-17T07:36:53Z</dcterms:modified>
  <cp:revision>18</cp:revision>
  <dc:subject/>
  <dc:title>Подготовка ОУ к участию в конкурсе на «Лучшее ОУ» </dc:title>
</cp:coreProperties>
</file>