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61-CAAB-423A-8F40-2AFDA88A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2FA-0D17-4C55-BBA8-7FAFDF4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06E-204D-4F12-B15F-26C0B485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26E-7783-4062-AEF8-93800256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1BED-6ACD-4C9E-9093-A09C4D3E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2E95-6E60-4F66-9461-8D91119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F3F-D577-40F3-AF29-96866E3D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1EB8-EE8F-49A6-874B-3062B8FE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D6DE-B5D2-4BD5-845C-6494399A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9613-78F5-4549-89F6-9087A90D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EDE-AD78-44C9-99B1-72EE421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A3D-E9B0-4018-995E-F4281C20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0A0-C916-4127-8189-E81DA38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1EF-7573-4444-BACE-8DF3C72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7895-2BA1-40FD-B1D3-EFB67805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DE9-DFD7-464E-89B0-B8AA60AB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B11D-89A1-4B73-ABDA-AF42C8B8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E42-3675-47DD-9CCA-41ABE589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90C-F2F3-419E-99E3-C34A598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127-2F58-475E-A67F-C56786F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26F-6411-460A-904E-A13ADFEF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A9A-145A-4A3F-8291-396E849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AA5-CE7F-40B6-8DFB-E4FE56B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855-DD14-4568-9EB8-3481F42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5D63-B517-4A1B-8CCC-880964EAB45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D599-951D-4908-B426-B518EA51604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083;&#1086;&#1078;&#1077;&#1085;&#1080;&#1077;%20&#1086;%20&#1084;&#1077;&#1090;&#1086;&#1076;&#1080;&#1095;&#1077;&#1089;&#1082;&#1086;&#1084;%20&#1072;&#1091;&#1076;&#1080;&#1090;&#1077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103;&#1089;&#1085;&#1077;&#1085;&#1080;&#1077;_&#1082;_&#1072;&#1091;&#1076;&#1080;&#1090;&#1091;_&#1087;&#1086;_&#1080;&#1085;&#1092;&#1086;&#1088;&#1084;&#1072;&#1090;&#1080;&#1079;&#1072;&#1094;&#1080;&#1080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47;&#1072;&#1103;&#1074;&#1082;&#1072;%20&#1085;&#1072;%20&#1087;&#1088;&#1086;&#1074;&#1077;&#1076;&#1077;&#1085;&#1080;&#1077;%20&#1084;&#1077;&#1090;&#1086;&#1076;&#1080;&#1095;&#1077;&#1089;&#1082;&#1086;&#1075;&#1086;%20&#1072;&#1091;&#1076;&#1080;&#1090;&#1072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74;&#1086;&#1087;&#1088;&#1086;&#1089;&#1099;_&#1076;&#1083;&#1103;_&#1054;&#1059;.doc" TargetMode="External"/><Relationship Id="rId7" Type="http://schemas.openxmlformats.org/officeDocument/2006/relationships/hyperlink" Target="file:///&#1074;&#1086;&#1087;&#1088;&#1086;&#1089;&#1099;_&#1076;&#1083;&#1103;_&#1054;&#1059;.doc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&#1048;&#1085;&#1092;&#1086;&#1088;&#1084;&#1072;&#1094;&#1080;&#1086;&#1085;&#1085;&#1072;&#1103;%20&#1082;&#1072;&#1088;&#1090;&#1072;%20&#1087;&#1086;%20&#1080;&#1085;&#1092;&#1086;&#1088;&#1084;&#1072;&#1090;&#1080;&#1079;&#1072;&#1094;&#1080;&#1080;%20&#1086;&#1073;&#1088;&#1072;&#1079;&#1086;&#1074;&#1072;&#1090;&#1077;&#1083;&#1100;&#1085;&#1086;&#1075;&#1086;%20&#1091;&#1095;&#1088;&#1077;&#1078;&#1076;&#1077;&#1085;&#1080;&#1103;.docx" TargetMode="External"/><Relationship Id="rId10" Type="http://schemas.openxmlformats.org/officeDocument/2006/relationships/image" Target="../media/image1.png"/><Relationship Id="rId11" Type="http://schemas.openxmlformats.org/officeDocument/2006/relationships/hyperlink" Target="file:///&#1072;&#1085;&#1082;&#1077;&#1090;&#1072;_&#1076;&#1083;&#1103;_&#1096;&#1082;&#1086;&#1083;&#1100;&#1085;&#1080;&#1082;&#1086;&#1074;_2010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&#1072;&#1085;&#1082;&#1077;&#1090;&#1072;_&#1048;&#1050;&#1058;_2010.doc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788-2F93-4634-B932-DB218692AD2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2971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ический аудит как способ поддержки педагогов в освоении новых образовательных технологий</a:t>
            </a:r>
            <a:br>
              <a:rPr sz="3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Picture 3" descr="emblem"/>
          <p:cNvPicPr/>
          <p:nvPr/>
        </p:nvPicPr>
        <p:blipFill>
          <a:blip r:embed="rId1"/>
          <a:stretch/>
        </p:blipFill>
        <p:spPr>
          <a:xfrm>
            <a:off x="685800" y="7621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000680" y="53578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©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Шувалова Светлана Олего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3286080" y="9288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Муниципальное образовательное учреждение дополнительного профессионального образования (повышения квалификации) специалистов «Информационно-образовательный Центр»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5CE-A4CE-4C90-98B8-42CA9793461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42920" y="642960"/>
            <a:ext cx="8507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2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16002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здание условий для оказания услуги (разработка методических рекомендаций, экспертных листов, подготовка информационного письм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ханизм продвижения услуги (выбор темы в соответствии с ранее осуществлённым методическим обеспечением нововведением, мотивация на освоение новых практик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6CF-AC17-4B79-AFDC-D21DA0D8425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285840" y="571680"/>
            <a:ext cx="84358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3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клама услуги (предварительное ИМС, приглашение к расширению круга субъектов ауди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ализация услуги (конкретная практика методических аудитов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ониторинг процесса обслуживания (качество исполнения услуги, удовлетворённость, выполнение программы аудит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нципы взаимодейств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Целенаправлен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ъектив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брово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верите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фиденциа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ность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E54-CD7F-489A-A916-6C99806DACC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Условия успешно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инициативной позици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ость  (готовность к критике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сокий уровень профессионализма ауди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76D-8EC8-4ED5-92DF-13C35195BDD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E22-BE8D-4514-A156-CEC50D50E67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428760" y="57168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Организация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Содержимое 2"/>
          <p:cNvSpPr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ложение о методическом аудите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Заявка (заказ-заявка, заказ-план) на методический ауди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е рекомендации по проведению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ый лист ауди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ое письмо о проведе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тоговая справ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«Последействие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2E8A-D0B4-492E-8452-3B275286C7B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а заявки на проведение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57120" y="1500120"/>
            <a:ext cx="842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Заказчик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полнитель (служб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ема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мет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ограмма аудита (</a:t>
            </a:r>
            <a:r>
              <a:rPr b="0" i="1" lang="ru-RU" sz="2400" spc="-1" strike="noStrike">
                <a:solidFill>
                  <a:srgbClr val="404176"/>
                </a:solidFill>
                <a:latin typeface="Arial"/>
              </a:rPr>
              <a:t>в том числе возможно указать  критерии оценки качества её исполнения</a:t>
            </a: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одействия, лица для контакт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беспечение доступа к материалам и процесса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ребования к итоговому результату (продукту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Необходимый набор качеств эксперта-аудито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почтительный список экспертов-аудитор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ной ответствен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Желаемый срок проведения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078-4772-486E-9C64-CB3EAB9EAE7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142920" y="35712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р. Методический аудит теме «Освоение и внедрение в практику работы информационно-коммуникационных технологий»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428760" y="1714680"/>
            <a:ext cx="84722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Информационное письмо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Заяв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Экспертный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лис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Информационная карта по информатизации образовательного учрежд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Вопросы для школьник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Анкета для педагог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«Последействие»: справка по итогам аудита, информационно-методическое совещание, конкретная методическая помощ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A32-3F0A-43F6-835B-6496782B8EB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нение  итогов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Диагностика запросов на методические услуг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атики семинаров (выявленный опыт, выявленные дефицит)  в будущем плане работы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Выявление уровня освоения и применения знаний и умений по итогам методического обслуживани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 наиболее востребованных консультаций по выявленным проблемам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Разработка образовательных программ для педагог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Создание методических продуктов (рекомендаций, инструкций, методических пособий и т.п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Требования к профессиональной компетенции современного  учителя</a:t>
            </a:r>
            <a:br>
              <a:rPr sz="2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(Из стандарта высшего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                                                 педагогического образования)</a:t>
            </a:r>
            <a:br>
              <a:rPr sz="24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специалист должен обладать системой фундаментальных знаний    о проектировании образовательных систе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владеть технологией конструирования учебного процес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A52D-D7DE-4C0C-ADDA-8E63F5DDF01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ы дополнительного образования педагогов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Тради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рупповая дискусс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астер-класс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руг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Иннова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й ауди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сследовательское интервью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митационные иг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0FFB-A6BF-4BA2-87EB-36E323D3BBB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1E3-9E5B-4593-A5EF-C668C18A85D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едагогический ауди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28760" y="18223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форма экспертирования, которая является процессом исследования деятельности образовательного учреждения научно-общественным сообщество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Термин «педагогический аудит»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ввел профессор  М. Богуславск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Методический аудит </a:t>
            </a:r>
            <a:r>
              <a:rPr b="0" lang="ru-RU" sz="2800" spc="-1" strike="noStrike">
                <a:solidFill>
                  <a:srgbClr val="40417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 разновидность педагогического аудита, как особая форма экспертизы, являющаяся исследованием проблем методической деятельности образовательного учреждения и осуществляемая совместно с представителями образовательного учреждения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9D3F-EAB4-4CE7-BECA-A694C934460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Характеристики методического аудит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цесс исследования методической составляющей в деятельности педагог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вместная рефлексия образовательных событий на основе заказ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несение оценочных суждений и прогноза изменений практ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казание методического сервиса по совершенствованию профессиональной квалификации педаго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E1C-6B97-417E-B0B4-A0AF22E92F1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ункции методического аудита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о-аналитическ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уча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иру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ектировочная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еск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рректиру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азвива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9A4-1A77-4C5A-997B-94A29623090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F0FF-4CCF-4851-8016-39455051D38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713880" y="571680"/>
            <a:ext cx="8001360" cy="6000120"/>
            <a:chOff x="713880" y="571680"/>
            <a:chExt cx="8001360" cy="6000120"/>
          </a:xfrm>
        </p:grpSpPr>
        <p:sp>
          <p:nvSpPr>
            <p:cNvPr id="407" name="Rectangle 3"/>
            <p:cNvSpPr/>
            <p:nvPr/>
          </p:nvSpPr>
          <p:spPr>
            <a:xfrm>
              <a:off x="2409480" y="571680"/>
              <a:ext cx="4221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Методический аудит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52480" y="1707480"/>
              <a:ext cx="33300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утрен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4848840" y="1707480"/>
              <a:ext cx="38664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еш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17791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1779120" y="361008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8"/>
            <p:cNvSpPr/>
            <p:nvPr/>
          </p:nvSpPr>
          <p:spPr>
            <a:xfrm>
              <a:off x="63115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9"/>
            <p:cNvSpPr/>
            <p:nvPr/>
          </p:nvSpPr>
          <p:spPr>
            <a:xfrm>
              <a:off x="6311520" y="367380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6286320" y="4857480"/>
              <a:ext cx="2403360" cy="638280"/>
            </a:xfrm>
            <a:prstGeom prst="rect">
              <a:avLst/>
            </a:prstGeom>
            <a:solidFill>
              <a:srgbClr val="c5c5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методист ММС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311520" y="593352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автор технологии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16" name="AutoShape 12"/>
            <p:cNvCxnSpPr/>
            <p:nvPr/>
          </p:nvCxnSpPr>
          <p:spPr>
            <a:xfrm flipH="1">
              <a:off x="2668680" y="1209240"/>
              <a:ext cx="151416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AutoShape 13"/>
            <p:cNvCxnSpPr/>
            <p:nvPr/>
          </p:nvCxnSpPr>
          <p:spPr>
            <a:xfrm>
              <a:off x="4632480" y="1209240"/>
              <a:ext cx="128088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14"/>
            <p:cNvCxnSpPr/>
            <p:nvPr/>
          </p:nvCxnSpPr>
          <p:spPr>
            <a:xfrm flipH="1">
              <a:off x="713880" y="2077560"/>
              <a:ext cx="13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AutoShape 15"/>
            <p:cNvCxnSpPr/>
            <p:nvPr/>
          </p:nvCxnSpPr>
          <p:spPr>
            <a:xfrm>
              <a:off x="713880" y="2077560"/>
              <a:ext cx="1080" cy="18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16"/>
            <p:cNvCxnSpPr/>
            <p:nvPr/>
          </p:nvCxnSpPr>
          <p:spPr>
            <a:xfrm>
              <a:off x="714240" y="295848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17"/>
            <p:cNvCxnSpPr/>
            <p:nvPr/>
          </p:nvCxnSpPr>
          <p:spPr>
            <a:xfrm>
              <a:off x="714240" y="395424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18"/>
            <p:cNvCxnSpPr/>
            <p:nvPr/>
          </p:nvCxnSpPr>
          <p:spPr>
            <a:xfrm>
              <a:off x="4727880" y="1988640"/>
              <a:ext cx="12168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19"/>
            <p:cNvCxnSpPr/>
            <p:nvPr/>
          </p:nvCxnSpPr>
          <p:spPr>
            <a:xfrm>
              <a:off x="4727520" y="2001600"/>
              <a:ext cx="52200" cy="42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0"/>
            <p:cNvCxnSpPr/>
            <p:nvPr/>
          </p:nvCxnSpPr>
          <p:spPr>
            <a:xfrm>
              <a:off x="4779360" y="295848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1"/>
            <p:cNvCxnSpPr/>
            <p:nvPr/>
          </p:nvCxnSpPr>
          <p:spPr>
            <a:xfrm>
              <a:off x="4727520" y="3954240"/>
              <a:ext cx="158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6" name="AutoShape 22"/>
            <p:cNvCxnSpPr/>
            <p:nvPr/>
          </p:nvCxnSpPr>
          <p:spPr>
            <a:xfrm>
              <a:off x="4779360" y="51163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23"/>
            <p:cNvCxnSpPr/>
            <p:nvPr/>
          </p:nvCxnSpPr>
          <p:spPr>
            <a:xfrm>
              <a:off x="4779360" y="62017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7FB-0B76-4677-82E7-E615F25CF99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85840" y="42876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1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з перечня востребованных тем методического аудита (инициатива специалиста МОУ ДПО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зучение запроса (реестр предложений, заказ-заявка от ОУ, заказ-план от департамен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концепции услуги (глоссарий, описание процедуры, локальный ак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Пользователь</cp:lastModifiedBy>
  <dcterms:modified xsi:type="dcterms:W3CDTF">2010-08-25T05:52:18Z</dcterms:modified>
  <cp:revision>242</cp:revision>
  <dc:subject/>
  <dc:title>Слайд 1</dc:title>
</cp:coreProperties>
</file>