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FF2-52BC-41D2-87C3-470ACE94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895-C3D7-45A7-967D-9734BFAC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A36-A96D-42D1-9814-A343AFF2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428-8013-4927-83B4-A6BD09DC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6FD1-CF86-47F1-8799-ECEF1E68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AF9C-45AF-420B-B19F-1A9C781C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A7C8-A28C-43A7-8CA9-5522F435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440B-2922-464F-AA36-A6A1D68E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75C0-7C16-499C-89F1-37C1C3A3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851D-A4A9-470C-8398-D237CB82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291A-DE77-44E2-85BA-C4E9B87A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E50-B9DF-4AE2-B561-DAEF49B4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BD0E-0DB3-48A3-8959-C3435D71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C3AF-441C-44A0-849F-7D54E710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99F7-529D-4461-9251-6B316689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7894-B74A-404C-B13A-34BA758C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CF78-9A02-4028-AE14-8CDF4CC3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227-69FF-4A53-B1E9-314A83B0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6D2C-9156-44B1-A8A7-C5FC5B6B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793-38FC-4F61-9000-613C82A0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68E-9FA0-407E-A5F9-94E824B0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B12-9C77-4CCA-AD28-C9117677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E6D-F524-471A-9CAB-88A29EDA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383-6FAC-4650-8618-68AA7944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681D-1FFC-4BAA-9887-140CBE19A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9010-EF4F-4FE7-8082-6B857DFA0D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0280"/>
            <a:ext cx="914400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62592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Мастерская </a:t>
            </a:r>
            <a:br>
              <a:rPr sz="4200"/>
            </a:b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по повести</a:t>
            </a:r>
            <a:r>
              <a:rPr b="1" lang="ru-RU" sz="4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Н.С. Лескова </a:t>
            </a:r>
            <a:br>
              <a:rPr sz="4200"/>
            </a:br>
            <a:r>
              <a:rPr b="1" lang="ru-RU" sz="4200" spc="-1" strike="noStrike">
                <a:solidFill>
                  <a:srgbClr val="ffcc00"/>
                </a:solidFill>
                <a:latin typeface="Arial"/>
              </a:rPr>
              <a:t>«Леди Макбет Мценского уезда»</a:t>
            </a:r>
            <a:endParaRPr b="0" lang="en-US" sz="4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45716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ahoma"/>
              </a:rPr>
              <a:t>Драма любви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3962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3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спомните предпосланный повести эпигра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чём, по-вашему, его смыс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нца нет жертвам, и они не впрок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ем больше их, тем более трево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У.Шекспир «Макбе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1229-88b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Воспоминание Н.С. Лескова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е становилось временами  невыносимо жутко, волос поднимался дыбом, я застывал при малейшем шорохе, который производил сам движением ноги или поворотом шеи. Это были тяжёлые минуты, которых мне не забыть никогда. С тех пор избегаю описания таких ужа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4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авните поведение Катерины Львовны и Серге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цене убийства Зиновия Измайлова (главы 7- 8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сцене убийства мальчика Феди Лямина (главы 9-11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допросах (глава 12 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каторге (главы 13-1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9734" descr=""/>
          <p:cNvPicPr/>
          <p:nvPr/>
        </p:nvPicPr>
        <p:blipFill>
          <a:blip r:embed="rId2"/>
          <a:stretch/>
        </p:blipFill>
        <p:spPr>
          <a:xfrm>
            <a:off x="2286000" y="152280"/>
            <a:ext cx="44355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281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5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чему повесть заканчивается ещё одним преступлением Катерины Измайловой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Задание 6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общего и чем отличаются Катерина Измайлов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 Катерина Кабанова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Художник русской души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был спасателем – всегда рядом с Достоевским и Толстым, чуть, правда, в стороне (то как бы отставая от них, то забегая вперёд), неоценённый и непризнанный до конца дней, поскольку на тяжкой дороге любви мешал ему  собственный темперамент: во всём «аффектация и пересол», торопливость и горячность самовыражения, во всём и всему – противоборство. На небосводе же русской литературы одинокая звезда его, наверное, ближе всего сошлась к звезде А.Н.Островск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.Басма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Творческая судьба повести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32 г. – композитор Д.Шостакович создал на материале повести оперу «Катерина Измайлов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1 г. – польский режиссёр А.Вайда снял фильм «Сибирская леди Макб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6 г. – режиссёр М.Шапиро снял фильм-оперу с Г.Вишневской в главной парт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79 г. – постановка А.Гончарова в Московском театре им. Вл. Маяковского «Леди Макбет Мценского уез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89 г. – режиссёр Р.Балаян создал фильм «Леди Макбет Мценского уез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1125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94 г. – режиссёр В.Тодоровский снял фильм «Подмосковные вечера», в котором история страсти Катерины Измайловой была перенесена в наше врем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Домашнее задани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52480"/>
                <a:tab algn="l" pos="952560"/>
                <a:tab algn="l" pos="113652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исьменно ответить на один из вопрос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276720"/>
            <a:ext cx="7238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Преступница или жер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терина Измай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Можно ли оправдать     преступление, совершён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2760" indent="-482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-за любв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cc"/>
                </a:solidFill>
                <a:latin typeface="Tahoma"/>
              </a:rPr>
              <a:t>Хроника жизни Н.С. Лескова</a:t>
            </a:r>
            <a:endParaRPr b="0" lang="en-US" sz="4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952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Родился 4 февраля 1831 г. в с.Горохове, Орловской губернии. Отец был заседателем Орловской уголовной палаты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В 1847-1849 гг. служил в Орловской палате уголовного суда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С 1849 по 1856 г. занимал различные должности в Киевской казённой палате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57 г. – поступление на службу в хозяйственно-коммерческую компанию. «Изъездил всю Россию в самых разнообразных направлениях», «собрал «большое обилие впечатлений и запас бытовых сведений»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61 г. – переезд в Петербург. Публикация первых рассказов, в основе которых лежат реальные события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Aft>
                <a:spcPts val="71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95 г. – кончина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leskov_1" descr=""/>
          <p:cNvPicPr/>
          <p:nvPr/>
        </p:nvPicPr>
        <p:blipFill>
          <a:blip r:embed="rId2"/>
          <a:stretch/>
        </p:blipFill>
        <p:spPr>
          <a:xfrm>
            <a:off x="203040" y="2057400"/>
            <a:ext cx="3530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История создания повести </a:t>
            </a:r>
            <a:br>
              <a:rPr sz="3600"/>
            </a:br>
            <a:r>
              <a:rPr b="1" lang="ru-RU" sz="3600" spc="-1" strike="noStrike">
                <a:solidFill>
                  <a:srgbClr val="ff66cc"/>
                </a:solidFill>
                <a:latin typeface="Tahoma"/>
              </a:rPr>
              <a:t>«Леди Макбет Мценского уезда»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95680" y="1371240"/>
            <a:ext cx="4648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здана в 1864 г. в Киеве в начале творческого пути Н.С.Лескова. Впервые напечатана в 1865 году в журнале «Эпоха», издаваемом братьями Ф. и М. Достоевскими, под названием «Леди Макбет нашего уезда». Имеет подзаголовок – «очерк». Писатель всегда настаивал на особом значении для его творчества факта, реального происшествия, от которого могло бы оттолкнуться воображение: «Я всегда люблю основывать дело на живом событии, а не на вымысл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8915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Чуть жизни ты подашь пример кровавы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Она тебе такой же даст ур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Ты в кубок яду льёшь, а справедлив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Подносит этот яд к твоим губ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i="1" lang="en-US" sz="2000" spc="-1" strike="noStrike">
                <a:solidFill>
                  <a:srgbClr val="ffcc00"/>
                </a:solidFill>
                <a:latin typeface="Tahoma"/>
              </a:rPr>
              <a:t>У. Шекспир «Макбет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Цели и задачи Мастерской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ать русскую драму, созревшую на почве косного, неподвижного б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ть крестный путь лесковской героин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явить сложность, неоднозначность народной души, непостижимость поведения простого человека с точки зрения разу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авнить судьбы Катерины Кабановой и Катерины Измайлово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66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едиться в том, что за любым преступлением неизбежно следует наказ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1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 чем ассоциируется у вас жизнь Катерины Львов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купеческом «тереме»? (глава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_15-ledi_makb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Tahoma"/>
              </a:rPr>
              <a:t>Задание 2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 зарождается любов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ак изображено автором захватившее героиню чувство? (глава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08-03-12T09:10:5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