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14E6-E686-4E5E-A6E8-60389DCF6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8E9D-A9FA-4C7B-95B8-F186E354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BC02-10BF-409B-A433-B983F9167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5F76-5183-48AD-84CA-496E933B0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E8C7-E56F-4513-902E-3C9BBD046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B763-79FC-45D7-AB26-77AAC2DC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3EA2-A6B2-42C6-8F5F-81468AF8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8D25-1A46-44D8-8ED0-23B25BA0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C786-F2BD-4E39-BAB8-9E961AD6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1493-6E6B-4CF3-B1DD-215408ED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096B-F508-4D9E-8BCB-145A652F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A8E9-8205-4602-A9D8-D9D6A24C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6CE9-01F6-44CF-916E-F25485C1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5F27-E714-4CBB-8F7A-F25621EF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9D7F-103B-4725-81C7-7D425D77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1876-9C1A-4377-9D83-6E9496874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817DF-5E21-464C-BBED-989896346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F775-5525-427C-AC97-DA4DDDC4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D1DD-11DD-437A-86A2-2A4D8D5F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3F73-0281-4670-9F28-07EB930A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455F-56F8-44C4-A6A5-28A26E2C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ADC3-E1BA-47E1-9BA7-9880BDF4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7E8D-DDA2-4F57-A434-410DC41E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2AAA-D38B-40FF-AD78-109C581E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08FE-162C-4D9B-B42A-3957D8B3E0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BA47-7D11-49E6-B6B4-D2EE02F256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Педагогическая технология «Школа социализации»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астерск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Технологические этап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«Афиширование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ывешивание произведений работ учащихся (текстов, рисунков, схем, проектов) в классе и ознакомление с ними. Представление результатов работы групп. Постановка вопросов друг другу по поводу выполненных заданий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Технологические этап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 «Разрыв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нутреннее осознание участников Мастерской неполноты или несоответствия своего прежнего знания новому. Фиксация внимания участников на возникших познавательных противоречиях. Организация работы учащихся в группах с источниками информации, позволяющими разрешить возникшие противореч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. «Рефлексия»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нициация и активизация рефлексии учащихся по поводу индивидуальной и совместной деятельност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Технологические этап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Литература по Мастерско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Ерёмина Т.Я. Мастерские по литературе. 10-й класс. Метод. пособие. СПб.,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Ерёмина Т.Я. Мастерские по литературе. 11-й класс. Метод. пособие. СПб.,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зовательн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казать разрушительный процесс, который происходит в душе главной героини пове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вторить понятия : «лейтмотив», «натуральная школа», «контрас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бнаружить ряд сюжетных параллелей в драме А.Н.Островского «Гроза» и в повести Н.С.Лескова «Леди Макбет Мценского уезда» и на основе их сравнить характеры двух героинь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братить внимание на своеобразие развязки сюж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доказать актуальность пов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Цели и задачи Мастерско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Цели и задачи Мастерско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вивающ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формировать готовность к социальному взаимодейств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развивать устную речь, творческие возмож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учить представлять и цивилизованно отстаивать свою точку зрения и мнение групп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способствовать умению анализировать нестандартные ситуации и соотносить их с устремлениями других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Цели и задачи Мастерско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спитательн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тметить актуальность повести (отказ от новорождённого младенца; превращение свободы, не знающей нравственных ограничений, в свою противоположность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раскрыть нравственную непросветвлённость чувства Катерины Измайловой, толкающего её на страшные преступ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тература по повести Н.С.Лескова «Леди Макбет Мценского уезд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Вишневская И. Великое инакомыслие. // Комсомольская правда. - 16 февраля 199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Лебедев Ю.В.Николай Семёнович Лесков // Литература в школе. – 2000. -№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Столярова И.В. В поисках идеала (Творчество Н.С.Лескова). Л.,197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Учамбрина Н.С.Лесков. «Леди Макбет Мценского уезда».10 класс. // Литература в школе. – 2008. - №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Чередникова М.П. Открытие Лескова // Литература в школе.  1991. – №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История Мастерских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о «мастерская» появилось в отечественной педагогике в начале 90-х годов 20 в. как термин французской группы «Новое образование». У истоков этой системы обучения стояли знаменитые психологи  Поль Ланжеван, Анри Валлон, Жан Пиаж. Слово это обозначает новый тип занятия, основанный на гуманистической философ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оследние годы технологию называют не «французскими», а  «петербургскими педагогическими мастерски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Определение и цели Мастерской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терская - педагогическая технология, которая по своей специфике основывается на тех целях, использует те средства образования и воспитания, которые стратегией модернизации образования отмечаются как важнейш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и : ученик должен действовать автономно и рефлексивно; использовать различные средства интерактивно; входить в социально-гетерогенные группы и функционировать в 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целевая ориентация заключается в том, чтобы предоставить обучающимся средства, позволяющие им личностно саморазвиваться, осознавать самих себя и свое место в мире, понимать други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Типы Мастерских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построения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творческого пись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ценностных ориент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по самопозн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собенности Мастерско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с текстом на мастерских позволяет школьный анализ произведения представить как лично и общественно (для группы или класса) значимое д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стерская включает в себя ряд заданий для учащихся, которые способствуют определенному движению в предметном плане. Внутри каждого задания школьники свободны в выборе способов выполнения. Позиция учителя состоит в консультировании учащихся, помощи им в организации учебной работы и осмыслении осваиваемых способов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Технологические этап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«Индукция»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здание эмоционального настроя, включение чувств ученика, создание личного отношения к предмету обсуждения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Технологические этап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 «Самоконструкция»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Индивидуальное создание гипотезы, решения, текста, рисунка,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000" y="1413000"/>
            <a:ext cx="8140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. «Социоконструкц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бота учащихся в группах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Технологические этап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Технологические этап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«Социализац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едъявление созданного продукта всем участникам, соединение индивидуальных результат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21:27:42Z</dcterms:created>
  <dc:creator>777</dc:creator>
  <dc:description/>
  <dc:language>en-US</dc:language>
  <cp:lastModifiedBy>777</cp:lastModifiedBy>
  <dcterms:modified xsi:type="dcterms:W3CDTF">2010-08-24T05:18:38Z</dcterms:modified>
  <cp:revision>11</cp:revision>
  <dc:subject/>
  <dc:title>Технология «Школа социализации»</dc:title>
</cp:coreProperties>
</file>