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6D6F-DF7E-4555-B36F-46F6D9E6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C5F2-9A86-4FD5-89E1-60C200BA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E916-0816-47D2-B01E-A77E75585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09A-C1D2-499C-BE8E-0E98BDAC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ED44-293D-4DA9-86D0-E74D6789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2BB-F314-49D8-8FBB-3D4F26DC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B1DD-593F-4F5E-8D0E-6481AD20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5FCF-2C9D-435D-B830-14215CFD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5920-B237-420B-8662-6B9D9AAD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5286-E1F5-4D9A-B25D-7B88299F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DA30-E192-4DD1-8549-BACBE640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76F2-6F4B-454E-BDB8-88417359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67A6-D81A-448A-9C4F-65F397DB7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55;&#1086;&#1083;&#1086;&#1078;&#1077;&#1085;&#1080;&#1077;%20&#1086;%20&#1090;&#1074;&#1086;&#1088;&#1095;&#1077;&#1089;&#1082;&#1086;&#1081;%20&#1075;&#1088;&#1091;&#1087;&#1087;&#1077;-&#1086;&#1088;&#1080;&#1075;&#1080;&#1085;&#1072;&#1083;.doc" TargetMode="Externa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реализации муниципального проекта «Внедрение ИК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чебный процес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46483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ута С.А., заведующая районным методическим кабинетом Управления образования Любимского М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08.201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457200"/>
            <a:ext cx="838224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304920"/>
            <a:ext cx="2971800" cy="5410080"/>
          </a:xfrm>
          <a:prstGeom prst="downArrow">
            <a:avLst>
              <a:gd name="adj1" fmla="val 50000"/>
              <a:gd name="adj2" fmla="val 455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62520" y="533520"/>
            <a:ext cx="1600200" cy="60948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24480" y="533520"/>
            <a:ext cx="1600200" cy="53316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е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1371600"/>
            <a:ext cx="2209680" cy="99072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ппа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челов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в рамках М.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2971800"/>
            <a:ext cx="1371600" cy="60948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1371600"/>
            <a:ext cx="2057400" cy="114300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руппа педаг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челов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в рамках М.О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2743200"/>
            <a:ext cx="1828800" cy="99072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м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Гидросфе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9 кла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2680" y="457200"/>
            <a:ext cx="25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Выбор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3400" y="1523880"/>
            <a:ext cx="30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Формирование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4648320"/>
            <a:ext cx="6324480" cy="160020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ниципальный банк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3760" y="2895480"/>
            <a:ext cx="27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Выбор темы/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5200" y="4648320"/>
            <a:ext cx="17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4572000"/>
            <a:ext cx="5334120" cy="1066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диное  учебно-тематическое 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технологические карты уро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6095880"/>
            <a:ext cx="533160" cy="304920"/>
          </a:xfrm>
          <a:custGeom>
            <a:avLst/>
            <a:gdLst>
              <a:gd name="textAreaLeft" fmla="*/ 19440 w 533160"/>
              <a:gd name="textAreaRight" fmla="*/ 513720 w 5331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49" h="21600">
                <a:moveTo>
                  <a:pt x="0" y="0"/>
                </a:moveTo>
                <a:lnTo>
                  <a:pt x="37749" y="0"/>
                </a:lnTo>
                <a:lnTo>
                  <a:pt x="37749" y="21600"/>
                </a:lnTo>
                <a:lnTo>
                  <a:pt x="0" y="21600"/>
                </a:lnTo>
                <a:close/>
              </a:path>
              <a:path fill="lightenLess" w="37749" h="21600">
                <a:moveTo>
                  <a:pt x="0" y="0"/>
                </a:moveTo>
                <a:lnTo>
                  <a:pt x="37749" y="0"/>
                </a:lnTo>
                <a:lnTo>
                  <a:pt x="36349" y="1400"/>
                </a:lnTo>
                <a:lnTo>
                  <a:pt x="1400" y="1400"/>
                </a:lnTo>
                <a:close/>
              </a:path>
              <a:path fill="darken" w="37749" h="21600">
                <a:moveTo>
                  <a:pt x="37749" y="0"/>
                </a:moveTo>
                <a:lnTo>
                  <a:pt x="37749" y="21600"/>
                </a:lnTo>
                <a:lnTo>
                  <a:pt x="36349" y="20200"/>
                </a:lnTo>
                <a:lnTo>
                  <a:pt x="36349" y="1400"/>
                </a:lnTo>
                <a:close/>
              </a:path>
              <a:path fill="darkenLess" w="37749" h="21600">
                <a:moveTo>
                  <a:pt x="37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49" y="20200"/>
                </a:lnTo>
                <a:close/>
              </a:path>
              <a:path fill="lighten" w="37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49" h="21600">
                <a:moveTo>
                  <a:pt x="11868" y="10800"/>
                </a:moveTo>
                <a:lnTo>
                  <a:pt x="25881" y="3794"/>
                </a:lnTo>
                <a:lnTo>
                  <a:pt x="2588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2296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Тематический пл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1371600"/>
          <a:ext cx="8382240" cy="2208240"/>
        </p:xfrm>
        <a:graphic>
          <a:graphicData uri="http://schemas.openxmlformats.org/drawingml/2006/table">
            <a:tbl>
              <a:tblPr/>
              <a:tblGrid>
                <a:gridCol w="1067040"/>
                <a:gridCol w="990360"/>
                <a:gridCol w="1828800"/>
                <a:gridCol w="1752840"/>
                <a:gridCol w="1523880"/>
                <a:gridCol w="1219320"/>
              </a:tblGrid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№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к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льтиме-дийные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К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нет-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иона-льное храни-лищ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о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-риа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685440" y="3809880"/>
            <a:ext cx="23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ка 7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7520" y="487692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еография «Гидросфе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05920" y="56386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66d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Модель расчета эффектив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(научность, наглядность, доступность 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500" spc="-1" strike="noStrike">
                <a:solidFill>
                  <a:srgbClr val="cc0000"/>
                </a:solidFill>
                <a:latin typeface="Arial"/>
              </a:rPr>
              <a:t>Результа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c0000"/>
                </a:solidFill>
                <a:latin typeface="Arial"/>
              </a:rPr>
              <a:t>____________________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500" spc="-1" strike="noStrike">
                <a:solidFill>
                  <a:srgbClr val="cc0000"/>
                </a:solidFill>
                <a:latin typeface="Arial"/>
              </a:rPr>
              <a:t>затрат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(временные, физические, материальные, …)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(планы уроков, дидактический материал и т.п.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реализации муниципального проекта «Внедрение ИКТ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чебный процес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120" y="4648320"/>
            <a:ext cx="80773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ута С.А., заведующая районным методическим кабинетом Управления образования Любимского М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.08.201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уктура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219320"/>
            <a:ext cx="1828800" cy="83808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2819520"/>
            <a:ext cx="1828800" cy="99036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еб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4648320"/>
            <a:ext cx="1828800" cy="914400"/>
          </a:xfrm>
          <a:prstGeom prst="rect">
            <a:avLst/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ед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95680" y="2057400"/>
            <a:ext cx="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809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04920" y="304920"/>
          <a:ext cx="8534160" cy="6275160"/>
        </p:xfrm>
        <a:graphic>
          <a:graphicData uri="http://schemas.openxmlformats.org/drawingml/2006/table">
            <a:tbl>
              <a:tblPr/>
              <a:tblGrid>
                <a:gridCol w="3200400"/>
                <a:gridCol w="1828800"/>
                <a:gridCol w="2181240"/>
                <a:gridCol w="1323720"/>
              </a:tblGrid>
              <a:tr h="67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дро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о-техн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о-метод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-цио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</a:tr>
              <a:tr h="56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ьюторов –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дагогов – 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ект ИСО (36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ение для будущего    (67 чел)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тнерство в образовании (10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«Современные 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образо-вательные</a:t>
                      </a:r>
                      <a:r>
                        <a:rPr b="0" lang="ru-RU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179280" indent="324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Постоянно действующие семин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Использование И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Муниципальный проект по СОТ (9 шко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 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Ц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 комп.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проектора, принтер-сканер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ноутбу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колы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ключение к Интерн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еличение кол-ва компьютеров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о проект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овременные образовательные технолог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тернет, коллекция цифровых образовательных ресурсов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меро-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1676520" y="38862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66d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вышение квалифик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95400" y="1771560"/>
          <a:ext cx="730728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771560"/>
                    <a:ext cx="730728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8305920" y="56386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10813"/>
                </a:moveTo>
                <a:lnTo>
                  <a:pt x="17806" y="3806"/>
                </a:lnTo>
                <a:lnTo>
                  <a:pt x="17806" y="17819"/>
                </a:lnTo>
                <a:close/>
              </a:path>
            </a:pathLst>
          </a:custGeom>
          <a:solidFill>
            <a:srgbClr val="66d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80880" y="457200"/>
          <a:ext cx="8382240" cy="556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57200"/>
                    <a:ext cx="838224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3"/>
          <a:srcRect l="46875" t="63543" r="25003" b="29168"/>
          <a:stretch/>
        </p:blipFill>
        <p:spPr>
          <a:xfrm>
            <a:off x="3505320" y="1676520"/>
            <a:ext cx="2743200" cy="39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153280" y="54864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d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838080"/>
            <a:ext cx="8305920" cy="49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2860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80040" y="1177920"/>
            <a:ext cx="8082720" cy="5055480"/>
            <a:chOff x="680040" y="1177920"/>
            <a:chExt cx="8082720" cy="5055480"/>
          </a:xfrm>
        </p:grpSpPr>
        <p:sp>
          <p:nvSpPr>
            <p:cNvPr id="64" name=""/>
            <p:cNvSpPr/>
            <p:nvPr/>
          </p:nvSpPr>
          <p:spPr>
            <a:xfrm>
              <a:off x="3674160" y="2675520"/>
              <a:ext cx="2294640" cy="5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оектное обуч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в т.ч. на основе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tel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77760" y="2301480"/>
              <a:ext cx="1098000" cy="28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Дебат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67640" y="2675520"/>
              <a:ext cx="159588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КЧМП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040" y="2769480"/>
              <a:ext cx="1595880" cy="46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Разновозрастное обучени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77680" y="4172760"/>
              <a:ext cx="2294640" cy="560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едарев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02520" y="4964400"/>
              <a:ext cx="2294280" cy="56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улаков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01080" y="5671080"/>
              <a:ext cx="2293200" cy="5623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Чёрнов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869080" y="4641840"/>
              <a:ext cx="2294280" cy="560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илиппов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70320" y="3518280"/>
              <a:ext cx="2294280" cy="56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юбимская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468480" y="1458720"/>
              <a:ext cx="2294280" cy="5612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Закобякинская С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73680" y="1365480"/>
              <a:ext cx="2294280" cy="560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Ермаковская С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378440" y="1177920"/>
              <a:ext cx="2294640" cy="561240"/>
            </a:xfrm>
            <a:prstGeom prst="ellipse">
              <a:avLst/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Любимская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С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77680" y="3423960"/>
              <a:ext cx="2294640" cy="5630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Бармановская  ОО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971240" y="1926720"/>
              <a:ext cx="720" cy="748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74920" y="1645920"/>
              <a:ext cx="897480" cy="1029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75760" y="1739520"/>
              <a:ext cx="897120" cy="9360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76440" y="1739520"/>
              <a:ext cx="720" cy="56412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76920" y="1739520"/>
              <a:ext cx="1080" cy="5641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1378080" y="1645920"/>
              <a:ext cx="399240" cy="112320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76840" y="3237480"/>
              <a:ext cx="189720" cy="2379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478880" y="3237480"/>
              <a:ext cx="498960" cy="105084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79360" y="3237480"/>
              <a:ext cx="698400" cy="18925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80200" y="3237480"/>
              <a:ext cx="942840" cy="265212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763080" y="3237480"/>
              <a:ext cx="110160" cy="280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3896640" y="3237480"/>
              <a:ext cx="375840" cy="1050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3929040" y="3237480"/>
              <a:ext cx="642600" cy="18720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569560" y="1977840"/>
              <a:ext cx="1488960" cy="697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5469120" y="3237120"/>
              <a:ext cx="399240" cy="280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7066800" y="3143520"/>
              <a:ext cx="399240" cy="4680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65120" y="3143520"/>
              <a:ext cx="720" cy="152964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72080" y="3237480"/>
              <a:ext cx="1196640" cy="1684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65120" y="2019960"/>
              <a:ext cx="0" cy="6552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3996360" y="3237480"/>
              <a:ext cx="675000" cy="26312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73920" y="1645920"/>
              <a:ext cx="3592440" cy="102924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хема реализации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4240" y="5638680"/>
            <a:ext cx="214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4680" y="5791320"/>
            <a:ext cx="36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- - банк методических разработ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05920" y="62485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d0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79600" y="716040"/>
            <a:ext cx="423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9080" y="1771200"/>
            <a:ext cx="753768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Реализовано 15 проектов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Издана брошюра с опытом работы Бармановской школ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Разработаны учебно-тематические планы и конспекты урок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Выпуск диска «Образование в Любимском районе: опыт и перспективы развития»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№ 53 от 11.08.2008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155232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ратегическая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ышение эффектив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ьзования ИКТ в учебном процес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809880"/>
            <a:ext cx="8915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онкретная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ормирование информационно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разовательных ресурсов для учи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еографии и физ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лан работы на 2008, 2009 г.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80880" y="1143000"/>
          <a:ext cx="8305920" cy="4876920"/>
        </p:xfrm>
        <a:graphic>
          <a:graphicData uri="http://schemas.openxmlformats.org/drawingml/2006/table">
            <a:tbl>
              <a:tblPr/>
              <a:tblGrid>
                <a:gridCol w="3505320"/>
                <a:gridCol w="4800600"/>
              </a:tblGrid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жидаемые результат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d0f6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 творческих групп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Положение</a:t>
                      </a:r>
                      <a:r>
                        <a:rPr b="0" lang="en-US" sz="2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о творческой групп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ческие группы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седание рабочей группы, консультация научных руководителе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Учебно-тематический пла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ческая карта урока:</a:t>
                      </a:r>
                      <a:r>
                        <a:rPr b="0" lang="en-US" sz="21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физика, географ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Модель расчета эффективност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инары-практикумы </a:t>
                      </a:r>
                      <a:br>
                        <a:rPr sz="2100"/>
                      </a:b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о предметам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еофрагменты уроков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ие рекомендации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кет документов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ный и областной конкурс учебных проектов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ебные проекты (муниципальный банк данных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мута С.А.</cp:lastModifiedBy>
  <dcterms:modified xsi:type="dcterms:W3CDTF">2010-08-23T05:55:12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