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7733-E1A1-4676-9330-07AB84F5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AD42-1182-4746-BD80-13B43AA2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61C-012D-492D-8CC8-CB5930A7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AB76-92D7-4988-B5D8-1E18053F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BCD2-CF7F-4F7D-B9D6-D7F0ED58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8B75-15D2-457E-88DB-D4EE2185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3439-94A5-4E13-856B-E167B1AC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2B43-1872-4D80-B792-7835B146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CC92-A1AB-4F8F-A93B-ADDF8974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69BD-7365-4BAC-9DA6-8D77DB14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F86B-B61E-414E-9409-E0EA62B6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D62D-C063-4C8B-88A2-B7E42073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D909-D7DF-4098-B50C-81F9F91F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93E8-8468-479C-836E-A2E01C8C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B09D-DB2A-4EBF-BFFD-D7237E90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E67F-12EF-4243-BFED-40C1DDE5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1B29-4913-46FA-AEEB-BA46D218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3487B2-8210-48BD-9AAC-49CF84F4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559BE-00E4-4A4D-AEB9-09BAD97E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409B4-66DD-47F9-BC3B-B40E50C0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A34DC-E7D4-4467-B6D7-040B1541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2603D-5377-4D33-8070-B1B5C7BC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1604-8E42-49AB-A3E2-C303F7A2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766978-8DE7-4644-98D3-3A21E787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6E58AC-8A50-426F-B9FE-B0B46E0A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867528-5C6B-4562-BFC5-23B28CE6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13C84E-3CF2-43C2-8E28-48BA20B9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F5FA58-3DD3-4CFE-891E-879E2C64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70671-D019-423B-86DC-641130AB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90C6AB-E62E-455D-AAD6-C4D58DEB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FAF90-EF85-4DAA-B482-8D313F72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FC83B-A8DB-4BB5-8DED-AA0B7EEC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65A60-1F6E-402F-87D3-6CFFBF4F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D476-1CF6-4F62-8D0E-4843BC41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510E5-B96F-48D2-B253-5C869A0C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40F5A-1F9F-4383-B10E-4AF07634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3057A-6440-4F12-A729-A9019AE5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5AD04-4C89-46AC-B6D8-889A59F1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2707F-5FF6-4116-9812-F1073360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9A9CD-3B48-4E12-B701-435B203F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89169-8AD9-437E-B247-216D0900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CADA6-7C05-4A88-8A5E-9682F32B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FCEB8-4559-4B4B-892A-56E147F7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0BFAA5-1150-40D9-8783-DDC92F57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88D-066D-4199-86FF-BB77E965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8E5A37-2344-4B2D-BC50-F2DADCDE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34C42E-0E99-4A0B-95C6-2B05B509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FF8966-082C-4076-98F2-C68BA6A0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A883D9-B5CB-4CC4-B645-9F57C0C7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09B50F-CD4E-454B-AC3C-BAA3A788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26E22D-FECC-499E-A365-11C9FBFE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631BE3-CC68-4C96-B622-E44BDFFF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4F700D-32D3-415B-B9EA-561C8D68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BF2357-C0C2-4C5E-B6BA-41585845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9ED793-F135-433B-A6CD-D8C4AC06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CFB-111E-48FE-B90E-9FF038B2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8C8608-7CC3-468B-86FB-0B49FDE2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27F547-B8A8-44FF-9B50-A90288AC3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91608A-8F76-426E-AB83-5902EEE8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A0A7E3-B1EA-4910-BA07-52E18CC8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6C20B2-4A5A-449F-AE26-42B00DF8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A5017C-2851-44D7-815A-35D42F41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8FE5EF-5413-4EB8-AE9A-2299319B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F05F95-A7DE-4A12-BACF-7F8BD66A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4D1DDA-002B-4A8F-9C25-1339D3D3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5E8DF7-7F86-489E-9160-30B6749F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2B63-1148-4DEB-BAAD-5E66EED4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63C38-F02D-4171-AF96-5F39EE9A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ADFD9F-AC6F-498D-8F7C-FC09599D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371DA8-50BD-4BB1-B896-FD6AC879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AB9930-F708-4339-B5D6-92B4EF24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00C15D-0254-491C-BC83-482CCB5D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A0E438-8939-46CA-AE76-C46358FE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2A7B84-C6F5-4B29-B409-17C45F23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96EB19-230D-4A51-A1C8-F18431CE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2FD3B4-E890-4C68-98AB-F4AFF4F8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927136-75D8-4CC4-A873-B8A29683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3F1-4560-4946-9900-557462C3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D06C7B-6ED2-497A-B0D5-F551F62F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C66157-9314-4CCF-9D11-83E17458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0EC95A-AC14-4137-BEC9-D99FF0BB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18A617-32CD-426D-864D-76ABE024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B29B47-C0F7-4444-9974-44273908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32BE-517B-49AC-B6BF-D98A5965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2A19-47B9-4C2F-9C8A-8C2B6B228E5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240E-F0FD-4420-AD68-48A46EC4AA9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BD7A-27A8-4806-8A59-23BF9DB2678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AFF8-6D94-4D1D-8018-81428D4D43A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955C-E9DC-497C-B6C1-72393704470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2650-0E61-4598-9F5D-2728EC4F6C2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9914-7F72-4069-84EA-BC4F9080743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48;&#1054;&#1052;%20&#1052;&#1072;&#1083;&#1086;&#1074;&#1086;&#1081;%20&#1070;&#1083;&#1080;.doc" TargetMode="External"/><Relationship Id="rId2" Type="http://schemas.openxmlformats.org/officeDocument/2006/relationships/hyperlink" Target="file:///&#1048;&#1054;&#1052;%20&#1052;&#1072;&#1083;&#1086;&#1074;&#1086;&#1081;%20&#1070;&#1083;&#1080;.doc" TargetMode="External"/><Relationship Id="rId3" Type="http://schemas.openxmlformats.org/officeDocument/2006/relationships/hyperlink" Target="file:///&#1048;&#1054;&#1052;%20&#1052;&#1072;&#1083;&#1086;&#1074;&#1086;&#1081;%20&#1070;&#1083;&#1080;.doc" TargetMode="External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23640" y="571680"/>
            <a:ext cx="482436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en-US" sz="2800" spc="-1" strike="noStrike">
                <a:solidFill>
                  <a:srgbClr val="5a160b"/>
                </a:solidFill>
                <a:latin typeface="Century Schoolbook"/>
              </a:rPr>
              <a:t>ИНДИВИДУАЛЬНАЯ ОБРАЗОВАТЕЛЬНАЯ ДЕЯТЕЛЬНОСТЬ УЧАЩИХСЯ СТАРШИХ КЛАССОВ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356920" y="4500360"/>
            <a:ext cx="6172200" cy="187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4583"/>
                </a:solidFill>
                <a:latin typeface="Century Schoolbook"/>
              </a:rPr>
              <a:t>Автор – классный руководитель 11 класса Махаева Любовь Борисов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4" descr="IMG_9087"/>
          <p:cNvPicPr/>
          <p:nvPr/>
        </p:nvPicPr>
        <p:blipFill>
          <a:blip r:embed="rId1"/>
          <a:srcRect l="3643" t="9709" r="0" b="0"/>
          <a:stretch/>
        </p:blipFill>
        <p:spPr>
          <a:xfrm>
            <a:off x="5000760" y="714240"/>
            <a:ext cx="37814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62110"/>
                </a:solidFill>
                <a:latin typeface="Century Schoolbook"/>
              </a:rPr>
              <a:t>СПАСИБО </a:t>
            </a:r>
            <a:br>
              <a:rPr sz="4800"/>
            </a:br>
            <a:r>
              <a:rPr b="1" lang="en-US" sz="4800" spc="-1" strike="noStrike">
                <a:solidFill>
                  <a:srgbClr val="862110"/>
                </a:solidFill>
                <a:latin typeface="Century Schoolbook"/>
              </a:rPr>
              <a:t>ЗА ВНИМАНИЕ!</a:t>
            </a:r>
            <a:br>
              <a:rPr sz="4800"/>
            </a:b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ДИАГНОСТИЧЕСКАЯ ФУНКЦ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Учет интересов и склонностей обучающегос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Анализ сильных и слабых сторон личнос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Анализ учебных достижений и возможносте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Готовность к профессиональному самоопределению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Определение заказа родителе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000080"/>
            <a:ext cx="746748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ФУНКЦИЯ </a:t>
            </a:r>
            <a:br>
              <a:rPr sz="4300"/>
            </a:br>
            <a:r>
              <a:rPr b="1" lang="en-US" sz="43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ПРОГНОЗИРОВАНИЯ</a:t>
            </a:r>
            <a:br>
              <a:rPr sz="4300"/>
            </a:br>
            <a:r>
              <a:rPr b="1" lang="en-US" sz="43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 И </a:t>
            </a:r>
            <a:br>
              <a:rPr sz="4300"/>
            </a:br>
            <a:r>
              <a:rPr b="1" lang="en-US" sz="4300" spc="-1" strike="noStrike">
                <a:solidFill>
                  <a:srgbClr val="862110"/>
                </a:solidFill>
                <a:latin typeface="Times New Roman"/>
                <a:ea typeface="Times New Roman"/>
              </a:rPr>
              <a:t>ПРОЕКТИРОВАНИЯ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Овал 3"/>
          <p:cNvSpPr/>
          <p:nvPr/>
        </p:nvSpPr>
        <p:spPr>
          <a:xfrm>
            <a:off x="285840" y="285840"/>
            <a:ext cx="3429000" cy="171432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Определение последовательности сроков и средств ре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4"/>
          <p:cNvSpPr/>
          <p:nvPr/>
        </p:nvSpPr>
        <p:spPr>
          <a:xfrm>
            <a:off x="285840" y="2286000"/>
            <a:ext cx="3714840" cy="171468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Составление программы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Овал 5"/>
          <p:cNvSpPr/>
          <p:nvPr/>
        </p:nvSpPr>
        <p:spPr>
          <a:xfrm>
            <a:off x="500040" y="4429080"/>
            <a:ext cx="3500640" cy="200016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Выбор предметов для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6"/>
          <p:cNvSpPr/>
          <p:nvPr/>
        </p:nvSpPr>
        <p:spPr>
          <a:xfrm>
            <a:off x="5357880" y="285840"/>
            <a:ext cx="2928960" cy="14288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Индивидуальный образовательный маршр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7"/>
          <p:cNvSpPr/>
          <p:nvPr/>
        </p:nvSpPr>
        <p:spPr>
          <a:xfrm>
            <a:off x="5357880" y="2357280"/>
            <a:ext cx="2857320" cy="15004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Schoolbook"/>
              </a:rPr>
              <a:t>Индивидуальная образователь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8"/>
          <p:cNvSpPr/>
          <p:nvPr/>
        </p:nvSpPr>
        <p:spPr>
          <a:xfrm>
            <a:off x="5429160" y="4500720"/>
            <a:ext cx="2714760" cy="15001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Индивидуальный учебный п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Стрелка вверх 9"/>
          <p:cNvSpPr/>
          <p:nvPr/>
        </p:nvSpPr>
        <p:spPr>
          <a:xfrm>
            <a:off x="2071800" y="3857760"/>
            <a:ext cx="412560" cy="642960"/>
          </a:xfrm>
          <a:prstGeom prst="upArrow">
            <a:avLst>
              <a:gd name="adj1" fmla="val 50000"/>
              <a:gd name="adj2" fmla="val 50022"/>
            </a:avLst>
          </a:prstGeom>
          <a:solidFill>
            <a:srgbClr val="86211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трелка вверх 10"/>
          <p:cNvSpPr/>
          <p:nvPr/>
        </p:nvSpPr>
        <p:spPr>
          <a:xfrm>
            <a:off x="2000160" y="1928880"/>
            <a:ext cx="412920" cy="642960"/>
          </a:xfrm>
          <a:prstGeom prst="upArrow">
            <a:avLst>
              <a:gd name="adj1" fmla="val 50000"/>
              <a:gd name="adj2" fmla="val 49979"/>
            </a:avLst>
          </a:prstGeom>
          <a:solidFill>
            <a:srgbClr val="86211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Стрелка вправо 11"/>
          <p:cNvSpPr/>
          <p:nvPr/>
        </p:nvSpPr>
        <p:spPr>
          <a:xfrm>
            <a:off x="3571920" y="642960"/>
            <a:ext cx="1928880" cy="6984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86211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Schoolbook"/>
              </a:rPr>
              <a:t>констру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Стрелка вправо 13"/>
          <p:cNvSpPr/>
          <p:nvPr/>
        </p:nvSpPr>
        <p:spPr>
          <a:xfrm>
            <a:off x="3500280" y="4929120"/>
            <a:ext cx="2143440" cy="7858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86211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Schoolbook"/>
              </a:rPr>
              <a:t>прогноз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трелка вправо 14"/>
          <p:cNvSpPr/>
          <p:nvPr/>
        </p:nvSpPr>
        <p:spPr>
          <a:xfrm>
            <a:off x="3500280" y="2786040"/>
            <a:ext cx="2071800" cy="6271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86211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Schoolbook"/>
              </a:rPr>
              <a:t>проект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71400"/>
            <a:ext cx="77580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1"/>
              </a:rPr>
              <a:t>ИНДИВИДУАЛЬНЫЙ ОБРАЗОВАТЕЛЬНЫЙ</a:t>
            </a:r>
            <a:r>
              <a:rPr b="0" lang="en-US" sz="48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2"/>
              </a:rPr>
              <a:t> маршрут</a:t>
            </a:r>
            <a:r>
              <a:rPr b="0" lang="en-US" sz="4800" spc="-1" strike="noStrike" u="sng">
                <a:solidFill>
                  <a:srgbClr val="d2611c"/>
                </a:solidFill>
                <a:uFillTx/>
                <a:latin typeface="Times New Roman"/>
                <a:ea typeface="Times New Roman"/>
                <a:hlinkClick r:id="rId3"/>
              </a:rPr>
              <a:t> ОБУЧАЮЩЕГОСЯ 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6211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862110"/>
                </a:solidFill>
                <a:latin typeface="Century Schoolbook"/>
              </a:rPr>
              <a:t>РОДИТЕЛИ -</a:t>
            </a:r>
            <a:r>
              <a:rPr b="1" lang="en-US" sz="3600" spc="-1" strike="noStrike">
                <a:solidFill>
                  <a:srgbClr val="862110"/>
                </a:solidFill>
                <a:latin typeface="Century Schoolbook"/>
              </a:rPr>
              <a:t> </a:t>
            </a:r>
            <a:r>
              <a:rPr b="1" lang="ru-RU" sz="3600" spc="-1" strike="noStrike">
                <a:solidFill>
                  <a:srgbClr val="862110"/>
                </a:solidFill>
                <a:latin typeface="Century Schoolbook"/>
              </a:rPr>
              <a:t>УЧАСТНИКИ ПРОГРАММЫ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928520"/>
            <a:ext cx="746748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Уточнение будущей профессии, учебного заведения(ВУЗ, СУЗ, ПУ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Знакомство с  рынком профессий Ярославской обла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Уточнение предметов, требующих углуб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Знакомство с уровнем возможностей и уровнем обученности по каждому предмету, с рекомендациями для успешности достижения цел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онсультирование по составлению индивидуальной образовательной програм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Schoolbook"/>
              </a:rPr>
              <a:t>                  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2110"/>
                </a:solidFill>
                <a:latin typeface="Century Schoolbook"/>
              </a:rPr>
              <a:t>РАЗВИВАЮЩАЯ ФУНКЦ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Оказывать помощь и поддержку ученику 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физическом развит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психическом развит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социально-личностном развит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духовно-нравственном воспитании и развит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трудовом воспитании и развит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5" descr="IMG_7916"/>
          <p:cNvPicPr/>
          <p:nvPr/>
        </p:nvPicPr>
        <p:blipFill>
          <a:blip r:embed="rId1"/>
          <a:stretch/>
        </p:blipFill>
        <p:spPr>
          <a:xfrm>
            <a:off x="755640" y="1413000"/>
            <a:ext cx="7056360" cy="5292720"/>
          </a:xfrm>
          <a:prstGeom prst="rect">
            <a:avLst/>
          </a:prstGeom>
          <a:ln w="0">
            <a:noFill/>
          </a:ln>
        </p:spPr>
      </p:pic>
      <p:sp>
        <p:nvSpPr>
          <p:cNvPr id="374" name="Заголовок 1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2110"/>
                </a:solidFill>
                <a:latin typeface="Arial"/>
              </a:rPr>
              <a:t>Победители конкурсов и олимпи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862110"/>
                </a:solidFill>
                <a:latin typeface="Century Schoolbook"/>
              </a:rPr>
              <a:t>КООРДИНАЦИОННАЯ</a:t>
            </a:r>
            <a:r>
              <a:rPr b="0" lang="en-US" sz="4000" spc="-1" strike="noStrike">
                <a:solidFill>
                  <a:srgbClr val="862110"/>
                </a:solidFill>
                <a:latin typeface="Century Schoolbook"/>
              </a:rPr>
              <a:t> </a:t>
            </a:r>
            <a:r>
              <a:rPr b="1" lang="en-US" sz="4000" spc="-1" strike="noStrike">
                <a:solidFill>
                  <a:srgbClr val="862110"/>
                </a:solidFill>
                <a:latin typeface="Century Schoolbook"/>
              </a:rPr>
              <a:t>ФУНКЦИЯ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928520"/>
            <a:ext cx="746748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Классный руководитель организует встречи с учителями-предметниками, психологом школы, социальными партнёрами, специалистами в системе дополнительного образования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7:35:57Z</dcterms:created>
  <dc:creator>UserN</dc:creator>
  <dc:description/>
  <dc:language>en-US</dc:language>
  <cp:lastModifiedBy>usv</cp:lastModifiedBy>
  <dcterms:modified xsi:type="dcterms:W3CDTF">2010-09-01T07:28:34Z</dcterms:modified>
  <cp:revision>16</cp:revision>
  <dc:subject/>
  <dc:title>         Роль классного руководителя  в психолого-педагогическом сопровождении учащихся старших  классов  </dc:title>
</cp:coreProperties>
</file>