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B3F-E72C-44A2-8393-D721D3F3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9E6-89EF-41B8-9175-E5953E9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28A-85AB-447F-8638-3B1DE98F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954-143F-4BA8-B4C4-16244DD1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FBF0-9F7D-447B-816D-61D095B9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CD6-29CA-456D-8F0B-FBE822C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1D8-3033-4211-BE88-1C190AC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54A9-1312-47EA-8A3F-C711E65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8A8-B323-4CE0-9FD4-585FD5C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4DE3-FE58-47EC-B881-F2FA531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FD0-7988-47DF-A22A-AE09C54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8F8-1EA0-4C5B-B404-42C9279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969-ABB8-491B-979B-B344609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A279-A294-4924-AB68-52984FF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619-A606-4D85-9231-124DC97F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E49-0DB4-4F2D-BF71-EE5DBC0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F2AC-E075-4242-8379-BAF29DC3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CB3-F5A4-42A2-A3FF-8CE1B1E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72A-4948-47D0-9AA5-F0BED738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509-609E-4956-9A31-DE11BED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FBA-AEE4-41B7-BE46-941C5189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C9F-FC8B-4EE9-84EA-ED70A40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6AD-B828-4FD4-BAEE-F4BA78D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D4A-260D-49A3-BD26-1EA0F30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1CF-D3F2-4210-A7F4-E3B3CD43BE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E10-8B84-4E25-B619-35916CEEE2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8;&#1077;&#1084;&#1072;%20&#1051;&#1077;&#1082;&#1089;&#1080;&#1082;&#1072;%2010%20&#1082;&#1083;&#1072;&#1089;&#1089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4;&#1073;&#1103;&#1079;&#1072;&#1090;&#1077;&#1083;&#1100;&#1085;&#1099;&#1077;%20&#1088;&#1077;&#1079;&#1091;&#1083;&#1100;&#1090;&#1072;&#1090;&#1099;%20&#1086;&#1073;&#1091;&#1095;&#1077;&#1085;&#1080;&#1103;%20&#1087;&#1086;%20&#1090;&#1077;&#1084;&#1077;.doc" TargetMode="External"/><Relationship Id="rId2" Type="http://schemas.openxmlformats.org/officeDocument/2006/relationships/hyperlink" Target="file:///&#1059;&#1088;&#1086;&#1082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9;&#1072;&#1084;&#1086;&#1082;&#1086;&#1085;&#1090;&#1088;&#1086;&#1083;&#1103;%20&#1080;%20&#1089;&#1072;&#1084;&#1086;&#1086;&#1094;&#1077;&#1085;&#1082;&#1080;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846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ндивидуальная 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еятельность учащихся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на уроках русского язы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32000" y="2997360"/>
            <a:ext cx="378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У Великосельская средняя общеобразовательная школ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Учитель: Ильичева Е. 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Необходимые условия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разовательный процесс – субъект-субъектное взаимодейств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своение знаний – средство развития способност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вобода выбора цели, содержания, способов уч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– организатор процесса учения, консультант, старший товари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едства учеб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2355840"/>
          <a:ext cx="7777080" cy="40971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нова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ик, дидактические материалы, справочник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грамма действий 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1"/>
                        </a:rPr>
                        <a:t>(технологическая карта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глядные пособ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редства субъективизации, антиципация, самоконтроль и самооцен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ая техни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формационные техноло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Учебные эле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Знакомство с темой (модулем), задачами темы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ОР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становка индивидуальных целей и задач на каждом уро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Входной контроль знаний и умений, необходимых для освоения т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Целевая программа действ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ополнительный материал, альтернативные учебные действия, формы работы и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Рефлексия (оценка достигнутых результатов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ифференцированное домашнее зад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индивидуальной деятельности на уро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еятельность учащихся мотивированная, целенаправленна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оздание ситуации выбо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Это процесс саморазвития, самореализации учен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этапная рефлекс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Активная и эффективная учебно-познавательная деятель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Индивидуализация контроля, самоконтроля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, коррекции, консультирования, степени самосто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Формирование познавательной самостоятельности шк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эффективности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ознанная постановка учебных целей, выбор пути освоения материала, домашнего за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Умение работать с различными источниками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мотивации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родвижение на более высокий уровень обучения (углублённое изуче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воение структуры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уровня успеваем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22760" cy="589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4653000"/>
            <a:ext cx="71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"/>
              </a:rPr>
              <a:t>С началом нового учебного года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5:54Z</dcterms:created>
  <dc:creator>1</dc:creator>
  <dc:description/>
  <dc:language>en-US</dc:language>
  <cp:lastModifiedBy>Елена</cp:lastModifiedBy>
  <dcterms:modified xsi:type="dcterms:W3CDTF">2010-08-24T15:40:29Z</dcterms:modified>
  <cp:revision>24</cp:revision>
  <dc:subject/>
  <dc:title>Средства индивидуальной  деятельности учащихся на различных этапах учебного занятия</dc:title>
</cp:coreProperties>
</file>