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0EC-BD30-4423-9DF5-A347939F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0E7-5608-4F35-95EF-AE53F2D3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7C7-D916-4145-8F5B-1CE08437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2AA-C8F6-4D00-B024-5A3C6149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CFA6-1DAE-41D4-BB2A-83F55D8A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8EBB-72DE-482D-A229-BDB58139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CFE8-CA02-494C-95C6-DA0DCE41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F40A-B9F3-41D5-8DBA-2152545B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ED95-40F0-4979-B179-63BA87A4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8056-E05A-4DC1-B4CF-2242BDA6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3791-76C1-455A-A7CD-02D030B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4BF-BE15-47AD-BB08-6DDBE43A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5AE8-B509-401B-B30C-C0E1A9C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721B-DD60-4B97-8E38-EAD17EEB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BF3A-95AC-4446-9830-BC170819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5033-CBC1-486A-8C7E-3F9DA532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A2B4-DD1D-42E1-97C1-A417F25C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CA3-33B6-4100-AB59-9D71D930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D42-8B0F-4DB1-BEFC-DB3BC3D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7B0-B88C-4E14-9BBA-1E5D6AE7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D79-CCF4-481B-BC1C-27C3B8CF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413-B5B4-4C2E-8296-B0D82191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FA1-0BF9-42A4-9011-D81154B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C59-8A1A-4A71-AAF1-6D47F419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8011-3E93-45E4-B482-8BCAA3B61C8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F5D5-80ED-4954-933B-8F3093FE39F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ПЕДАГОГИЧЕСКИЙ ИНСТРУМЕНТАРИЙ </a:t>
            </a:r>
            <a:br>
              <a:rPr sz="3000"/>
            </a:b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ФОРМИРОВАНИЯ И ДИАГНОСТИКИ ОБЩИХ КОМПЕТЕНЦИЙ: опыт и перспективы работы лицея 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30481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уева Марина Леоно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меститель директора 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ОУ НПО ЯО ПЛ №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.п.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48320" y="563868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ГОУ НПО ЯО профессиональный лицей № 7 20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BF4A7D-9A45-4627-A630-DEF253EFF58E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1066680" y="251460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 = 40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иагностирован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Шкала</a:t>
            </a:r>
            <a:r>
              <a:rPr b="0" lang="ru-RU" sz="2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ангова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4191120" y="3429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0 –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 – скорее нет, чем д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 – не знаю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 – скорее да, чем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 – 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4E9C06-ACD7-4BC8-90EE-61619EC94B83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914400" y="22096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процеду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варительный инструктаж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зависимость экспер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ограниченности по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сперты при повторной диагностике те ж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иодичность – не чаще 1 раза в год, период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66FAED-7163-45C5-8582-C0E999B6EAF8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5"/>
          <p:cNvSpPr/>
          <p:nvPr/>
        </p:nvSpPr>
        <p:spPr>
          <a:xfrm>
            <a:off x="914400" y="2438280"/>
            <a:ext cx="7238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нализ собранных данных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дные таблиц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тистический критерий однород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ный проду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FBFC5E-5A23-4284-BD24-5436207D64C3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838080" y="1665360"/>
          <a:ext cx="7077240" cy="51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65360"/>
                    <a:ext cx="70772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880" y="2590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агностическая карта учащего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90720" y="4343400"/>
            <a:ext cx="7619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у положено соотнесение типа педагогического процесса и образовательного результата (В.В.Юдин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228600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ровни компетентности по В.В.Юдин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аль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ормальное применение известных способов действий: методик, технологий, способов, алгоритмов (иногда по прямому на них указанию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осознанные выбор и  применение  способов действ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ворческая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сознанные выбор, применение и адаптация способов действий в нестандартных ситуац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бъект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йствия основанные на возможности самореал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25909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тализация ОК ФГОС НПО по уровн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гнитивном и поведенческом аспект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ценностно-смысловом, мотивационном и эмоционально-волевом аспекта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7432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леживание эффективности педагогической системы О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нение статистических критериев для сравнения входных, промежуточных и итоговых результатов в формировании 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едагогические средства (педагогический инструментарий) 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овокупность компонентов, позволяющих управлять педагогическим процессом, воздействовать на образовательный результа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ы: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методика, содержание дисциплины, методы, приемы обучения, формы организации познавательной деятельности, средства обучения (в узком смысле), задача, упражнение, пример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76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Основание для выбора инструментария: направленность на активную субъектную деятельность учащихся, комплекс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блемного обучения Е.Л.Мельников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КМЧ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рной работы и работы в малых группа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гров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альная технология В.В.Гузее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При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ты с понятиями, таблицами, задачам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ципы выбора и использования педагогических средст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омпетентностной направл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истем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реализации педагогического инструмента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инцип вариативности и сопряж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693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аблица эффективности выбранных педагогических средст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руирование комплекса педагогических средств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й технологией в основ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заимодействие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зм реализации комплекса педагогических средств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Дополнительный курс «Учись учиться» в 1 семестре в рамках выбранны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Проведение внеаудиторных мероприятий в рамка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Системная реализация технологий в рамках ОД, СД, ПМ, внеаудиторной рабо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КА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рамках ПМ, ЭК, Г(И)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ОД, СД, внеаудиторных мероприят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F372B4-3703-4EC5-B14C-3F0FFF75031E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55"/>
          <p:cNvSpPr/>
          <p:nvPr/>
        </p:nvSpPr>
        <p:spPr>
          <a:xfrm>
            <a:off x="1066680" y="2438280"/>
            <a:ext cx="754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кспертной 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ценка надпрофессиональных компетенц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ятельность учащих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спер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мастера и преподаватели группы (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ев</cp:lastModifiedBy>
  <dcterms:modified xsi:type="dcterms:W3CDTF">2011-11-30T18:34:5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