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083-B169-41B1-B772-2A02A72A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E95-890A-4FFC-9469-F45EB9F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4FB-D801-40F8-9F9C-B456D997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A29-4C77-4F9D-9E63-AD6E03EA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B95D-C3A5-4C35-ADE0-44E69589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C715-11D0-49A4-9D13-507F193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31CE-2A2A-4EA6-A7A9-AAFC933B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143A-00B5-4B21-96A8-DB455189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78D3-16A2-45F7-A02A-2EDF3BB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FCD4-318B-4F5B-8780-B4C24616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7055-08B3-4422-B7D6-9FA2CF4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F1F-8F34-4919-9D8B-CD67421A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E600-67BC-435F-A194-A5DFD073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0D97-CC8C-42EA-A6F4-7ED5749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312B-26B8-4749-B9F2-B670C26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079E-716F-48D2-AAB8-E9B00893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5F01-02B1-4423-83F5-CC93BE4C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35E3-4929-4532-9CDE-7FDE7B1C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0A78-61B8-4281-A25A-45E5EDE9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F249-0145-44A1-8CBD-528C0EF4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1135-81FE-4723-8AFF-8730063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065C-D685-430B-9D4D-E1764B52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D3C-EFAC-499C-8BE8-9733F9ED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1538-D514-4A2E-AE4D-2ADD7D23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CC38-BCBA-4DE2-BB9B-6BA209AE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23C1-7836-481E-A91E-EE0A7DA1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14B7-E5E9-497A-9209-EC7858B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62DD-4CE4-433E-821D-05503A74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F829-599B-4B75-8B2F-700055C3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68FB-1598-4E79-93F1-F2D6F45B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30B8-1497-42B9-ABCC-2A1D7F96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5427-C511-46C9-A0AC-1A69B238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49227-39F1-4E45-86BC-82AEE22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B96-858E-4AB4-8BAB-65B16115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26DA-CB08-4776-AE0E-C9E06E2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EB2F-6AD2-4A6D-9216-AF48A52C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E747-5868-4967-89DA-B193282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E88C-C1E9-4121-9AD5-2977CDD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5CD3-8E0F-418B-AC56-85C54DE1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DEC8-4A06-4FC2-85DD-1B43982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A244-FE9F-411E-845F-A2254B4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EFE32-1FC2-4D76-9053-4BA69E1B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AEB7F-D7B6-4754-A459-E7679B1F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996-6DC4-40E7-834A-B98F0313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5EA-69D1-441B-9FCE-5C1F3380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41C-72EA-49B2-A425-E23F722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05C-8F59-490B-9DF6-4A5F553A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04B-4B04-4875-B6D3-FAD1618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D82-D849-4A67-B47B-C1DE9B4B1E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64B-1C75-403D-9C27-179C378D26C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F5D-4D78-41B5-9D01-AB0286B592F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88B9-565F-4561-B9C6-0B605FF7C50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86;&#1075;&#1088;&#1072;&#1084;&#1084;&#1084;&#1072;%20&#1087;&#1086;%20&#1087;&#1088;&#1072;&#1082;&#1090;&#1080;&#1082;&#1077;%20&#1055;&#1053;&#1050;%20&#1087;&#1086;%20&#1060;&#1043;&#1054;&#1057;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5" descr=""/>
          <p:cNvPicPr/>
          <p:nvPr/>
        </p:nvPicPr>
        <p:blipFill>
          <a:blip r:embed="rId2"/>
          <a:stretch/>
        </p:blipFill>
        <p:spPr>
          <a:xfrm>
            <a:off x="378000" y="1859040"/>
            <a:ext cx="8461080" cy="421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480" y="542880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ласова Светлана Александровн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аведующая профессиональной практикой студент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500040" y="928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ПО ЯО Ростов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Документы, регламентирующие порядок организации и проведения практ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РФ «Об образован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СП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чие учебные план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ожение об учебной и производственной практике студентов (курсантов), осваивающих ОПОП СПО, утвержденное приказом Минобрнауки от 26 ноября 2009г. №673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профессиональной практике студентов по специальностям СПО (Минобразование России, 03.03.2003 г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Виды профессиональной практи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чебная практи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оизводственная практика (практика по профилю специальности и преддипломная практик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Методологические подходы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к организации профессиональной практики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3286080"/>
            <a:ext cx="82296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ультурологически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тностный подх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ринципы организации профессиональной прак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76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ем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ч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ифункциона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гра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бода выбора и ответ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связь теоретического обучения и практ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трудничеств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блемность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Структура рабочей программы практ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АСПОРТ РАБОЧЕЙ ПРОГРАММ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ЕЗУЛЬТАТЫ ПРОХОЖДЕН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ТРУКТУРА И ПРИМЕРНОЕ СОДЕРЖА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СЛОВИЯ РЕАЛИЗАЦИИ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И ОЦЕНКА РЕЗУЛЬТАТОВ ОСВОЕНИЯ ПРАК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КОНТРОЛЬ И ОЦЕНКА РЕЗУЛЬТАТОВ ОСВОЕНИЯ</a:t>
            </a:r>
            <a:br>
              <a:rPr sz="30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 ПРОФЕССИОНАЛЬНОЙ ДЕЯТЕЛЬНОСТИ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2920" y="1714680"/>
          <a:ext cx="8786880" cy="4876560"/>
        </p:xfrm>
        <a:graphic>
          <a:graphicData uri="http://schemas.openxmlformats.org/drawingml/2006/table">
            <a:tbl>
              <a:tblPr/>
              <a:tblGrid>
                <a:gridCol w="612720"/>
                <a:gridCol w="2070000"/>
                <a:gridCol w="2616480"/>
                <a:gridCol w="348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д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Наименование результат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ПК и показатели сформирова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Формы и методы контроля и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пределять цели и задачи, план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Информацион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Проектировоч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проверка конспектов уроков на педагогической практик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защита, подобранных форм и методов обучения младших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роводи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рганизаторск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Коммуника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наблюдение и анализ проведения уроков в ходе педагогическо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нализ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 Анализ и самоанализ деятельно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2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экспертная оценка представленного анали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одсистемы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профессиональной практик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рганиз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тодическое обеспече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териально-техническое обеспечение практи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аз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тчетная документ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работы субъектов и объектов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ловеческий фактор профессиональной прак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Базовый набор контрольно-измерительных параметр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2928960"/>
          <a:ext cx="8229600" cy="3044880"/>
        </p:xfrm>
        <a:graphic>
          <a:graphicData uri="http://schemas.openxmlformats.org/drawingml/2006/table">
            <a:tbl>
              <a:tblPr/>
              <a:tblGrid>
                <a:gridCol w="542880"/>
                <a:gridCol w="6072120"/>
                <a:gridCol w="161460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нтролируемые элемент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Оценка экспер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ендарно-тематический план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екомендации по проведению профессиональной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индивидуальных заданий на практику и т.п..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428760" y="1860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беспечение практик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 № _______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18:29Z</dcterms:created>
  <dc:creator>1</dc:creator>
  <dc:description/>
  <dc:language>en-US</dc:language>
  <cp:lastModifiedBy>ASUS</cp:lastModifiedBy>
  <dcterms:modified xsi:type="dcterms:W3CDTF">2011-12-01T10:20:20Z</dcterms:modified>
  <cp:revision>49</cp:revision>
  <dc:subject/>
  <dc:title>СОВЕРШЕНСТВОВАНИЕ КАЧЕСТВА ПОДГОТОВКИ СПЕЦИАЛИСТОВ  В ПРОЦЕССЕ ОРГАНИЗАЦИИ ПРОФЕССИОНАЛЬНОЙ ПРАКТИКИ</dc:title>
</cp:coreProperties>
</file>