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A66-3C96-45F0-BCC0-879071CD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CCC-B7BD-4655-BFF2-B8DD4040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C025-EE86-434F-AFF1-A3EC049E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96E-B223-4061-880A-1F1D3D29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5505-4284-4351-A14E-AFA3F376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EA92-B262-4811-A6AE-099A1A4A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A036-FBCD-4FC0-BF00-2FF2455A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D33C-4781-4230-9339-4B0D654E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6A53-5FDC-4573-8DDB-713FC503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ACA1-53A2-4451-8811-2374085D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E1F9-AA92-4B5E-A64D-CB84649C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280-A35B-4886-AD5A-EE75D0F6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D503-7834-4144-A361-89365206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8969-0F5B-48D1-ABE6-42B3505F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D557-F386-447C-A542-369E4ABF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1C31-9E8D-4B81-A2BA-8789711C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A758-6108-4B53-8B57-EB042CA7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955-990F-4C6C-9392-3ECDBE6A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DAC-E31A-429D-AD5B-5B67CB9F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A99-2A79-464E-ABCF-28EE45FE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1F4-C66A-42CF-9F0E-E58BC588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98A-7821-433D-81CF-A8095300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4C6-C643-4F81-93B1-C7C4C1B7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96E-CDF8-43EE-9A39-C627B187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4942-BB52-40BD-80A4-68AFEEDB5A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F327-EE58-49E2-9996-84D5DC8631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Scan1.PDF" TargetMode="External"/><Relationship Id="rId3" Type="http://schemas.openxmlformats.org/officeDocument/2006/relationships/image" Target="../media/image4.png"/><Relationship Id="rId4" Type="http://schemas.openxmlformats.org/officeDocument/2006/relationships/hyperlink" Target="file:///&#1055;&#1086;&#1103;&#1089;&#1085;&#1080;&#1090;&#1077;&#1083;&#1100;&#1085;&#1072;&#1103;%20&#1079;&#1072;&#1087;&#1080;&#1089;&#1082;&#1072;%20&#1082;%20&#1054;&#1055;&#1054;&#1055;.doc" TargetMode="External"/><Relationship Id="rId5" Type="http://schemas.openxmlformats.org/officeDocument/2006/relationships/image" Target="../media/image4.png"/><Relationship Id="rId6" Type="http://schemas.openxmlformats.org/officeDocument/2006/relationships/hyperlink" Target="file:///&#1056;&#1059;&#1055;%20&#1052;&#1040;&#1057;&#1058;&#1045;&#1056;%20&#1062;&#1048;%2020.05.2011.xls" TargetMode="External"/><Relationship Id="rId7" Type="http://schemas.openxmlformats.org/officeDocument/2006/relationships/image" Target="../media/image4.png"/><Relationship Id="rId8" Type="http://schemas.openxmlformats.org/officeDocument/2006/relationships/hyperlink" Target="file:///&#1056;&#1077;&#1082;&#1086;&#1084;&#1077;&#1085;&#1076;&#1072;&#1094;&#1080;&#1080;-&#1052;&#1054;&#1053;-2007.doc" TargetMode="External"/><Relationship Id="rId9" Type="http://schemas.openxmlformats.org/officeDocument/2006/relationships/image" Target="../media/image4.png"/><Relationship Id="rId10" Type="http://schemas.openxmlformats.org/officeDocument/2006/relationships/hyperlink" Target="file:///&#1053;&#1086;&#1074;&#1099;&#1077;%20&#1088;&#1077;&#1082;&#1086;&#1084;&#1077;&#1085;&#1076;&#1072;&#1094;&#1080;&#1080;%20&#1060;&#1048;&#1056;&#1054;%20&#1087;&#1086;%20&#1054;&#1044;.doc" TargetMode="External"/><Relationship Id="rId11" Type="http://schemas.openxmlformats.org/officeDocument/2006/relationships/image" Target="../media/image4.png"/><Relationship Id="rId12" Type="http://schemas.openxmlformats.org/officeDocument/2006/relationships/hyperlink" Target="file:///&#1056;&#1072;&#1089;&#1095;&#1077;&#1090;%20&#1095;&#1072;&#1089;&#1086;&#1074;.xls" TargetMode="External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hyperlink" Target="file:///&#1041;&#1102;&#1076;&#1078;&#1077;&#1090;%20&#1074;&#1088;&#1077;&#1084;&#1077;&#1085;&#1080;.doc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055;&#1077;&#1088;&#1077;&#1095;&#1077;&#1085;&#1100;%20&#1082;&#1072;&#1073;&#1080;&#1085;&#1077;&#1090;&#1086;&#1074;.doc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8;&#1086;&#1075;&#1088;&#1072;&#1084;&#1084;&#1072;%20%20&#1054;&#1089;&#1085;&#1086;&#1074;&#1099;%20&#1080;&#1085;&#1092;&#1086;&#1088;&#1084;&#1072;&#1094;&#1080;&#1086;&#1085;&#1085;&#1099;&#1093;%20&#1090;&#1077;&#1093;&#1085;&#1086;&#1083;&#1086;&#1075;&#1080;&#1081;.doc" TargetMode="External"/><Relationship Id="rId3" Type="http://schemas.openxmlformats.org/officeDocument/2006/relationships/image" Target="../media/image1.png"/><Relationship Id="rId4" Type="http://schemas.openxmlformats.org/officeDocument/2006/relationships/hyperlink" Target="file:///&#1055;&#1086;&#1091;&#1088;&#1086;&#1095;&#1085;&#1086;&#1077;%20&#1087;&#1083;&#1072;&#1085;&#1080;&#1088;&#1086;&#1074;&#1072;&#1085;&#1080;&#1077;%20&#1087;&#1086;%20&#1054;&#1048;&#1058;.doc" TargetMode="External"/><Relationship Id="rId5" Type="http://schemas.openxmlformats.org/officeDocument/2006/relationships/image" Target="../media/image1.png"/><Relationship Id="rId6" Type="http://schemas.openxmlformats.org/officeDocument/2006/relationships/hyperlink" Target="file:///&#1055;&#1088;&#1086;&#1075;&#1088;&#1072;&#1084;&#1084;&#1072;%20&#1055;&#1052;1%20&#1042;&#1074;&#1086;&#1076;%20&#1080;%20&#1086;&#1073;&#1088;&#1072;&#1073;&#1086;&#1090;&#1082;&#1072;%20&#1062;&#1048;.doc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тодическое обеспечение ОПОП в соответствии с требованиями ФГОС НП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848360" cy="16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С.Новиков - заместитель директора по УП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У НПО ЯО ПЛ №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Ярослав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ОП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Титульный лист ОП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Пояснительная записка к ОП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Учебный п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8"/>
              </a:rPr>
              <a:t>(рекомендации МОН от 29.05.2007г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0"/>
              </a:rPr>
              <a:t>(рекомендации ФИРО№ 1 от 03 февраля 2011 г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2"/>
              </a:rPr>
              <a:t>(профили НП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учебного проце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5"/>
              </a:rPr>
              <a:t>Сводные данные по бюджету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7"/>
              </a:rPr>
              <a:t>Перечень кабинетов, мастерских и пр. поме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ОП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Программы учебных дисциплин (ОД, ОП, ФК, БЖ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(в том числе поурочное планир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Программы профессиональных моду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в том числе поурочное планир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дура и содержание И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ическое сопровождение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 по ОД и О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 по модул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ая работа обучаю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ормативно-правовое и учебно-методическое обеспечение образовательного процесса в условиях введения нового ФГОС НПО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8:56:14Z</dcterms:created>
  <dc:creator>Admin</dc:creator>
  <dc:description/>
  <dc:language>en-US</dc:language>
  <cp:lastModifiedBy>Admin</cp:lastModifiedBy>
  <dcterms:modified xsi:type="dcterms:W3CDTF">2011-11-30T12:15:24Z</dcterms:modified>
  <cp:revision>9</cp:revision>
  <dc:subject/>
  <dc:title>Учебно-методическое обеспечение ОПОП в соответствии с требованиями ФГОС НПО</dc:title>
</cp:coreProperties>
</file>