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C50D-9E13-4D5C-AE71-66E80E30D2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0880-568A-43F9-B4D7-3A2B63CAED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EF57-96A9-4275-9723-E01974C0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A236-4265-4ED2-8289-1083D540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933B-08A7-43AE-9659-A36F0D28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D3DC-5CF5-4156-A98F-25EB3228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587B-8A7E-4ECA-B37C-34E2A58E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57A2-069A-4DC0-B104-C5C904E0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CD64-A5E9-442F-AC25-3BEF30C4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0209-F755-4DB3-B7EF-D3020F41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A069-1C62-4BFF-B0EC-136C7E66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8CA0-E264-4515-BE64-BDF51D82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7399-5CFE-4EA0-9887-DE4BB7A8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5BFF-8981-4949-A7B3-5B946618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C36D-0ECD-4D05-9F42-0B129FB0C3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Организация самостоятельной работы студен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Докладчик: методист ЯРТК Балабанова И.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роцесс организации самостоятельной работы студентов включает в себя следующие этапы: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пределение целей, составление программы, подготовка методического обеспечения, оборудования)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реализация программы, использование приемов поиска информации, усвоения, переработки, применения, передачи знаний, фиксирование результатов, самоорганизация процесса работы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ы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ценка значимости и анализ результатов, их систематизация, оценка эффективности программы самостоятельной работы и приемов работы, выводы о направлениях оптимизации труда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Виды заданий для внеаудиторной самостоятельной работы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овладения знани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закрепления и систематизации знаний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формирования умений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трелка вниз 3"/>
          <p:cNvSpPr/>
          <p:nvPr/>
        </p:nvSpPr>
        <p:spPr>
          <a:xfrm rot="5103000">
            <a:off x="7740000" y="4939920"/>
            <a:ext cx="576360" cy="531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нформационный ресур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повые положения об учреждениях СПО и НП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ндарты по профессиям  и специальност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омендации по формированию учебного плана и разработке рабочих программ учебных дисциплин и моду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утренние локальные ак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повые программы учебных дисциплин и профессиональных моду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Обучение коллекти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инструктивно-методических совещ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учение коллекти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ивидуальные консультации педаго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я мероприятий по обмену опы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рамма учебной дисципл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лендарно-тематический 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Реализация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методических пособ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комендации по курсовому проектирован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комендации по написанию рефера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комендации по организации проект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учебных пособ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чие тетра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плекты заданий для внеаудиторной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дактические материа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дактические материа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чая тетрадь  по товароведению непродовольственных това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чая тетрадь по учету и отчет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чая тетрадь  по технологии розничной торгов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одические пособия по организации самостоятельн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Нормативная ба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1128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ТВЕРЖДЕНО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остановлением Правительств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4360" y="1341360"/>
          <a:ext cx="7777080" cy="4680000"/>
        </p:xfrm>
        <a:graphic>
          <a:graphicData uri="http://schemas.openxmlformats.org/drawingml/2006/table">
            <a:tbl>
              <a:tblPr/>
              <a:tblGrid>
                <a:gridCol w="3889080"/>
                <a:gridCol w="3888000"/>
              </a:tblGrid>
              <a:tr h="1825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авительство Российской Фед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становлени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от 18 июля 2008 г. N 543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АВИТЕЛЬСТВО РОССИЙСКОЙ ФЕДЕРА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СТАНОВЛ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14 июля 2008 г. N 52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54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ОВОЕ ПОЛОЖЕНИЕ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б образовательном учреждении среднего профессионального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бразования (среднем специальном учебном заведен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ОВОГО ПОЛОЖ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 ОБРАЗОВАТЕЛЬНОМ УЧРЕЖДЕНИИ НАЧАЛЬНО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ЕССИОН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68360" y="1412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ыдержки из положения</a:t>
            </a:r>
            <a:br>
              <a:rPr sz="4400"/>
            </a:b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(образовательная деятельность образовательных учреждений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24000" y="1397160"/>
          <a:ext cx="8424720" cy="512604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овое положение С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овое положение Н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54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ее специальное учебное заведение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жегодно обновляет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е программы (в части состава дисциплин (модулей), установленных средним специальным учебным заведением в учебном плане, и (или) содержания рабочих программ учебных дисциплин (модулей), программ учебной и производственной практики, а также методических материалов, обеспечивающих реализацию соответствующих образовательных технологий)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 учетом развития науки, техники, культуры, экономики, технологий и социальной сф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е программы начального профессионального образования включают в себя учебный план, рабочие программы учебных курсов, предметов, дисциплин (модулей), программы учебной практики (производственного обучения) и производственной практики, календарный учебный график и другие методические материалы, которые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жегодно обновляютс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бразовательным учреждением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 учетом развития науки, техники, культуры, экономики, технологий и социальной сфер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ыдержки из полож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50920" y="1052640"/>
          <a:ext cx="8712000" cy="5673600"/>
        </p:xfrm>
        <a:graphic>
          <a:graphicData uri="http://schemas.openxmlformats.org/drawingml/2006/table">
            <a:tbl>
              <a:tblPr/>
              <a:tblGrid>
                <a:gridCol w="4356000"/>
                <a:gridCol w="435600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овое положение С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иповое положение Н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0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аксимальный объем учебной нагрузк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тудента составляет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4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адемических часа в неделю, включая все виды аудиторной и внеаудиторной учебной нагруз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 В средних специальных учебных заведениях устанавливаются основные виды учебных занятий, такие, как урок, лекция, семинар, практическое занятие, лабораторное занятие, контрольная работа, консультация,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амостоятельная работ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учебная и производственная практики, выполнение курсовой работы (курсовое проектирование),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едельная нагрузка студентов обязательными учебными занятиям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дагогического работника с обучающимися не должна превышать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6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адемических ча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 В образовательном учреждении устанавливаются такие виды учебных занятий, как урок, практическое занятие, лабораторное занятие, контрольная работа, консультация,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амостоятельная работ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учебная практика (производственное обучение) и производственная практика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 также могут проводиться другие виды учебных заняти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м учебно-производственной нагрузки не должен превышать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6 академических часов в неделю и 6 академических часов в день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РЕКОМЕНДАЦИИ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        ПО ПЛАНИРОВАНИЮ И ОРГАНИЗАЦИИ САМОСТОЯТЕЛЬНОЙ РАБОТЫ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           СТУДЕНТОВ ОБРАЗОВАТЕЛЬНЫХ УЧРЕЖДЕНИЙ СРЕДНЕГО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     ПРОФЕССИОНАЛЬНОГО ОБРАЗОВАНИЯ В УСЛОВИЯХ ДЕЙСТВ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С СП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ложение к письму Минобразования России  от 29 декабря 2000 года                                                   N 16-52-138ин/16-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Локальные акты регламентирующие вопросы организации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11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ожение об организации самостоятельной работы студентов коллед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ожение о календарно-тематическом планирова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Стрелка вправо 3"/>
          <p:cNvSpPr/>
          <p:nvPr/>
        </p:nvSpPr>
        <p:spPr>
          <a:xfrm>
            <a:off x="7164360" y="5732640"/>
            <a:ext cx="720720" cy="28872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Самостоятельная  работа  студентов проводится с целью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2679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ации  и закрепления полученных теоретических знаний и практических умений студент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убления и расширения теоретических зна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  умений   использовать   нормативную,   правовую, справочную документацию и специальную литератур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познавательных способностей  и  активности  студентов: творческой    инициативы,    самостоятельности,    ответственности   и организован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  самостоятельности   мышления,   способностей   к саморазвитию, самосовершенствованию и самореализ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исследовательских ум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иды самостоятельной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диторн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мостоятельная работа по дисциплине  выполняется на  учебных занятиях под непосредственным руководством преподавателя и по его зада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аудиторн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амостоятельная  работа выполняется студентом по заданию преподавателя, но без его непосредственного участ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Методика организации самостоятельной работы студентов зависи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 структуры, характера и особенностей изучаемой дисциплин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ма часов на ее изучени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а заданий для самостоятельной работы студентов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ивидуальных качеств студ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8:52:11Z</dcterms:created>
  <dc:creator>User</dc:creator>
  <dc:description/>
  <dc:language>en-US</dc:language>
  <cp:lastModifiedBy>User</cp:lastModifiedBy>
  <cp:lastPrinted>2011-10-13T09:58:21Z</cp:lastPrinted>
  <dcterms:modified xsi:type="dcterms:W3CDTF">2011-12-01T09:57:59Z</dcterms:modified>
  <cp:revision>26</cp:revision>
  <dc:subject/>
  <dc:title>Презентация PowerPoint</dc:title>
</cp:coreProperties>
</file>