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032-D261-4697-B422-599CFBC5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39E0-1DF0-4B6F-80C7-DC81EE06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1A45-B055-4B71-A027-7A05DE94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7D07-1C33-4F8E-A171-FA29B1D5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27E5-38CC-4DDC-88B8-1E35C531E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AE3-39FE-4EC8-A81C-58143D84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743-1B78-458D-9440-4903E0ED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3D1D-DD33-4DF1-AAFB-273C1E1E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624-7239-42D6-9FAE-DD5F8EE0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614A-E24D-4487-AB4A-163B6AF1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AE4-6EF4-4827-991C-304A855C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BE4E-4C7E-41C8-81D2-31C3402A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705A-F5FB-4ADE-8F0E-3164D0E5FFAA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2;&#1080;&#1096;&#1072;%20&#1044;&#1077;&#1084;&#1077;&#1085;&#1090;&#1100;&#1077;&#1074;.%20&#1052;&#1072;&#1075;&#1085;&#1080;&#1090;.ppt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Рисунок 11" descr="head2.jpg"/>
          <p:cNvPicPr/>
          <p:nvPr/>
        </p:nvPicPr>
        <p:blipFill>
          <a:blip r:embed="rId1"/>
          <a:stretch/>
        </p:blipFill>
        <p:spPr>
          <a:xfrm>
            <a:off x="900000" y="115920"/>
            <a:ext cx="7396200" cy="1512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https://encrypted-tbn0.gstatic.com/images?q=tbn:ANd9GcSmSr161omg6cpR-OSCcSpeThsRGO_6AJdxca9DJ2-DO_P-J8yM"/>
          <p:cNvPicPr/>
          <p:nvPr/>
        </p:nvPicPr>
        <p:blipFill>
          <a:blip r:embed="rId2"/>
          <a:stretch/>
        </p:blipFill>
        <p:spPr>
          <a:xfrm>
            <a:off x="2916360" y="1916280"/>
            <a:ext cx="2681280" cy="42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Bookman Old Style"/>
              </a:rPr>
              <a:t>Изготовление игрушки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Bookman Old Style"/>
              </a:rPr>
              <a:t>«Рыболов»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Bookman Old Style"/>
              </a:rPr>
              <a:t>для малыш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6" descr="http://bewitchit.com/wp-content/uploads/2012/10/magiya-magnit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877000"/>
            <a:ext cx="532080" cy="452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l136.ru/sites/default/files/79908.jpg"/>
          <p:cNvPicPr/>
          <p:nvPr/>
        </p:nvPicPr>
        <p:blipFill>
          <a:blip r:embed="rId3"/>
          <a:stretch/>
        </p:blipFill>
        <p:spPr>
          <a:xfrm>
            <a:off x="4067280" y="3213000"/>
            <a:ext cx="4707000" cy="347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660680" y="722160"/>
            <a:ext cx="5143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374840" y="1125360"/>
            <a:ext cx="647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7030a0"/>
                </a:solidFill>
                <a:latin typeface="Bookman Old Style"/>
              </a:rPr>
              <a:t>Спасибо 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7030a0"/>
                </a:solidFill>
                <a:latin typeface="Bookman Old Style"/>
              </a:rPr>
              <a:t>за работу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6:53:28Z</dcterms:created>
  <dc:creator>Галина</dc:creator>
  <dc:description/>
  <dc:language>en-US</dc:language>
  <cp:lastModifiedBy>Grand</cp:lastModifiedBy>
  <dcterms:modified xsi:type="dcterms:W3CDTF">2013-10-27T19:29:53Z</dcterms:modified>
  <cp:revision>35</cp:revision>
  <dc:subject/>
  <dc:title>Как люди узнали о магните</dc:title>
</cp:coreProperties>
</file>