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2A7-C90A-406F-B824-5C85F3605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EC9C-BADF-477F-9B25-85CD6224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F7B-D695-4D11-9394-A1E2128C2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68F-E47D-4949-A1D3-B1804089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D0E0-8D5D-48B8-9E0C-826A86F5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18FA-F51D-4A75-9306-7E224C60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3875F-B3F1-4675-9A0B-56CCAF8E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4334-F2EC-4EDD-9837-63954C8B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7E2D-DC0B-4AB9-B956-3ED6B0ED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F75C-2CDF-46F5-AC76-6AFBD0BC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E0F84-4355-4573-9154-A4F16A9E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75E4-75DF-4430-8692-449797A9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FAAD-CAA2-47A8-AF08-429FA940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42A1-1031-43AE-9A20-BF4E820E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87CB-7AAA-40FF-A38F-91ED60BC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A535-D6F0-42B8-B87D-8E407824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F304-6B55-4EFB-8FA2-D491E36C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5B43-DAC4-4F97-B239-C8643D7A0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AE31-F27F-43E5-A1CC-CBBDB0D0A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F1E-5F84-42A8-B6AB-A568FF0C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B11-62D5-4A23-9646-502CF9B6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578-1673-4DD8-9AB6-AE05100A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BC4B-FC33-49A7-8066-573ED32E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EF92-EC9A-4E30-83D8-AAFF1AD5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8359-4BA9-4BD7-98AD-97D74411F3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73A6-C602-4967-9838-5AC73BF5BB8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1628280"/>
            <a:ext cx="705672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Как люди узнали о магните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4149720"/>
            <a:ext cx="5472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Дементьев Михаил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4В класс СОШ №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г. Гаврилов Я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87280" y="692280"/>
            <a:ext cx="7632720" cy="10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36" descr=""/>
          <p:cNvPicPr/>
          <p:nvPr/>
        </p:nvPicPr>
        <p:blipFill>
          <a:blip r:embed="rId1"/>
          <a:stretch/>
        </p:blipFill>
        <p:spPr>
          <a:xfrm>
            <a:off x="2556000" y="1125360"/>
            <a:ext cx="4786200" cy="5116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7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1870200" cy="13258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8" descr=""/>
          <p:cNvPicPr/>
          <p:nvPr/>
        </p:nvPicPr>
        <p:blipFill>
          <a:blip r:embed="rId3"/>
          <a:stretch/>
        </p:blipFill>
        <p:spPr>
          <a:xfrm>
            <a:off x="611280" y="3789360"/>
            <a:ext cx="1869840" cy="1325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9" descr=""/>
          <p:cNvPicPr/>
          <p:nvPr/>
        </p:nvPicPr>
        <p:blipFill>
          <a:blip r:embed="rId4"/>
          <a:stretch/>
        </p:blipFill>
        <p:spPr>
          <a:xfrm>
            <a:off x="6372360" y="4221000"/>
            <a:ext cx="1869840" cy="1325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0" descr=""/>
          <p:cNvPicPr/>
          <p:nvPr/>
        </p:nvPicPr>
        <p:blipFill>
          <a:blip r:embed="rId5"/>
          <a:stretch/>
        </p:blipFill>
        <p:spPr>
          <a:xfrm>
            <a:off x="1403280" y="2421000"/>
            <a:ext cx="1870200" cy="1325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1" descr=""/>
          <p:cNvPicPr/>
          <p:nvPr/>
        </p:nvPicPr>
        <p:blipFill>
          <a:blip r:embed="rId6"/>
          <a:stretch/>
        </p:blipFill>
        <p:spPr>
          <a:xfrm>
            <a:off x="6443640" y="2852640"/>
            <a:ext cx="1870200" cy="1325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2" descr=""/>
          <p:cNvPicPr/>
          <p:nvPr/>
        </p:nvPicPr>
        <p:blipFill>
          <a:blip r:embed="rId7"/>
          <a:stretch/>
        </p:blipFill>
        <p:spPr>
          <a:xfrm>
            <a:off x="2340000" y="620640"/>
            <a:ext cx="1870200" cy="1325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9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6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620640"/>
            <a:ext cx="7489800" cy="102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4859640" cy="5710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2000" y="313920"/>
            <a:ext cx="7488000" cy="13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0560" y="105228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848720" cy="4471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1332000" y="404640"/>
            <a:ext cx="7408800" cy="5634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3"/>
          <p:cNvSpPr txBox="1"/>
          <p:nvPr/>
        </p:nvSpPr>
        <p:spPr>
          <a:xfrm>
            <a:off x="611280" y="3141720"/>
            <a:ext cx="480204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6666"/>
                    </a:gs>
                    <a:gs pos="100000">
                      <a:srgbClr val="006666"/>
                    </a:gs>
                  </a:gsLst>
                  <a:lin ang="0"/>
                </a:gradFill>
                <a:effectLst>
                  <a:outerShdw dist="107932" dir="2700000" blurRad="0" rotWithShape="0">
                    <a:srgbClr val="b2b2b2">
                      <a:alpha val="50000"/>
                    </a:srgbClr>
                  </a:outerShdw>
                </a:effectLst>
                <a:latin typeface="Verdana"/>
              </a:rPr>
              <a:t>Спасибо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6666"/>
                  </a:gs>
                  <a:gs pos="100000">
                    <a:srgbClr val="006666"/>
                  </a:gs>
                </a:gsLst>
                <a:lin ang="0"/>
              </a:gradFill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6:53:28Z</dcterms:created>
  <dc:creator>Галина</dc:creator>
  <dc:description/>
  <dc:language>en-US</dc:language>
  <cp:lastModifiedBy>Grand</cp:lastModifiedBy>
  <dcterms:modified xsi:type="dcterms:W3CDTF">2013-10-27T14:32:07Z</dcterms:modified>
  <cp:revision>5</cp:revision>
  <dc:subject/>
  <dc:title>Как люди узнали о магните</dc:title>
</cp:coreProperties>
</file>