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EFF-9F5E-410C-9D50-C9C78452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C3D-CCF2-41C7-A169-774A996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438-69C6-4CDB-AB0B-68113C1D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636-1953-4BE0-A8A7-F0568BEA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BE8-DF3B-4205-A9ED-BE03FB42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F62-6014-4204-9156-E10462E2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FEC-8D1A-4378-A6D0-1395F459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E6F-1AE1-4E87-B80E-5B1AC963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D9E-2994-4100-8E05-3A9CA0E9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351-3D08-4D3D-8253-9E482DD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BC5-1407-4B1E-8774-5282E30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729-E266-42C8-B4A7-7BE94778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5854-2594-45EF-9627-F1DDA0B5F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М.В. Ломоносов – великий учёный и челове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84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чальная шко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X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ДАЧИ НА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метны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здают словесный портрет М.В. Ломоносова как человека и учё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этапы жизни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открытия, сделанные учёным в разных областях н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етапредметны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ходят необходимую информацию в различных информационных источника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онтролируют собственные действия в соответствии с алгоритмом построения тек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ценивают себя и своих одноклассников по заданным критерия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ысказывают собственные суждения и обосновывают 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работают в группе, выполняя порученную рол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чност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наличие потребности к саморазвитию  на примере жизни великого учёного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навыка составления словесного портрета посредством поиска информации в различных источ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285920" y="1428840"/>
            <a:ext cx="614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авная идея реализации содерж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ем основан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ана на интересе детей, вызванном просмотром фил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со-бытий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Составляем словесный портрет  М.В. Ломонос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836640"/>
          <a:ext cx="8856720" cy="7670880"/>
        </p:xfrm>
        <a:graphic>
          <a:graphicData uri="http://schemas.openxmlformats.org/drawingml/2006/table">
            <a:tbl>
              <a:tblPr/>
              <a:tblGrid>
                <a:gridCol w="1727280"/>
                <a:gridCol w="5113080"/>
                <a:gridCol w="2016360"/>
              </a:tblGrid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ид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 фрагмента документального фильма о М.В. Ломонос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герое  филь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кументальный фильм «М.В. Ломоносов. Путь в нау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ормирование образа желаем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а уточняющего вопроса «Как можно представить полученные знания, что может быть продуктом нашей деятельности в конце урока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суждение в полилоге  образа желаемого результ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том, где могут пригодиться полученные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тивная  бес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местное  составление плана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полнение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в группах с разными источниками информации. Составляют рассказ по предложенному пла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ик, энциклопедии, научно-познавательная 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из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ооценка и взаимооценка выполненной работы группы по совместно выработанным критери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со-бытийност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 методы организации учебной деятельности соответствуют требованиям деятельностного подх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методы соответствуют  со-бытийному подход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грамотность проекта со-бытия: проект разработан в соответствии с основными этапами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проекта со-бытия: при реализации  со-бытия был создан продукт совместной деятельности «Словесный портрет М.В. Ломонос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выводы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а чётко организована деятельность   детей по созданию совместного продукт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щиеся сумели сформулировать цель собственной  деятельности, наметили пути её достиже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мели распределить роли при работе в группах, оценить результаты  деятельности  группы и презентовать полученный продук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нее проработан оказался этап планирования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6:26:22Z</dcterms:created>
  <dc:creator>Ольга Вячеславовна Тихомирова</dc:creator>
  <dc:description/>
  <dc:language>en-US</dc:language>
  <cp:lastModifiedBy>Windows User</cp:lastModifiedBy>
  <dcterms:modified xsi:type="dcterms:W3CDTF">2016-03-28T17:01:38Z</dcterms:modified>
  <cp:revision>26</cp:revision>
  <dc:subject/>
  <dc:title>«Играем сказку»</dc:title>
</cp:coreProperties>
</file>