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0E9-9C30-4D0E-91A3-DE6A5975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C5D-1088-406A-B408-F8C801A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71C-68B3-47CA-82F1-D3B0420C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DB4-958D-413F-ACA7-5B8D1B39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639-4E99-43CD-9456-D1E33359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2396-7348-4A46-85E5-A088FD5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A8F9-031E-4F60-BAEE-98D36DD7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DE6-82A2-418E-9206-781CDF7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C097-A241-46AB-8332-DD28DDC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498E-CBCE-4749-A0C5-250CA474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0D10-A0C4-4846-B94A-D294319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4FB-119A-4C7F-8C3B-21A3BF26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025-EACD-4D43-BA7E-6C44ED1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25AA-53D4-4778-98A7-B997D2C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C68A-1FDD-4A3B-BAAE-72C84119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9498-5E74-40C4-B211-C76A0E80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E77-7F5F-49F8-934C-A62D4252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5FED-2D4B-4DF2-AFE9-0292C79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9933-ECEE-4B82-9B57-BEF33FFC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6B65-47D3-4F1A-ACB8-7E04066B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55B1-2950-4143-B9A5-92B2B02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573F-683B-4B4A-BC88-32C6ED5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AA4-1F34-4014-AFCA-DD8BC3C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5733-E569-451F-AC50-DF8C069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D199-4D5F-4D79-BA03-812F522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8891-E423-4073-8448-1EDB97B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96B3-14E7-497E-A518-FA1D4E9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3C6F-ABA1-4A26-8461-9F0ECF9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1303-8F7C-44D7-A181-3ABF1C30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1BA4-271E-4D9A-A19C-C9D2A6C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D75A-3119-433E-B059-4907B4F8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692A-6FCD-4B82-8F3C-03ADB8C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2C23-2189-4A79-98B7-11AD5E3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AF0-A3BB-411A-BED3-D6FE6E5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7B74-88B0-4563-8837-DEAAC41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BCB9-5D66-4C84-A5A5-F7B6C7D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F2FB-0370-41D1-925E-8F13B35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19F0-95B2-43D3-B3BF-59CF8DD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F235-E320-4FCA-8D3E-9EFEA00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F934-935D-447F-A7D5-869C050D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0A8A-B60C-4611-A6F8-251B9C5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8F51-7B34-4F97-9681-1830DEF6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6027-5968-4A54-B10D-4E07B1D5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7AE4-45A7-49E0-B7F8-DBB4FBD2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ED0-C540-4AB1-99F8-84BAC054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BD9C-5080-41A1-90B3-0B0967B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6B1F-DAB6-4B6E-95E7-E5E491F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43E1-CA70-45FD-8923-7A508E5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7694-3E59-4F1D-A22B-7D970FE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AF44-1B3F-4D6D-80B6-F8C02D7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6CA5-7FC6-4BDE-86A1-7677C93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635A-E048-482E-B3A8-099F32B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34D7-06D3-45A9-A6B1-C5D5661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D584-1274-4AAD-ABE6-72F3A391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7A66-F0FB-4D2F-B0DF-77CBC0C1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585-E6C0-43E5-82A2-42E5B06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F0E5-F528-4B76-A763-6DDFB3EA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DF3F-2224-44E1-9A61-5D330383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D2C0-4C62-47C6-AF99-9FAADD72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F45D-179F-45A2-9341-A10228E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6F52B-F9ED-49CE-A707-CC3D0BA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61EF-A2A8-46E9-88EB-363BC24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E1B30-8545-4ACA-9FB9-DA3657C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4A49-C7EC-4F05-8845-DAA1ECD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8B38-5746-4254-A2B0-666CD5B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5DDC-70F5-4996-A998-C09D372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CF4-6064-43A3-A7C7-D6F1269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0DAF-2042-4FAD-9C30-4BF7965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448A-F05D-4904-BF20-BD90B702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DBD3-7C4A-4D27-B6A7-F6907B06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8581-5A78-4CF2-9229-CB187C3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331A-1E10-4219-9401-40D99A29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9213-49B3-4911-BBDE-1E8C94D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EF82-4005-4433-AA35-28963AE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2AFCA-4FED-4860-A4BB-F307BCB2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F5DF-156C-4357-B657-BA231740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EE99-670F-40C7-B544-8089B85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02F-1E79-4A4A-8391-2F8737A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0D4F4-7411-4AD1-9A57-AA81DF8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A89AA-E516-4424-BB37-9006B33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8088-A9EA-401C-A656-12244ED3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5BB0-E647-491A-9F77-9F703352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F0AB-AA4E-4792-827F-B6B06826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1F3-5AF9-4565-B757-510786A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7E7-36E6-4723-969C-6369DCE1980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F40-4E97-45FC-BA6B-104AAF5392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D14F-9A48-4F77-87B3-C8FD8263CAD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81C-9326-472B-931C-5366849064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1A8-AC8E-4E04-A09D-6F5C024A935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0C0-4AF5-4A3D-A209-C3DCF128B4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6821-E3F7-4B27-A93E-22238F34C847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0ABA-F314-4E14-8323-0A7D543D71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892-9280-4125-81FE-1A1F4F092B2F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A21-B0F8-411F-95A0-9645820DA5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6B9-5E82-44D7-B094-95C3C1A0D0B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20AF-47B1-43AE-87CF-7FECF0ADAB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115-E278-479B-9030-06B56E956442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565-E914-4057-9F1C-4AA3B6BB6F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54;&#1044;&#1045;&#1051;&#1068;.docx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16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ыт развития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 в Угличском муниципальном районе Ярославской област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809880" y="4266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ронина Татьяна Михайл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директор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агрова Наталия Владимир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заместитель директора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981080" y="228600"/>
            <a:ext cx="61722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23E-52B4-47A2-B557-8CADC75F8B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8960" y="21337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: Воронина Татьяна Михайл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: Багрова Наталия Владимир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, факс: 8(48532)2-02-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-ugl.edu.yar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26C9-8DC7-4579-857D-328337609B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истории: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15 год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828440"/>
            <a:ext cx="749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ЯО «Угличский детский дом» – региональная инновационная площадка проек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служб медиации в образовательных организациях Ярославской области»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департамента образования Ярославской области № 217/01-03 от 12.03.2015г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B4E-56ED-4801-B640-6054B4C604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ая служба примирения Угличского МР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3880" y="2514600"/>
            <a:ext cx="71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ициирование создания и содействие в деятельности Служб примирения в Угличском муниципальном районе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438280" y="228600"/>
            <a:ext cx="54864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F8A-A8EC-4031-9A90-4AAE868A20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ь Территориальной службы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Содержимое 5" descr=""/>
          <p:cNvPicPr/>
          <p:nvPr/>
        </p:nvPicPr>
        <p:blipFill>
          <a:blip r:embed="rId1"/>
          <a:srcRect l="37663" t="43815" r="36530" b="22674"/>
          <a:stretch/>
        </p:blipFill>
        <p:spPr>
          <a:xfrm>
            <a:off x="2743200" y="25909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2743200" y="2590920"/>
            <a:ext cx="4876920" cy="2895480"/>
          </a:xfrm>
          <a:prstGeom prst="rect">
            <a:avLst/>
          </a:prstGeom>
          <a:noFill/>
          <a:ln w="2844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трелка вправо 7"/>
          <p:cNvSpPr/>
          <p:nvPr/>
        </p:nvSpPr>
        <p:spPr>
          <a:xfrm>
            <a:off x="7010280" y="6095880"/>
            <a:ext cx="1828800" cy="533520"/>
          </a:xfrm>
          <a:prstGeom prst="rightArrow">
            <a:avLst>
              <a:gd name="adj1" fmla="val 50000"/>
              <a:gd name="adj2" fmla="val 49989"/>
            </a:avLst>
          </a:pr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Моде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2400-091D-4494-A86D-AB994333B9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ханизм реализации модели 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2361960"/>
            <a:ext cx="786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ая группа при ТКДНиЗП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становительная работа со случаями, информация о которых поступает в комисси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тнерстве с представителями субъектов профилактик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урегулировании конфликтов в образовательных учреждениях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4DF-9BC6-476F-A18B-F55FFA2D1A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5920" y="1371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а примирения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71600" y="3200040"/>
            <a:ext cx="7562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конфликтных ситуаций, возникающих между субъектами воспитательного процесса в Угличском детском дом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EB84-52C1-4659-9A40-4E6D80F26B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ы примирения в О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520" y="1828440"/>
            <a:ext cx="741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, возникающих в образовательных отношениях учреждений Угличского муниципального района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 Служб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восстановительных програм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школьным сообщество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ддерживающей среды для участников службы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9398-69CD-49BE-81A1-4914EA0F53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нтерские группы медиаторов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95280" y="2514600"/>
            <a:ext cx="763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 между субъектами образовательных и воспитательных отношений на территории Угличского муниципального рай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волонтерских групп входят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ГОУ СПО ЯО Угличского индустриально-педагогического колледж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из числа заинтересованной общественнос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F57-1FD1-4DBF-AF4E-DE704169D6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тоги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143000" y="2370240"/>
          <a:ext cx="7772400" cy="4487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ое подразделение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ая группа при ТКДНиЗ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сстановительных программ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а примирения ГУ ЯО «Угличский детский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осстановительные программы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ая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рганизационных совеща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бучающих семинар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развития Территориальной службы примирения на разных уровня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на сайт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4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3005-EBC8-4AAB-A65D-38128E0EAE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11:29:28Z</dcterms:created>
  <dc:creator>User</dc:creator>
  <dc:description/>
  <dc:language>en-US</dc:language>
  <cp:lastModifiedBy>Ольга Владимировна Чиркун</cp:lastModifiedBy>
  <dcterms:modified xsi:type="dcterms:W3CDTF">2016-11-09T10:26:26Z</dcterms:modified>
  <cp:revision>93</cp:revision>
  <dc:subject/>
  <dc:title>Опыт развития  Территориальной службы примирения в Угличском муниципальном районе Ярославской области</dc:title>
</cp:coreProperties>
</file>